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7.png" ContentType="image/pn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comments/comment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shansel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<Relationship Id="rId43" Type="http://schemas.openxmlformats.org/officeDocument/2006/relationships/commentAuthors" Target="commentAuthors.xml"/>
</Relationships>
</file>

<file path=ppt/comments/comment4.xml><?xml version="1.0" encoding="utf-8"?>
<p:cmLst xmlns:p="http://schemas.openxmlformats.org/presentationml/2006/main">
  <p:cm authorId="0" dt="2007-10-23T19:19:05.734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8B33-D5BE-41E9-8E90-AD5D02DDA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7C75-A4EB-4F9E-87C0-37D8774ED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76B4-95C0-438C-8393-C856E96E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32C4-7CBD-4E25-A8E3-00FAC6A3C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A075-2553-4DF1-AB4A-E14B8A511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0FD3-8D69-4331-98E3-20256A60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8BD4-DDA9-4FFB-B3F5-8209F320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DE73-DB99-432D-A547-2D002EFB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F2A8-9806-45E1-9CBB-CF02803A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FB2B-2BE2-4C2C-A883-9CC8C841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0A8C-8250-4F3A-B434-7E705B9A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256B-F2FD-4B63-8B0F-A4BE4D4A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0191-FE39-4F55-9578-1C992BC3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1012-DD5B-4469-AA45-E3B7A5E1A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cles 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4 Name the Muscl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raglenoid tubercle of scapul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r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osterior surface of humerus, superior to radial groo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l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terior surface of humerus, inferior to radial groo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ranon process of ulna and fascia of forea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#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5 fun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l nerve (C6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952880" y="1371600"/>
            <a:ext cx="3362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6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third of clavicle, acromion, and spine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toid tuberosity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part: #27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 part: #2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part: #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illary nerv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deltoidant2: "/>
          <p:cNvPicPr/>
          <p:nvPr/>
        </p:nvPicPr>
        <p:blipFill>
          <a:blip r:embed="rId1"/>
          <a:stretch/>
        </p:blipFill>
        <p:spPr>
          <a:xfrm>
            <a:off x="4343400" y="1600200"/>
            <a:ext cx="48006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 the Muscle #30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ous processes of inferior 6 thoracic vertebrae, thoracolumbar fascia, iliac crest, and inferior 3 or 4 rib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tubercular groov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#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racodorsal nerv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C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950080" y="0"/>
            <a:ext cx="319392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420040" y="4822920"/>
            <a:ext cx="723960" cy="411120"/>
          </a:xfrm>
          <a:custGeom>
            <a:avLst/>
            <a:gdLst/>
            <a:ahLst/>
            <a:rect l="l" t="t" r="r" b="b"/>
            <a:pathLst>
              <a:path w="2010" h="1142">
                <a:moveTo>
                  <a:pt x="23862" y="13866"/>
                </a:moveTo>
                <a:cubicBezTo>
                  <a:pt x="23730" y="13866"/>
                  <a:pt x="23363" y="13880"/>
                  <a:pt x="23490" y="13841"/>
                </a:cubicBezTo>
                <a:cubicBezTo>
                  <a:pt x="23640" y="13795"/>
                  <a:pt x="23936" y="13825"/>
                  <a:pt x="24085" y="13866"/>
                </a:cubicBezTo>
                <a:cubicBezTo>
                  <a:pt x="24156" y="13886"/>
                  <a:pt x="24238" y="13905"/>
                  <a:pt x="24309" y="13915"/>
                </a:cubicBezTo>
                <a:cubicBezTo>
                  <a:pt x="24369" y="13923"/>
                  <a:pt x="24392" y="13938"/>
                  <a:pt x="24457" y="13940"/>
                </a:cubicBezTo>
                <a:cubicBezTo>
                  <a:pt x="24507" y="13942"/>
                  <a:pt x="24556" y="13940"/>
                  <a:pt x="24606" y="13940"/>
                </a:cubicBezTo>
                <a:cubicBezTo>
                  <a:pt x="24765" y="13926"/>
                  <a:pt x="25229" y="13920"/>
                  <a:pt x="25078" y="13866"/>
                </a:cubicBezTo>
                <a:cubicBezTo>
                  <a:pt x="24850" y="13785"/>
                  <a:pt x="24459" y="13890"/>
                  <a:pt x="24234" y="13915"/>
                </a:cubicBezTo>
                <a:cubicBezTo>
                  <a:pt x="24075" y="13933"/>
                  <a:pt x="23776" y="14149"/>
                  <a:pt x="23763" y="13990"/>
                </a:cubicBezTo>
                <a:cubicBezTo>
                  <a:pt x="23730" y="13582"/>
                  <a:pt x="24506" y="13692"/>
                  <a:pt x="24904" y="13593"/>
                </a:cubicBezTo>
                <a:cubicBezTo>
                  <a:pt x="25135" y="13554"/>
                  <a:pt x="25167" y="13538"/>
                  <a:pt x="25301" y="13543"/>
                </a:cubicBezTo>
                <a:cubicBezTo>
                  <a:pt x="25303" y="13544"/>
                  <a:pt x="25406" y="13566"/>
                  <a:pt x="25350" y="13593"/>
                </a:cubicBezTo>
                <a:cubicBezTo>
                  <a:pt x="24885" y="13822"/>
                  <a:pt x="24379" y="13787"/>
                  <a:pt x="23887" y="13891"/>
                </a:cubicBezTo>
                <a:cubicBezTo>
                  <a:pt x="23872" y="13894"/>
                  <a:pt x="23413" y="13970"/>
                  <a:pt x="23416" y="13965"/>
                </a:cubicBezTo>
                <a:cubicBezTo>
                  <a:pt x="23562" y="13675"/>
                  <a:pt x="24500" y="13516"/>
                  <a:pt x="24705" y="13469"/>
                </a:cubicBezTo>
                <a:cubicBezTo>
                  <a:pt x="24796" y="13461"/>
                  <a:pt x="24887" y="13452"/>
                  <a:pt x="24978" y="13444"/>
                </a:cubicBezTo>
                <a:cubicBezTo>
                  <a:pt x="24939" y="13462"/>
                  <a:pt x="24500" y="13601"/>
                  <a:pt x="24358" y="13618"/>
                </a:cubicBezTo>
                <a:cubicBezTo>
                  <a:pt x="24347" y="13619"/>
                  <a:pt x="24081" y="13593"/>
                  <a:pt x="24085" y="13593"/>
                </a:cubicBezTo>
                <a:cubicBezTo>
                  <a:pt x="24244" y="13576"/>
                  <a:pt x="24452" y="13615"/>
                  <a:pt x="24581" y="13717"/>
                </a:cubicBezTo>
                <a:cubicBezTo>
                  <a:pt x="24714" y="13821"/>
                  <a:pt x="24329" y="13767"/>
                  <a:pt x="24160" y="13767"/>
                </a:cubicBezTo>
                <a:cubicBezTo>
                  <a:pt x="24057" y="13767"/>
                  <a:pt x="23794" y="13761"/>
                  <a:pt x="23887" y="13717"/>
                </a:cubicBezTo>
                <a:cubicBezTo>
                  <a:pt x="23920" y="13701"/>
                  <a:pt x="24267" y="13717"/>
                  <a:pt x="24135" y="13717"/>
                </a:cubicBezTo>
                <a:cubicBezTo>
                  <a:pt x="23875" y="13717"/>
                  <a:pt x="23168" y="13665"/>
                  <a:pt x="23416" y="13742"/>
                </a:cubicBezTo>
                <a:cubicBezTo>
                  <a:pt x="23567" y="13789"/>
                  <a:pt x="23757" y="13840"/>
                  <a:pt x="23912" y="13866"/>
                </a:cubicBezTo>
                <a:cubicBezTo>
                  <a:pt x="23987" y="13878"/>
                  <a:pt x="23813" y="13849"/>
                  <a:pt x="23738" y="13841"/>
                </a:cubicBezTo>
                <a:cubicBezTo>
                  <a:pt x="23643" y="13831"/>
                  <a:pt x="23499" y="13782"/>
                  <a:pt x="23763" y="13767"/>
                </a:cubicBezTo>
                <a:cubicBezTo>
                  <a:pt x="24108" y="13747"/>
                  <a:pt x="24459" y="13767"/>
                  <a:pt x="24805" y="13767"/>
                </a:cubicBezTo>
                <a:cubicBezTo>
                  <a:pt x="24813" y="13767"/>
                  <a:pt x="24821" y="13767"/>
                  <a:pt x="24829" y="13767"/>
                </a:cubicBezTo>
                <a:cubicBezTo>
                  <a:pt x="24608" y="13877"/>
                  <a:pt x="24406" y="14047"/>
                  <a:pt x="24160" y="14089"/>
                </a:cubicBezTo>
                <a:cubicBezTo>
                  <a:pt x="23665" y="14174"/>
                  <a:pt x="24946" y="13636"/>
                  <a:pt x="25400" y="13419"/>
                </a:cubicBezTo>
                <a:cubicBezTo>
                  <a:pt x="25354" y="13419"/>
                  <a:pt x="25327" y="13431"/>
                  <a:pt x="25301" y="13469"/>
                </a:cubicBezTo>
                <a:cubicBezTo>
                  <a:pt x="25021" y="13657"/>
                  <a:pt x="24108" y="13877"/>
                  <a:pt x="24433" y="13965"/>
                </a:cubicBezTo>
                <a:cubicBezTo>
                  <a:pt x="24559" y="13999"/>
                  <a:pt x="25239" y="13850"/>
                  <a:pt x="25028" y="14039"/>
                </a:cubicBezTo>
                <a:cubicBezTo>
                  <a:pt x="24808" y="14236"/>
                  <a:pt x="24572" y="14379"/>
                  <a:pt x="24309" y="14511"/>
                </a:cubicBezTo>
                <a:cubicBezTo>
                  <a:pt x="24258" y="14537"/>
                  <a:pt x="24455" y="14500"/>
                  <a:pt x="24507" y="14511"/>
                </a:cubicBezTo>
                <a:cubicBezTo>
                  <a:pt x="24654" y="14542"/>
                  <a:pt x="24346" y="14491"/>
                  <a:pt x="24333" y="14486"/>
                </a:cubicBezTo>
                <a:cubicBezTo>
                  <a:pt x="24203" y="14440"/>
                  <a:pt x="24012" y="14360"/>
                  <a:pt x="23912" y="14288"/>
                </a:cubicBezTo>
                <a:cubicBezTo>
                  <a:pt x="23825" y="14225"/>
                  <a:pt x="24053" y="14250"/>
                  <a:pt x="24160" y="14263"/>
                </a:cubicBezTo>
                <a:cubicBezTo>
                  <a:pt x="24238" y="14273"/>
                  <a:pt x="24265" y="14329"/>
                  <a:pt x="24259" y="14312"/>
                </a:cubicBezTo>
                <a:cubicBezTo>
                  <a:pt x="24242" y="14267"/>
                  <a:pt x="24150" y="14250"/>
                  <a:pt x="24358" y="14213"/>
                </a:cubicBezTo>
                <a:cubicBezTo>
                  <a:pt x="24448" y="14197"/>
                  <a:pt x="24697" y="14194"/>
                  <a:pt x="24606" y="14188"/>
                </a:cubicBezTo>
                <a:cubicBezTo>
                  <a:pt x="24342" y="14170"/>
                  <a:pt x="23597" y="14188"/>
                  <a:pt x="23862" y="14188"/>
                </a:cubicBezTo>
                <a:cubicBezTo>
                  <a:pt x="23953" y="14188"/>
                  <a:pt x="24044" y="14188"/>
                  <a:pt x="24135" y="14188"/>
                </a:cubicBezTo>
                <a:cubicBezTo>
                  <a:pt x="24317" y="14188"/>
                  <a:pt x="24518" y="14331"/>
                  <a:pt x="24631" y="14188"/>
                </a:cubicBezTo>
                <a:cubicBezTo>
                  <a:pt x="24651" y="14162"/>
                  <a:pt x="24611" y="14147"/>
                  <a:pt x="24606" y="14114"/>
                </a:cubicBezTo>
                <a:cubicBezTo>
                  <a:pt x="24737" y="14077"/>
                  <a:pt x="25137" y="14020"/>
                  <a:pt x="25003" y="14039"/>
                </a:cubicBezTo>
                <a:cubicBezTo>
                  <a:pt x="24834" y="14063"/>
                  <a:pt x="24602" y="14149"/>
                  <a:pt x="24433" y="14114"/>
                </a:cubicBezTo>
                <a:cubicBezTo>
                  <a:pt x="24199" y="14066"/>
                  <a:pt x="24493" y="13991"/>
                  <a:pt x="24507" y="13990"/>
                </a:cubicBezTo>
                <a:cubicBezTo>
                  <a:pt x="24632" y="13981"/>
                  <a:pt x="24886" y="14046"/>
                  <a:pt x="24780" y="14114"/>
                </a:cubicBezTo>
                <a:cubicBezTo>
                  <a:pt x="24553" y="14260"/>
                  <a:pt x="23976" y="14477"/>
                  <a:pt x="23688" y="14436"/>
                </a:cubicBezTo>
                <a:cubicBezTo>
                  <a:pt x="23688" y="14420"/>
                  <a:pt x="23688" y="14403"/>
                  <a:pt x="23688" y="14387"/>
                </a:cubicBezTo>
                <a:cubicBezTo>
                  <a:pt x="23807" y="14234"/>
                  <a:pt x="23971" y="14163"/>
                  <a:pt x="24185" y="14089"/>
                </a:cubicBezTo>
                <a:cubicBezTo>
                  <a:pt x="24283" y="14055"/>
                  <a:pt x="24466" y="14077"/>
                  <a:pt x="24383" y="14139"/>
                </a:cubicBezTo>
                <a:cubicBezTo>
                  <a:pt x="24176" y="14292"/>
                  <a:pt x="24003" y="14279"/>
                  <a:pt x="23763" y="14288"/>
                </a:cubicBezTo>
                <a:cubicBezTo>
                  <a:pt x="23763" y="14203"/>
                  <a:pt x="23734" y="14065"/>
                  <a:pt x="23788" y="13990"/>
                </a:cubicBezTo>
                <a:cubicBezTo>
                  <a:pt x="23808" y="13963"/>
                  <a:pt x="24071" y="13849"/>
                  <a:pt x="24110" y="13841"/>
                </a:cubicBezTo>
                <a:cubicBezTo>
                  <a:pt x="24142" y="13835"/>
                  <a:pt x="24454" y="13830"/>
                  <a:pt x="24284" y="13965"/>
                </a:cubicBezTo>
                <a:cubicBezTo>
                  <a:pt x="24162" y="14062"/>
                  <a:pt x="23695" y="14347"/>
                  <a:pt x="23515" y="14238"/>
                </a:cubicBezTo>
                <a:cubicBezTo>
                  <a:pt x="23435" y="14190"/>
                  <a:pt x="23604" y="14128"/>
                  <a:pt x="23688" y="14089"/>
                </a:cubicBezTo>
                <a:cubicBezTo>
                  <a:pt x="23728" y="14071"/>
                  <a:pt x="24199" y="13965"/>
                  <a:pt x="24011" y="13965"/>
                </a:cubicBezTo>
                <a:cubicBezTo>
                  <a:pt x="23849" y="13965"/>
                  <a:pt x="23755" y="13989"/>
                  <a:pt x="23713" y="13816"/>
                </a:cubicBezTo>
                <a:cubicBezTo>
                  <a:pt x="23659" y="13591"/>
                  <a:pt x="24342" y="13438"/>
                  <a:pt x="24482" y="13395"/>
                </a:cubicBezTo>
                <a:cubicBezTo>
                  <a:pt x="24552" y="13417"/>
                  <a:pt x="24787" y="13493"/>
                  <a:pt x="24606" y="13618"/>
                </a:cubicBezTo>
                <a:cubicBezTo>
                  <a:pt x="24445" y="13729"/>
                  <a:pt x="24075" y="14033"/>
                  <a:pt x="24110" y="13841"/>
                </a:cubicBezTo>
                <a:cubicBezTo>
                  <a:pt x="24142" y="13664"/>
                  <a:pt x="24561" y="13625"/>
                  <a:pt x="24681" y="13618"/>
                </a:cubicBezTo>
                <a:cubicBezTo>
                  <a:pt x="24776" y="13613"/>
                  <a:pt x="24998" y="13635"/>
                  <a:pt x="24954" y="13791"/>
                </a:cubicBezTo>
                <a:cubicBezTo>
                  <a:pt x="24952" y="13798"/>
                  <a:pt x="24894" y="13709"/>
                  <a:pt x="24954" y="13667"/>
                </a:cubicBezTo>
                <a:cubicBezTo>
                  <a:pt x="25054" y="13597"/>
                  <a:pt x="25365" y="13474"/>
                  <a:pt x="25375" y="1346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491240" y="276120"/>
            <a:ext cx="1197000" cy="376200"/>
          </a:xfrm>
          <a:custGeom>
            <a:avLst/>
            <a:gdLst/>
            <a:ahLst/>
            <a:rect l="l" t="t" r="r" b="b"/>
            <a:pathLst>
              <a:path w="3325" h="1043">
                <a:moveTo>
                  <a:pt x="22051" y="1339"/>
                </a:moveTo>
                <a:cubicBezTo>
                  <a:pt x="22090" y="1300"/>
                  <a:pt x="22068" y="1297"/>
                  <a:pt x="22151" y="1290"/>
                </a:cubicBezTo>
                <a:cubicBezTo>
                  <a:pt x="22158" y="1289"/>
                  <a:pt x="22285" y="1278"/>
                  <a:pt x="22275" y="1315"/>
                </a:cubicBezTo>
                <a:cubicBezTo>
                  <a:pt x="22211" y="1558"/>
                  <a:pt x="21623" y="1127"/>
                  <a:pt x="21605" y="1116"/>
                </a:cubicBezTo>
                <a:cubicBezTo>
                  <a:pt x="21536" y="1073"/>
                  <a:pt x="21401" y="979"/>
                  <a:pt x="21481" y="967"/>
                </a:cubicBezTo>
                <a:cubicBezTo>
                  <a:pt x="22245" y="849"/>
                  <a:pt x="23215" y="938"/>
                  <a:pt x="23937" y="1215"/>
                </a:cubicBezTo>
                <a:cubicBezTo>
                  <a:pt x="24114" y="1283"/>
                  <a:pt x="23845" y="1382"/>
                  <a:pt x="23837" y="1389"/>
                </a:cubicBezTo>
                <a:cubicBezTo>
                  <a:pt x="23503" y="1503"/>
                  <a:pt x="23046" y="1777"/>
                  <a:pt x="22647" y="1662"/>
                </a:cubicBezTo>
                <a:cubicBezTo>
                  <a:pt x="22607" y="1651"/>
                  <a:pt x="22595" y="1594"/>
                  <a:pt x="22622" y="1563"/>
                </a:cubicBezTo>
                <a:cubicBezTo>
                  <a:pt x="22664" y="1514"/>
                  <a:pt x="23160" y="1512"/>
                  <a:pt x="23143" y="1513"/>
                </a:cubicBezTo>
                <a:cubicBezTo>
                  <a:pt x="22700" y="1535"/>
                  <a:pt x="22303" y="1695"/>
                  <a:pt x="21853" y="1712"/>
                </a:cubicBezTo>
                <a:cubicBezTo>
                  <a:pt x="21504" y="1725"/>
                  <a:pt x="22520" y="1517"/>
                  <a:pt x="22845" y="1389"/>
                </a:cubicBezTo>
                <a:cubicBezTo>
                  <a:pt x="22870" y="1379"/>
                  <a:pt x="23141" y="1310"/>
                  <a:pt x="23068" y="1265"/>
                </a:cubicBezTo>
                <a:cubicBezTo>
                  <a:pt x="23024" y="1238"/>
                  <a:pt x="22435" y="1132"/>
                  <a:pt x="22473" y="1017"/>
                </a:cubicBezTo>
                <a:cubicBezTo>
                  <a:pt x="22506" y="1017"/>
                  <a:pt x="22539" y="1017"/>
                  <a:pt x="22572" y="1017"/>
                </a:cubicBezTo>
                <a:cubicBezTo>
                  <a:pt x="22820" y="1034"/>
                  <a:pt x="23536" y="951"/>
                  <a:pt x="23316" y="1067"/>
                </a:cubicBezTo>
                <a:cubicBezTo>
                  <a:pt x="23047" y="1210"/>
                  <a:pt x="22647" y="1201"/>
                  <a:pt x="22324" y="1240"/>
                </a:cubicBezTo>
                <a:cubicBezTo>
                  <a:pt x="22322" y="1240"/>
                  <a:pt x="23015" y="1240"/>
                  <a:pt x="23242" y="1240"/>
                </a:cubicBezTo>
                <a:cubicBezTo>
                  <a:pt x="23300" y="1240"/>
                  <a:pt x="23358" y="1240"/>
                  <a:pt x="23416" y="1240"/>
                </a:cubicBezTo>
                <a:cubicBezTo>
                  <a:pt x="23218" y="1265"/>
                  <a:pt x="22697" y="1305"/>
                  <a:pt x="22473" y="1315"/>
                </a:cubicBezTo>
                <a:cubicBezTo>
                  <a:pt x="22308" y="1323"/>
                  <a:pt x="22110" y="1315"/>
                  <a:pt x="22275" y="1315"/>
                </a:cubicBezTo>
                <a:cubicBezTo>
                  <a:pt x="22645" y="1340"/>
                  <a:pt x="23635" y="1364"/>
                  <a:pt x="23267" y="1315"/>
                </a:cubicBezTo>
                <a:cubicBezTo>
                  <a:pt x="23153" y="1300"/>
                  <a:pt x="22231" y="1272"/>
                  <a:pt x="22275" y="1141"/>
                </a:cubicBezTo>
                <a:cubicBezTo>
                  <a:pt x="22375" y="842"/>
                  <a:pt x="23181" y="1119"/>
                  <a:pt x="22870" y="1166"/>
                </a:cubicBezTo>
                <a:cubicBezTo>
                  <a:pt x="22475" y="1225"/>
                  <a:pt x="21800" y="885"/>
                  <a:pt x="21679" y="1265"/>
                </a:cubicBezTo>
                <a:cubicBezTo>
                  <a:pt x="21659" y="1326"/>
                  <a:pt x="22615" y="1385"/>
                  <a:pt x="22671" y="1389"/>
                </a:cubicBezTo>
                <a:cubicBezTo>
                  <a:pt x="23114" y="1389"/>
                  <a:pt x="22580" y="1389"/>
                  <a:pt x="22448" y="1389"/>
                </a:cubicBezTo>
                <a:cubicBezTo>
                  <a:pt x="22215" y="1389"/>
                  <a:pt x="21652" y="1321"/>
                  <a:pt x="21878" y="1265"/>
                </a:cubicBezTo>
                <a:cubicBezTo>
                  <a:pt x="22222" y="1179"/>
                  <a:pt x="23154" y="1252"/>
                  <a:pt x="23316" y="1091"/>
                </a:cubicBezTo>
                <a:cubicBezTo>
                  <a:pt x="23590" y="819"/>
                  <a:pt x="22551" y="1032"/>
                  <a:pt x="22175" y="943"/>
                </a:cubicBezTo>
                <a:cubicBezTo>
                  <a:pt x="22075" y="779"/>
                  <a:pt x="22134" y="840"/>
                  <a:pt x="22126" y="819"/>
                </a:cubicBezTo>
                <a:cubicBezTo>
                  <a:pt x="22514" y="883"/>
                  <a:pt x="23602" y="812"/>
                  <a:pt x="23267" y="1017"/>
                </a:cubicBezTo>
                <a:cubicBezTo>
                  <a:pt x="22603" y="1423"/>
                  <a:pt x="21621" y="1538"/>
                  <a:pt x="20861" y="1736"/>
                </a:cubicBezTo>
                <a:cubicBezTo>
                  <a:pt x="20844" y="1736"/>
                  <a:pt x="20828" y="1736"/>
                  <a:pt x="20811" y="1736"/>
                </a:cubicBezTo>
                <a:cubicBezTo>
                  <a:pt x="21325" y="1736"/>
                  <a:pt x="21812" y="1701"/>
                  <a:pt x="22324" y="1662"/>
                </a:cubicBezTo>
                <a:cubicBezTo>
                  <a:pt x="22781" y="1627"/>
                  <a:pt x="21908" y="1329"/>
                  <a:pt x="21878" y="1315"/>
                </a:cubicBezTo>
                <a:cubicBezTo>
                  <a:pt x="21665" y="1220"/>
                  <a:pt x="21216" y="1152"/>
                  <a:pt x="21555" y="1042"/>
                </a:cubicBezTo>
                <a:cubicBezTo>
                  <a:pt x="21743" y="981"/>
                  <a:pt x="22210" y="819"/>
                  <a:pt x="22027" y="893"/>
                </a:cubicBezTo>
                <a:cubicBezTo>
                  <a:pt x="21968" y="917"/>
                  <a:pt x="21996" y="877"/>
                  <a:pt x="21977" y="943"/>
                </a:cubicBezTo>
                <a:cubicBezTo>
                  <a:pt x="21938" y="1078"/>
                  <a:pt x="22168" y="1168"/>
                  <a:pt x="22250" y="1240"/>
                </a:cubicBezTo>
                <a:cubicBezTo>
                  <a:pt x="22315" y="1297"/>
                  <a:pt x="22308" y="1358"/>
                  <a:pt x="22200" y="1315"/>
                </a:cubicBezTo>
                <a:cubicBezTo>
                  <a:pt x="22153" y="1297"/>
                  <a:pt x="22101" y="1232"/>
                  <a:pt x="22151" y="1215"/>
                </a:cubicBezTo>
                <a:cubicBezTo>
                  <a:pt x="22184" y="1203"/>
                  <a:pt x="22375" y="1248"/>
                  <a:pt x="22299" y="1290"/>
                </a:cubicBezTo>
                <a:cubicBezTo>
                  <a:pt x="22209" y="1340"/>
                  <a:pt x="22189" y="1309"/>
                  <a:pt x="22101" y="1364"/>
                </a:cubicBezTo>
                <a:cubicBezTo>
                  <a:pt x="22192" y="1356"/>
                  <a:pt x="22283" y="1347"/>
                  <a:pt x="22374" y="1339"/>
                </a:cubicBezTo>
                <a:cubicBezTo>
                  <a:pt x="22697" y="1243"/>
                  <a:pt x="23061" y="1221"/>
                  <a:pt x="22473" y="1215"/>
                </a:cubicBezTo>
                <a:cubicBezTo>
                  <a:pt x="22327" y="1213"/>
                  <a:pt x="22271" y="1204"/>
                  <a:pt x="22126" y="1191"/>
                </a:cubicBezTo>
                <a:cubicBezTo>
                  <a:pt x="22075" y="1187"/>
                  <a:pt x="21868" y="1232"/>
                  <a:pt x="21903" y="1141"/>
                </a:cubicBezTo>
                <a:cubicBezTo>
                  <a:pt x="21954" y="1007"/>
                  <a:pt x="22203" y="982"/>
                  <a:pt x="22349" y="943"/>
                </a:cubicBezTo>
                <a:cubicBezTo>
                  <a:pt x="22398" y="930"/>
                  <a:pt x="23902" y="592"/>
                  <a:pt x="23887" y="819"/>
                </a:cubicBezTo>
                <a:cubicBezTo>
                  <a:pt x="23878" y="963"/>
                  <a:pt x="23392" y="1273"/>
                  <a:pt x="23366" y="1290"/>
                </a:cubicBezTo>
                <a:cubicBezTo>
                  <a:pt x="22960" y="1563"/>
                  <a:pt x="22541" y="1638"/>
                  <a:pt x="22920" y="1662"/>
                </a:cubicBezTo>
                <a:cubicBezTo>
                  <a:pt x="23287" y="1525"/>
                  <a:pt x="24376" y="1286"/>
                  <a:pt x="23986" y="1315"/>
                </a:cubicBezTo>
                <a:cubicBezTo>
                  <a:pt x="23720" y="1335"/>
                  <a:pt x="23499" y="1341"/>
                  <a:pt x="23242" y="1414"/>
                </a:cubicBezTo>
                <a:cubicBezTo>
                  <a:pt x="23231" y="1417"/>
                  <a:pt x="23329" y="1439"/>
                  <a:pt x="23341" y="1439"/>
                </a:cubicBezTo>
                <a:cubicBezTo>
                  <a:pt x="23614" y="1445"/>
                  <a:pt x="24319" y="1616"/>
                  <a:pt x="24135" y="1414"/>
                </a:cubicBezTo>
                <a:cubicBezTo>
                  <a:pt x="24047" y="1318"/>
                  <a:pt x="23788" y="1292"/>
                  <a:pt x="23664" y="1290"/>
                </a:cubicBezTo>
                <a:cubicBezTo>
                  <a:pt x="23479" y="1287"/>
                  <a:pt x="23149" y="1256"/>
                  <a:pt x="23093" y="1339"/>
                </a:cubicBezTo>
                <a:cubicBezTo>
                  <a:pt x="23176" y="1422"/>
                  <a:pt x="23258" y="1505"/>
                  <a:pt x="23341" y="1588"/>
                </a:cubicBezTo>
                <a:cubicBezTo>
                  <a:pt x="23459" y="1678"/>
                  <a:pt x="23662" y="1951"/>
                  <a:pt x="23713" y="1811"/>
                </a:cubicBezTo>
                <a:cubicBezTo>
                  <a:pt x="23770" y="1654"/>
                  <a:pt x="23703" y="1544"/>
                  <a:pt x="23614" y="1439"/>
                </a:cubicBezTo>
                <a:cubicBezTo>
                  <a:pt x="23508" y="1314"/>
                  <a:pt x="23456" y="1364"/>
                  <a:pt x="23242" y="1364"/>
                </a:cubicBezTo>
                <a:cubicBezTo>
                  <a:pt x="23184" y="1364"/>
                  <a:pt x="23019" y="1372"/>
                  <a:pt x="22994" y="1315"/>
                </a:cubicBezTo>
                <a:cubicBezTo>
                  <a:pt x="22974" y="1271"/>
                  <a:pt x="23441" y="1180"/>
                  <a:pt x="23490" y="1166"/>
                </a:cubicBezTo>
                <a:cubicBezTo>
                  <a:pt x="23638" y="1125"/>
                  <a:pt x="23486" y="1140"/>
                  <a:pt x="23391" y="1116"/>
                </a:cubicBezTo>
                <a:cubicBezTo>
                  <a:pt x="23334" y="1102"/>
                  <a:pt x="23106" y="1091"/>
                  <a:pt x="23143" y="1091"/>
                </a:cubicBezTo>
                <a:cubicBezTo>
                  <a:pt x="23261" y="1091"/>
                  <a:pt x="23572" y="1092"/>
                  <a:pt x="23465" y="1141"/>
                </a:cubicBezTo>
                <a:cubicBezTo>
                  <a:pt x="23234" y="1247"/>
                  <a:pt x="22766" y="1191"/>
                  <a:pt x="22498" y="1191"/>
                </a:cubicBezTo>
                <a:cubicBezTo>
                  <a:pt x="22356" y="1191"/>
                  <a:pt x="21923" y="1254"/>
                  <a:pt x="21828" y="1166"/>
                </a:cubicBezTo>
                <a:cubicBezTo>
                  <a:pt x="21730" y="1075"/>
                  <a:pt x="21992" y="1093"/>
                  <a:pt x="22126" y="1091"/>
                </a:cubicBezTo>
                <a:cubicBezTo>
                  <a:pt x="22308" y="1089"/>
                  <a:pt x="22489" y="1091"/>
                  <a:pt x="22671" y="109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11800" y="3473280"/>
            <a:ext cx="2419200" cy="2260800"/>
          </a:xfrm>
          <a:custGeom>
            <a:avLst/>
            <a:gdLst/>
            <a:ahLst/>
            <a:rect l="l" t="t" r="r" b="b"/>
            <a:pathLst>
              <a:path w="6723" h="6277">
                <a:moveTo>
                  <a:pt x="12254" y="12750"/>
                </a:moveTo>
                <a:cubicBezTo>
                  <a:pt x="12636" y="12678"/>
                  <a:pt x="13007" y="12586"/>
                  <a:pt x="13395" y="12551"/>
                </a:cubicBezTo>
                <a:cubicBezTo>
                  <a:pt x="13790" y="12515"/>
                  <a:pt x="14198" y="12501"/>
                  <a:pt x="14585" y="12402"/>
                </a:cubicBezTo>
                <a:cubicBezTo>
                  <a:pt x="14907" y="12319"/>
                  <a:pt x="15117" y="12269"/>
                  <a:pt x="15429" y="12229"/>
                </a:cubicBezTo>
                <a:cubicBezTo>
                  <a:pt x="15772" y="12185"/>
                  <a:pt x="16106" y="12077"/>
                  <a:pt x="16446" y="12030"/>
                </a:cubicBezTo>
                <a:cubicBezTo>
                  <a:pt x="16837" y="11976"/>
                  <a:pt x="17124" y="11948"/>
                  <a:pt x="17487" y="11807"/>
                </a:cubicBezTo>
                <a:cubicBezTo>
                  <a:pt x="17842" y="11670"/>
                  <a:pt x="18109" y="11735"/>
                  <a:pt x="18455" y="11683"/>
                </a:cubicBezTo>
                <a:cubicBezTo>
                  <a:pt x="18558" y="11667"/>
                  <a:pt x="18502" y="11671"/>
                  <a:pt x="18628" y="11633"/>
                </a:cubicBezTo>
                <a:cubicBezTo>
                  <a:pt x="18710" y="11608"/>
                  <a:pt x="18796" y="11582"/>
                  <a:pt x="18876" y="11559"/>
                </a:cubicBezTo>
                <a:cubicBezTo>
                  <a:pt x="18837" y="11533"/>
                  <a:pt x="18872" y="11510"/>
                  <a:pt x="18777" y="11460"/>
                </a:cubicBezTo>
                <a:cubicBezTo>
                  <a:pt x="17995" y="11044"/>
                  <a:pt x="17339" y="10420"/>
                  <a:pt x="16570" y="9971"/>
                </a:cubicBezTo>
                <a:cubicBezTo>
                  <a:pt x="16532" y="9949"/>
                  <a:pt x="15987" y="9722"/>
                  <a:pt x="15875" y="9649"/>
                </a:cubicBezTo>
                <a:cubicBezTo>
                  <a:pt x="15908" y="9649"/>
                  <a:pt x="15924" y="9649"/>
                  <a:pt x="15949" y="9649"/>
                </a:cubicBezTo>
                <a:cubicBezTo>
                  <a:pt x="16423" y="9807"/>
                  <a:pt x="16816" y="10120"/>
                  <a:pt x="17214" y="10443"/>
                </a:cubicBezTo>
                <a:cubicBezTo>
                  <a:pt x="17359" y="10561"/>
                  <a:pt x="17389" y="10577"/>
                  <a:pt x="17587" y="10666"/>
                </a:cubicBezTo>
                <a:cubicBezTo>
                  <a:pt x="17704" y="10719"/>
                  <a:pt x="17850" y="10763"/>
                  <a:pt x="17959" y="10815"/>
                </a:cubicBezTo>
                <a:cubicBezTo>
                  <a:pt x="18000" y="10835"/>
                  <a:pt x="18067" y="10839"/>
                  <a:pt x="18107" y="10864"/>
                </a:cubicBezTo>
                <a:cubicBezTo>
                  <a:pt x="18165" y="10901"/>
                  <a:pt x="18268" y="11033"/>
                  <a:pt x="18355" y="11063"/>
                </a:cubicBezTo>
                <a:cubicBezTo>
                  <a:pt x="18487" y="11109"/>
                  <a:pt x="18646" y="11089"/>
                  <a:pt x="18777" y="11137"/>
                </a:cubicBezTo>
                <a:cubicBezTo>
                  <a:pt x="18853" y="11165"/>
                  <a:pt x="18910" y="11177"/>
                  <a:pt x="18951" y="11237"/>
                </a:cubicBezTo>
                <a:cubicBezTo>
                  <a:pt x="18972" y="11267"/>
                  <a:pt x="18984" y="11319"/>
                  <a:pt x="18976" y="11361"/>
                </a:cubicBezTo>
                <a:cubicBezTo>
                  <a:pt x="18965" y="11417"/>
                  <a:pt x="18965" y="11456"/>
                  <a:pt x="18951" y="11485"/>
                </a:cubicBezTo>
                <a:cubicBezTo>
                  <a:pt x="18735" y="11935"/>
                  <a:pt x="18288" y="12326"/>
                  <a:pt x="18033" y="12774"/>
                </a:cubicBezTo>
                <a:cubicBezTo>
                  <a:pt x="17450" y="13797"/>
                  <a:pt x="16966" y="14859"/>
                  <a:pt x="16470" y="15925"/>
                </a:cubicBezTo>
                <a:cubicBezTo>
                  <a:pt x="16493" y="15902"/>
                  <a:pt x="16501" y="15898"/>
                  <a:pt x="16495" y="1587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2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lip of linea aspera, superior part of medial supracondylar ridge of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base of quadriceps te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#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vasti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439040" y="5224320"/>
            <a:ext cx="222120" cy="357480"/>
          </a:xfrm>
          <a:custGeom>
            <a:avLst/>
            <a:gdLst/>
            <a:ahLst/>
            <a:rect l="l" t="t" r="r" b="b"/>
            <a:pathLst>
              <a:path w="621" h="993">
                <a:moveTo>
                  <a:pt x="21059" y="15131"/>
                </a:moveTo>
                <a:cubicBezTo>
                  <a:pt x="20982" y="15054"/>
                  <a:pt x="20907" y="14996"/>
                  <a:pt x="20886" y="14883"/>
                </a:cubicBezTo>
                <a:cubicBezTo>
                  <a:pt x="20866" y="14777"/>
                  <a:pt x="20914" y="14759"/>
                  <a:pt x="21010" y="14734"/>
                </a:cubicBezTo>
                <a:cubicBezTo>
                  <a:pt x="21101" y="14710"/>
                  <a:pt x="21169" y="14692"/>
                  <a:pt x="21258" y="14684"/>
                </a:cubicBezTo>
                <a:cubicBezTo>
                  <a:pt x="21258" y="14848"/>
                  <a:pt x="21267" y="14955"/>
                  <a:pt x="21183" y="15106"/>
                </a:cubicBezTo>
                <a:cubicBezTo>
                  <a:pt x="21115" y="15229"/>
                  <a:pt x="20855" y="15266"/>
                  <a:pt x="20737" y="15230"/>
                </a:cubicBezTo>
                <a:cubicBezTo>
                  <a:pt x="20673" y="15211"/>
                  <a:pt x="20635" y="14919"/>
                  <a:pt x="20662" y="14883"/>
                </a:cubicBezTo>
                <a:cubicBezTo>
                  <a:pt x="20678" y="14862"/>
                  <a:pt x="21003" y="14883"/>
                  <a:pt x="21010" y="14883"/>
                </a:cubicBezTo>
                <a:cubicBezTo>
                  <a:pt x="21143" y="14979"/>
                  <a:pt x="21098" y="15056"/>
                  <a:pt x="21010" y="14957"/>
                </a:cubicBezTo>
                <a:cubicBezTo>
                  <a:pt x="20983" y="14927"/>
                  <a:pt x="20958" y="14812"/>
                  <a:pt x="21010" y="14808"/>
                </a:cubicBezTo>
                <a:cubicBezTo>
                  <a:pt x="21093" y="14802"/>
                  <a:pt x="21084" y="14842"/>
                  <a:pt x="21084" y="14908"/>
                </a:cubicBezTo>
                <a:cubicBezTo>
                  <a:pt x="21084" y="14986"/>
                  <a:pt x="21012" y="14978"/>
                  <a:pt x="20985" y="14908"/>
                </a:cubicBezTo>
                <a:cubicBezTo>
                  <a:pt x="20983" y="14902"/>
                  <a:pt x="20914" y="14705"/>
                  <a:pt x="21010" y="14759"/>
                </a:cubicBezTo>
                <a:cubicBezTo>
                  <a:pt x="21026" y="14768"/>
                  <a:pt x="21066" y="14826"/>
                  <a:pt x="21034" y="14858"/>
                </a:cubicBezTo>
                <a:cubicBezTo>
                  <a:pt x="21018" y="14866"/>
                  <a:pt x="21001" y="14875"/>
                  <a:pt x="20985" y="14883"/>
                </a:cubicBezTo>
                <a:cubicBezTo>
                  <a:pt x="20934" y="14857"/>
                  <a:pt x="20892" y="14808"/>
                  <a:pt x="20985" y="14808"/>
                </a:cubicBezTo>
                <a:cubicBezTo>
                  <a:pt x="21019" y="14808"/>
                  <a:pt x="21029" y="14926"/>
                  <a:pt x="21010" y="14957"/>
                </a:cubicBezTo>
                <a:cubicBezTo>
                  <a:pt x="20965" y="15030"/>
                  <a:pt x="20841" y="15142"/>
                  <a:pt x="20836" y="15056"/>
                </a:cubicBezTo>
                <a:cubicBezTo>
                  <a:pt x="20833" y="15007"/>
                  <a:pt x="20820" y="14968"/>
                  <a:pt x="20861" y="14957"/>
                </a:cubicBezTo>
                <a:cubicBezTo>
                  <a:pt x="20938" y="14937"/>
                  <a:pt x="21007" y="14916"/>
                  <a:pt x="21084" y="14908"/>
                </a:cubicBezTo>
                <a:cubicBezTo>
                  <a:pt x="21125" y="14908"/>
                  <a:pt x="21133" y="14908"/>
                  <a:pt x="21158" y="14908"/>
                </a:cubicBezTo>
                <a:cubicBezTo>
                  <a:pt x="21097" y="14950"/>
                  <a:pt x="21050" y="15077"/>
                  <a:pt x="20910" y="14982"/>
                </a:cubicBezTo>
                <a:cubicBezTo>
                  <a:pt x="20897" y="14973"/>
                  <a:pt x="20835" y="14853"/>
                  <a:pt x="20861" y="14833"/>
                </a:cubicBezTo>
                <a:cubicBezTo>
                  <a:pt x="20912" y="14833"/>
                  <a:pt x="20945" y="14827"/>
                  <a:pt x="20985" y="14808"/>
                </a:cubicBezTo>
                <a:cubicBezTo>
                  <a:pt x="21041" y="14800"/>
                  <a:pt x="21260" y="14723"/>
                  <a:pt x="21282" y="14833"/>
                </a:cubicBezTo>
                <a:cubicBezTo>
                  <a:pt x="21357" y="15198"/>
                  <a:pt x="21003" y="15352"/>
                  <a:pt x="20762" y="15478"/>
                </a:cubicBezTo>
                <a:cubicBezTo>
                  <a:pt x="20745" y="15486"/>
                  <a:pt x="20729" y="15495"/>
                  <a:pt x="20712" y="15503"/>
                </a:cubicBezTo>
                <a:cubicBezTo>
                  <a:pt x="20712" y="15256"/>
                  <a:pt x="20656" y="14909"/>
                  <a:pt x="20786" y="14684"/>
                </a:cubicBezTo>
                <a:cubicBezTo>
                  <a:pt x="20837" y="14596"/>
                  <a:pt x="20971" y="14516"/>
                  <a:pt x="21084" y="14511"/>
                </a:cubicBezTo>
                <a:cubicBezTo>
                  <a:pt x="21160" y="14508"/>
                  <a:pt x="21203" y="14684"/>
                  <a:pt x="21208" y="14734"/>
                </a:cubicBezTo>
                <a:cubicBezTo>
                  <a:pt x="21220" y="14861"/>
                  <a:pt x="21075" y="14916"/>
                  <a:pt x="20985" y="14932"/>
                </a:cubicBezTo>
                <a:cubicBezTo>
                  <a:pt x="20955" y="14917"/>
                  <a:pt x="20890" y="14908"/>
                  <a:pt x="20935" y="14833"/>
                </a:cubicBezTo>
                <a:cubicBezTo>
                  <a:pt x="21008" y="14712"/>
                  <a:pt x="21092" y="14635"/>
                  <a:pt x="21233" y="14635"/>
                </a:cubicBezTo>
                <a:cubicBezTo>
                  <a:pt x="21241" y="14635"/>
                  <a:pt x="21250" y="14635"/>
                  <a:pt x="21258" y="14635"/>
                </a:cubicBezTo>
                <a:cubicBezTo>
                  <a:pt x="21215" y="14721"/>
                  <a:pt x="21112" y="14887"/>
                  <a:pt x="21059" y="14808"/>
                </a:cubicBezTo>
                <a:cubicBezTo>
                  <a:pt x="21020" y="14750"/>
                  <a:pt x="21098" y="14763"/>
                  <a:pt x="21034" y="147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67320" y="3081240"/>
            <a:ext cx="2670480" cy="1633680"/>
          </a:xfrm>
          <a:custGeom>
            <a:avLst/>
            <a:gdLst/>
            <a:ahLst/>
            <a:rect l="l" t="t" r="r" b="b"/>
            <a:pathLst>
              <a:path w="7417" h="4540">
                <a:moveTo>
                  <a:pt x="22498" y="11633"/>
                </a:moveTo>
                <a:cubicBezTo>
                  <a:pt x="22445" y="11633"/>
                  <a:pt x="22447" y="11631"/>
                  <a:pt x="22423" y="11609"/>
                </a:cubicBezTo>
                <a:cubicBezTo>
                  <a:pt x="22374" y="11565"/>
                  <a:pt x="22355" y="11471"/>
                  <a:pt x="22349" y="11410"/>
                </a:cubicBezTo>
                <a:cubicBezTo>
                  <a:pt x="22346" y="11380"/>
                  <a:pt x="22321" y="11204"/>
                  <a:pt x="22374" y="11187"/>
                </a:cubicBezTo>
                <a:cubicBezTo>
                  <a:pt x="22532" y="11136"/>
                  <a:pt x="22706" y="11137"/>
                  <a:pt x="22870" y="11137"/>
                </a:cubicBezTo>
                <a:cubicBezTo>
                  <a:pt x="22870" y="11298"/>
                  <a:pt x="22706" y="11345"/>
                  <a:pt x="22572" y="11435"/>
                </a:cubicBezTo>
                <a:cubicBezTo>
                  <a:pt x="22525" y="11466"/>
                  <a:pt x="22243" y="11545"/>
                  <a:pt x="22200" y="11460"/>
                </a:cubicBezTo>
                <a:cubicBezTo>
                  <a:pt x="22185" y="11429"/>
                  <a:pt x="22189" y="11281"/>
                  <a:pt x="22225" y="11261"/>
                </a:cubicBezTo>
                <a:cubicBezTo>
                  <a:pt x="22321" y="11208"/>
                  <a:pt x="22418" y="11217"/>
                  <a:pt x="22523" y="11212"/>
                </a:cubicBezTo>
                <a:cubicBezTo>
                  <a:pt x="22539" y="11212"/>
                  <a:pt x="22556" y="11212"/>
                  <a:pt x="22572" y="11212"/>
                </a:cubicBezTo>
                <a:cubicBezTo>
                  <a:pt x="22572" y="11272"/>
                  <a:pt x="22591" y="11282"/>
                  <a:pt x="22523" y="11286"/>
                </a:cubicBezTo>
                <a:cubicBezTo>
                  <a:pt x="22441" y="11291"/>
                  <a:pt x="22448" y="11288"/>
                  <a:pt x="22448" y="11212"/>
                </a:cubicBezTo>
                <a:cubicBezTo>
                  <a:pt x="22448" y="11113"/>
                  <a:pt x="22568" y="11171"/>
                  <a:pt x="22622" y="11187"/>
                </a:cubicBezTo>
                <a:cubicBezTo>
                  <a:pt x="22689" y="11297"/>
                  <a:pt x="22603" y="11282"/>
                  <a:pt x="22498" y="11286"/>
                </a:cubicBezTo>
                <a:cubicBezTo>
                  <a:pt x="22464" y="11287"/>
                  <a:pt x="22335" y="11254"/>
                  <a:pt x="22399" y="11187"/>
                </a:cubicBezTo>
                <a:cubicBezTo>
                  <a:pt x="22432" y="11153"/>
                  <a:pt x="22428" y="11258"/>
                  <a:pt x="22423" y="11261"/>
                </a:cubicBezTo>
                <a:cubicBezTo>
                  <a:pt x="22342" y="11318"/>
                  <a:pt x="22370" y="11099"/>
                  <a:pt x="22374" y="11088"/>
                </a:cubicBezTo>
                <a:cubicBezTo>
                  <a:pt x="22408" y="10976"/>
                  <a:pt x="22475" y="10723"/>
                  <a:pt x="22547" y="10815"/>
                </a:cubicBezTo>
                <a:cubicBezTo>
                  <a:pt x="22580" y="10857"/>
                  <a:pt x="22603" y="10921"/>
                  <a:pt x="22572" y="10964"/>
                </a:cubicBezTo>
                <a:cubicBezTo>
                  <a:pt x="22530" y="11024"/>
                  <a:pt x="22491" y="11042"/>
                  <a:pt x="22423" y="11063"/>
                </a:cubicBezTo>
                <a:cubicBezTo>
                  <a:pt x="22396" y="11058"/>
                  <a:pt x="22318" y="11013"/>
                  <a:pt x="22374" y="10964"/>
                </a:cubicBezTo>
                <a:cubicBezTo>
                  <a:pt x="22531" y="10827"/>
                  <a:pt x="22655" y="10815"/>
                  <a:pt x="22845" y="10815"/>
                </a:cubicBezTo>
                <a:cubicBezTo>
                  <a:pt x="22870" y="10815"/>
                  <a:pt x="22878" y="10815"/>
                  <a:pt x="22870" y="10840"/>
                </a:cubicBezTo>
                <a:cubicBezTo>
                  <a:pt x="22778" y="11042"/>
                  <a:pt x="22566" y="11143"/>
                  <a:pt x="22349" y="11212"/>
                </a:cubicBezTo>
                <a:cubicBezTo>
                  <a:pt x="22215" y="11254"/>
                  <a:pt x="22273" y="11153"/>
                  <a:pt x="22299" y="11261"/>
                </a:cubicBezTo>
                <a:cubicBezTo>
                  <a:pt x="22299" y="11311"/>
                  <a:pt x="22299" y="11327"/>
                  <a:pt x="22250" y="11311"/>
                </a:cubicBezTo>
                <a:cubicBezTo>
                  <a:pt x="22250" y="11256"/>
                  <a:pt x="22236" y="11206"/>
                  <a:pt x="22275" y="11187"/>
                </a:cubicBezTo>
                <a:cubicBezTo>
                  <a:pt x="22278" y="11186"/>
                  <a:pt x="22441" y="11097"/>
                  <a:pt x="22473" y="11137"/>
                </a:cubicBezTo>
                <a:cubicBezTo>
                  <a:pt x="22495" y="11165"/>
                  <a:pt x="22471" y="11209"/>
                  <a:pt x="22448" y="11212"/>
                </a:cubicBezTo>
                <a:cubicBezTo>
                  <a:pt x="22368" y="11222"/>
                  <a:pt x="22362" y="10825"/>
                  <a:pt x="22374" y="10740"/>
                </a:cubicBezTo>
                <a:cubicBezTo>
                  <a:pt x="22381" y="10689"/>
                  <a:pt x="22533" y="10672"/>
                  <a:pt x="22572" y="10666"/>
                </a:cubicBezTo>
                <a:cubicBezTo>
                  <a:pt x="22602" y="10662"/>
                  <a:pt x="22640" y="10666"/>
                  <a:pt x="22671" y="10666"/>
                </a:cubicBezTo>
                <a:cubicBezTo>
                  <a:pt x="22671" y="10800"/>
                  <a:pt x="22667" y="10819"/>
                  <a:pt x="22597" y="10939"/>
                </a:cubicBezTo>
                <a:cubicBezTo>
                  <a:pt x="22567" y="10991"/>
                  <a:pt x="22546" y="11060"/>
                  <a:pt x="22523" y="11088"/>
                </a:cubicBezTo>
                <a:cubicBezTo>
                  <a:pt x="22470" y="11153"/>
                  <a:pt x="22477" y="11321"/>
                  <a:pt x="22473" y="11410"/>
                </a:cubicBezTo>
                <a:cubicBezTo>
                  <a:pt x="22471" y="11447"/>
                  <a:pt x="22480" y="11538"/>
                  <a:pt x="22448" y="11559"/>
                </a:cubicBezTo>
                <a:cubicBezTo>
                  <a:pt x="22355" y="11621"/>
                  <a:pt x="22628" y="11567"/>
                  <a:pt x="22671" y="11559"/>
                </a:cubicBezTo>
                <a:cubicBezTo>
                  <a:pt x="22694" y="11536"/>
                  <a:pt x="22698" y="11528"/>
                  <a:pt x="22721" y="11534"/>
                </a:cubicBezTo>
              </a:path>
              <a:path w="7417" h="4540">
                <a:moveTo>
                  <a:pt x="24383" y="9451"/>
                </a:moveTo>
                <a:cubicBezTo>
                  <a:pt x="24383" y="9418"/>
                  <a:pt x="24383" y="9384"/>
                  <a:pt x="24383" y="9351"/>
                </a:cubicBezTo>
              </a:path>
              <a:path w="7417" h="4540">
                <a:moveTo>
                  <a:pt x="24209" y="9302"/>
                </a:moveTo>
                <a:cubicBezTo>
                  <a:pt x="24180" y="9225"/>
                  <a:pt x="24190" y="9275"/>
                  <a:pt x="24209" y="9277"/>
                </a:cubicBezTo>
                <a:cubicBezTo>
                  <a:pt x="24308" y="9285"/>
                  <a:pt x="24402" y="9302"/>
                  <a:pt x="24507" y="9302"/>
                </a:cubicBezTo>
                <a:cubicBezTo>
                  <a:pt x="24705" y="9302"/>
                  <a:pt x="24904" y="9302"/>
                  <a:pt x="25102" y="9302"/>
                </a:cubicBezTo>
                <a:cubicBezTo>
                  <a:pt x="25034" y="9332"/>
                  <a:pt x="24930" y="9364"/>
                  <a:pt x="24829" y="9376"/>
                </a:cubicBezTo>
                <a:cubicBezTo>
                  <a:pt x="24682" y="9393"/>
                  <a:pt x="24553" y="9401"/>
                  <a:pt x="24408" y="9401"/>
                </a:cubicBezTo>
                <a:cubicBezTo>
                  <a:pt x="24350" y="9401"/>
                  <a:pt x="24292" y="9401"/>
                  <a:pt x="24234" y="9401"/>
                </a:cubicBezTo>
                <a:cubicBezTo>
                  <a:pt x="24234" y="9284"/>
                  <a:pt x="24256" y="9222"/>
                  <a:pt x="24333" y="9128"/>
                </a:cubicBezTo>
                <a:cubicBezTo>
                  <a:pt x="24401" y="9045"/>
                  <a:pt x="24419" y="9104"/>
                  <a:pt x="24532" y="9079"/>
                </a:cubicBezTo>
                <a:cubicBezTo>
                  <a:pt x="24604" y="9063"/>
                  <a:pt x="24597" y="9057"/>
                  <a:pt x="24606" y="9004"/>
                </a:cubicBezTo>
                <a:cubicBezTo>
                  <a:pt x="24616" y="8947"/>
                  <a:pt x="24590" y="8906"/>
                  <a:pt x="24581" y="8855"/>
                </a:cubicBezTo>
                <a:cubicBezTo>
                  <a:pt x="24568" y="8777"/>
                  <a:pt x="24581" y="8686"/>
                  <a:pt x="24581" y="8607"/>
                </a:cubicBezTo>
                <a:cubicBezTo>
                  <a:pt x="24603" y="8696"/>
                  <a:pt x="24655" y="8737"/>
                  <a:pt x="24681" y="8830"/>
                </a:cubicBezTo>
                <a:cubicBezTo>
                  <a:pt x="24698" y="8891"/>
                  <a:pt x="24678" y="8920"/>
                  <a:pt x="24705" y="8954"/>
                </a:cubicBezTo>
                <a:cubicBezTo>
                  <a:pt x="24728" y="8983"/>
                  <a:pt x="24764" y="8961"/>
                  <a:pt x="24805" y="8979"/>
                </a:cubicBezTo>
                <a:cubicBezTo>
                  <a:pt x="24872" y="9009"/>
                  <a:pt x="24909" y="9034"/>
                  <a:pt x="24929" y="9103"/>
                </a:cubicBezTo>
                <a:cubicBezTo>
                  <a:pt x="24960" y="9211"/>
                  <a:pt x="25012" y="9343"/>
                  <a:pt x="25028" y="9451"/>
                </a:cubicBezTo>
                <a:cubicBezTo>
                  <a:pt x="25028" y="9459"/>
                  <a:pt x="25028" y="9467"/>
                  <a:pt x="25028" y="9475"/>
                </a:cubicBezTo>
                <a:cubicBezTo>
                  <a:pt x="24920" y="9432"/>
                  <a:pt x="24797" y="9336"/>
                  <a:pt x="24780" y="9203"/>
                </a:cubicBezTo>
                <a:cubicBezTo>
                  <a:pt x="24759" y="9039"/>
                  <a:pt x="24822" y="8944"/>
                  <a:pt x="24854" y="8781"/>
                </a:cubicBezTo>
                <a:cubicBezTo>
                  <a:pt x="24854" y="8714"/>
                  <a:pt x="24846" y="8689"/>
                  <a:pt x="24904" y="8706"/>
                </a:cubicBezTo>
                <a:cubicBezTo>
                  <a:pt x="24904" y="8947"/>
                  <a:pt x="24930" y="9011"/>
                  <a:pt x="24805" y="9227"/>
                </a:cubicBezTo>
                <a:cubicBezTo>
                  <a:pt x="24696" y="9416"/>
                  <a:pt x="24684" y="9412"/>
                  <a:pt x="24507" y="9426"/>
                </a:cubicBezTo>
                <a:cubicBezTo>
                  <a:pt x="24408" y="9356"/>
                  <a:pt x="24387" y="9287"/>
                  <a:pt x="24383" y="9153"/>
                </a:cubicBezTo>
                <a:cubicBezTo>
                  <a:pt x="24377" y="8967"/>
                  <a:pt x="24672" y="8722"/>
                  <a:pt x="24805" y="8558"/>
                </a:cubicBezTo>
                <a:cubicBezTo>
                  <a:pt x="24937" y="8602"/>
                  <a:pt x="24761" y="8675"/>
                  <a:pt x="24681" y="8706"/>
                </a:cubicBezTo>
                <a:cubicBezTo>
                  <a:pt x="24393" y="8817"/>
                  <a:pt x="24605" y="8669"/>
                  <a:pt x="24631" y="8731"/>
                </a:cubicBezTo>
                <a:cubicBezTo>
                  <a:pt x="24760" y="9035"/>
                  <a:pt x="24303" y="9457"/>
                  <a:pt x="24135" y="9624"/>
                </a:cubicBezTo>
                <a:cubicBezTo>
                  <a:pt x="23944" y="9763"/>
                  <a:pt x="23926" y="9760"/>
                  <a:pt x="23837" y="9847"/>
                </a:cubicBezTo>
                <a:cubicBezTo>
                  <a:pt x="23947" y="9607"/>
                  <a:pt x="24177" y="9121"/>
                  <a:pt x="24408" y="8930"/>
                </a:cubicBezTo>
                <a:cubicBezTo>
                  <a:pt x="24454" y="8892"/>
                  <a:pt x="24437" y="8953"/>
                  <a:pt x="24457" y="8880"/>
                </a:cubicBezTo>
                <a:cubicBezTo>
                  <a:pt x="24476" y="8806"/>
                  <a:pt x="24484" y="8799"/>
                  <a:pt x="24482" y="8756"/>
                </a:cubicBezTo>
                <a:cubicBezTo>
                  <a:pt x="24552" y="8826"/>
                  <a:pt x="24614" y="8852"/>
                  <a:pt x="24755" y="8905"/>
                </a:cubicBezTo>
                <a:cubicBezTo>
                  <a:pt x="24906" y="8962"/>
                  <a:pt x="24939" y="8941"/>
                  <a:pt x="24954" y="9079"/>
                </a:cubicBezTo>
                <a:cubicBezTo>
                  <a:pt x="24960" y="9135"/>
                  <a:pt x="24765" y="9421"/>
                  <a:pt x="24705" y="9451"/>
                </a:cubicBezTo>
                <a:cubicBezTo>
                  <a:pt x="24676" y="9466"/>
                  <a:pt x="24698" y="9433"/>
                  <a:pt x="24705" y="9401"/>
                </a:cubicBezTo>
                <a:cubicBezTo>
                  <a:pt x="24705" y="9393"/>
                  <a:pt x="24705" y="9384"/>
                  <a:pt x="24705" y="9376"/>
                </a:cubicBezTo>
              </a:path>
              <a:path w="7417" h="4540">
                <a:moveTo>
                  <a:pt x="17686" y="13097"/>
                </a:moveTo>
                <a:cubicBezTo>
                  <a:pt x="17708" y="13079"/>
                  <a:pt x="17695" y="13046"/>
                  <a:pt x="17735" y="13022"/>
                </a:cubicBezTo>
                <a:cubicBezTo>
                  <a:pt x="17753" y="13011"/>
                  <a:pt x="17837" y="12980"/>
                  <a:pt x="17859" y="12973"/>
                </a:cubicBezTo>
                <a:cubicBezTo>
                  <a:pt x="18073" y="12905"/>
                  <a:pt x="18262" y="12821"/>
                  <a:pt x="18479" y="12750"/>
                </a:cubicBezTo>
                <a:cubicBezTo>
                  <a:pt x="19281" y="12489"/>
                  <a:pt x="20085" y="12433"/>
                  <a:pt x="20910" y="12328"/>
                </a:cubicBezTo>
                <a:cubicBezTo>
                  <a:pt x="21229" y="12287"/>
                  <a:pt x="21533" y="12302"/>
                  <a:pt x="21853" y="12278"/>
                </a:cubicBezTo>
                <a:cubicBezTo>
                  <a:pt x="21952" y="12270"/>
                  <a:pt x="22065" y="12253"/>
                  <a:pt x="22151" y="12229"/>
                </a:cubicBezTo>
                <a:cubicBezTo>
                  <a:pt x="22214" y="12211"/>
                  <a:pt x="22293" y="12164"/>
                  <a:pt x="22349" y="12154"/>
                </a:cubicBezTo>
                <a:cubicBezTo>
                  <a:pt x="22523" y="12122"/>
                  <a:pt x="22704" y="12108"/>
                  <a:pt x="22870" y="12055"/>
                </a:cubicBezTo>
                <a:cubicBezTo>
                  <a:pt x="22933" y="12035"/>
                  <a:pt x="22965" y="11998"/>
                  <a:pt x="23019" y="11981"/>
                </a:cubicBezTo>
                <a:cubicBezTo>
                  <a:pt x="23089" y="11959"/>
                  <a:pt x="23178" y="11923"/>
                  <a:pt x="23242" y="11906"/>
                </a:cubicBezTo>
                <a:cubicBezTo>
                  <a:pt x="23301" y="11890"/>
                  <a:pt x="23384" y="11901"/>
                  <a:pt x="23440" y="11881"/>
                </a:cubicBezTo>
                <a:cubicBezTo>
                  <a:pt x="23481" y="11867"/>
                  <a:pt x="23487" y="11879"/>
                  <a:pt x="23515" y="11857"/>
                </a:cubicBezTo>
                <a:cubicBezTo>
                  <a:pt x="23515" y="11832"/>
                  <a:pt x="23515" y="11824"/>
                  <a:pt x="23515" y="11807"/>
                </a:cubicBezTo>
                <a:cubicBezTo>
                  <a:pt x="23421" y="11776"/>
                  <a:pt x="23314" y="11745"/>
                  <a:pt x="23217" y="11708"/>
                </a:cubicBezTo>
                <a:cubicBezTo>
                  <a:pt x="23163" y="11687"/>
                  <a:pt x="23102" y="11664"/>
                  <a:pt x="23044" y="11633"/>
                </a:cubicBezTo>
                <a:cubicBezTo>
                  <a:pt x="23019" y="11633"/>
                  <a:pt x="23011" y="11633"/>
                  <a:pt x="23019" y="11609"/>
                </a:cubicBezTo>
                <a:cubicBezTo>
                  <a:pt x="23089" y="11641"/>
                  <a:pt x="23072" y="11629"/>
                  <a:pt x="23143" y="11658"/>
                </a:cubicBezTo>
                <a:cubicBezTo>
                  <a:pt x="23211" y="11686"/>
                  <a:pt x="23243" y="11701"/>
                  <a:pt x="23316" y="11708"/>
                </a:cubicBezTo>
                <a:cubicBezTo>
                  <a:pt x="23377" y="11714"/>
                  <a:pt x="23476" y="11681"/>
                  <a:pt x="23515" y="11733"/>
                </a:cubicBezTo>
                <a:cubicBezTo>
                  <a:pt x="23560" y="11792"/>
                  <a:pt x="23527" y="11858"/>
                  <a:pt x="23540" y="11931"/>
                </a:cubicBezTo>
                <a:cubicBezTo>
                  <a:pt x="23540" y="11939"/>
                  <a:pt x="23540" y="11948"/>
                  <a:pt x="23540" y="11956"/>
                </a:cubicBezTo>
                <a:cubicBezTo>
                  <a:pt x="23477" y="12029"/>
                  <a:pt x="23388" y="12123"/>
                  <a:pt x="23316" y="12254"/>
                </a:cubicBezTo>
                <a:cubicBezTo>
                  <a:pt x="23281" y="12317"/>
                  <a:pt x="23282" y="12342"/>
                  <a:pt x="23242" y="1240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724960" y="4884840"/>
            <a:ext cx="339840" cy="438120"/>
          </a:xfrm>
          <a:custGeom>
            <a:avLst/>
            <a:gdLst/>
            <a:ahLst/>
            <a:rect l="l" t="t" r="r" b="b"/>
            <a:pathLst>
              <a:path w="944" h="1217">
                <a:moveTo>
                  <a:pt x="24805" y="14412"/>
                </a:moveTo>
                <a:cubicBezTo>
                  <a:pt x="24789" y="14365"/>
                  <a:pt x="24711" y="14387"/>
                  <a:pt x="24656" y="14387"/>
                </a:cubicBezTo>
                <a:cubicBezTo>
                  <a:pt x="24600" y="14387"/>
                  <a:pt x="24578" y="14388"/>
                  <a:pt x="24532" y="14362"/>
                </a:cubicBezTo>
                <a:cubicBezTo>
                  <a:pt x="24493" y="14339"/>
                  <a:pt x="24425" y="14321"/>
                  <a:pt x="24408" y="14312"/>
                </a:cubicBezTo>
                <a:cubicBezTo>
                  <a:pt x="24361" y="14288"/>
                  <a:pt x="24366" y="14322"/>
                  <a:pt x="24333" y="14263"/>
                </a:cubicBezTo>
                <a:cubicBezTo>
                  <a:pt x="24300" y="14204"/>
                  <a:pt x="24252" y="14205"/>
                  <a:pt x="24234" y="14163"/>
                </a:cubicBezTo>
                <a:cubicBezTo>
                  <a:pt x="24234" y="14139"/>
                  <a:pt x="24234" y="14131"/>
                  <a:pt x="24234" y="14163"/>
                </a:cubicBezTo>
                <a:cubicBezTo>
                  <a:pt x="24367" y="14373"/>
                  <a:pt x="24501" y="14640"/>
                  <a:pt x="24705" y="14784"/>
                </a:cubicBezTo>
                <a:cubicBezTo>
                  <a:pt x="24705" y="14776"/>
                  <a:pt x="24705" y="14767"/>
                  <a:pt x="24705" y="14759"/>
                </a:cubicBezTo>
                <a:cubicBezTo>
                  <a:pt x="24647" y="14696"/>
                  <a:pt x="24569" y="14616"/>
                  <a:pt x="24532" y="14536"/>
                </a:cubicBezTo>
                <a:cubicBezTo>
                  <a:pt x="24520" y="14509"/>
                  <a:pt x="24487" y="14470"/>
                  <a:pt x="24482" y="14461"/>
                </a:cubicBezTo>
                <a:cubicBezTo>
                  <a:pt x="24441" y="14378"/>
                  <a:pt x="24543" y="14308"/>
                  <a:pt x="24581" y="14263"/>
                </a:cubicBezTo>
              </a:path>
              <a:path w="944" h="1217">
                <a:moveTo>
                  <a:pt x="24309" y="14089"/>
                </a:moveTo>
                <a:cubicBezTo>
                  <a:pt x="24309" y="13961"/>
                  <a:pt x="24303" y="14011"/>
                  <a:pt x="24433" y="13891"/>
                </a:cubicBezTo>
                <a:cubicBezTo>
                  <a:pt x="24490" y="13838"/>
                  <a:pt x="24549" y="13782"/>
                  <a:pt x="24606" y="13742"/>
                </a:cubicBezTo>
                <a:cubicBezTo>
                  <a:pt x="24678" y="13692"/>
                  <a:pt x="24716" y="13621"/>
                  <a:pt x="24805" y="13593"/>
                </a:cubicBezTo>
                <a:cubicBezTo>
                  <a:pt x="24829" y="13593"/>
                  <a:pt x="24837" y="13593"/>
                  <a:pt x="24829" y="13568"/>
                </a:cubicBezTo>
              </a:path>
              <a:path w="944" h="1217">
                <a:moveTo>
                  <a:pt x="24408" y="14114"/>
                </a:moveTo>
                <a:cubicBezTo>
                  <a:pt x="24408" y="14139"/>
                  <a:pt x="24408" y="14147"/>
                  <a:pt x="24408" y="14163"/>
                </a:cubicBezTo>
                <a:cubicBezTo>
                  <a:pt x="24481" y="14163"/>
                  <a:pt x="24426" y="14131"/>
                  <a:pt x="24482" y="14114"/>
                </a:cubicBezTo>
                <a:cubicBezTo>
                  <a:pt x="24540" y="14096"/>
                  <a:pt x="24623" y="14093"/>
                  <a:pt x="24681" y="14089"/>
                </a:cubicBezTo>
                <a:cubicBezTo>
                  <a:pt x="24845" y="14078"/>
                  <a:pt x="25013" y="14089"/>
                  <a:pt x="25177" y="14089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4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2/3 of anterior and lateral surfaces of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border of pa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vasti: "/>
          <p:cNvPicPr/>
          <p:nvPr/>
        </p:nvPicPr>
        <p:blipFill>
          <a:blip r:embed="rId2"/>
          <a:stretch/>
        </p:blipFill>
        <p:spPr>
          <a:xfrm>
            <a:off x="7232760" y="-609480"/>
            <a:ext cx="1911240" cy="7467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411960" y="2768760"/>
            <a:ext cx="2554200" cy="884160"/>
          </a:xfrm>
          <a:custGeom>
            <a:avLst/>
            <a:gdLst/>
            <a:ahLst/>
            <a:rect l="l" t="t" r="r" b="b"/>
            <a:pathLst>
              <a:path w="7095" h="2457">
                <a:moveTo>
                  <a:pt x="24879" y="8384"/>
                </a:moveTo>
                <a:cubicBezTo>
                  <a:pt x="24855" y="8399"/>
                  <a:pt x="24855" y="8401"/>
                  <a:pt x="24805" y="8409"/>
                </a:cubicBezTo>
                <a:cubicBezTo>
                  <a:pt x="24624" y="8439"/>
                  <a:pt x="24461" y="8493"/>
                  <a:pt x="24284" y="8533"/>
                </a:cubicBezTo>
                <a:cubicBezTo>
                  <a:pt x="24166" y="8560"/>
                  <a:pt x="24056" y="8558"/>
                  <a:pt x="23937" y="8558"/>
                </a:cubicBezTo>
                <a:cubicBezTo>
                  <a:pt x="23968" y="8484"/>
                  <a:pt x="23874" y="8487"/>
                  <a:pt x="24011" y="8483"/>
                </a:cubicBezTo>
                <a:cubicBezTo>
                  <a:pt x="24299" y="8475"/>
                  <a:pt x="24624" y="8466"/>
                  <a:pt x="24879" y="8607"/>
                </a:cubicBezTo>
                <a:cubicBezTo>
                  <a:pt x="24865" y="8628"/>
                  <a:pt x="24642" y="8632"/>
                  <a:pt x="24507" y="8632"/>
                </a:cubicBezTo>
                <a:cubicBezTo>
                  <a:pt x="24481" y="8632"/>
                  <a:pt x="24164" y="8682"/>
                  <a:pt x="24135" y="8582"/>
                </a:cubicBezTo>
                <a:cubicBezTo>
                  <a:pt x="24080" y="8391"/>
                  <a:pt x="24555" y="8314"/>
                  <a:pt x="24631" y="8285"/>
                </a:cubicBezTo>
                <a:cubicBezTo>
                  <a:pt x="24830" y="8285"/>
                  <a:pt x="24701" y="8285"/>
                  <a:pt x="24557" y="8285"/>
                </a:cubicBezTo>
                <a:cubicBezTo>
                  <a:pt x="24456" y="8285"/>
                  <a:pt x="24425" y="8305"/>
                  <a:pt x="24408" y="8235"/>
                </a:cubicBezTo>
                <a:cubicBezTo>
                  <a:pt x="24425" y="8183"/>
                  <a:pt x="24393" y="8192"/>
                  <a:pt x="24457" y="8186"/>
                </a:cubicBezTo>
                <a:cubicBezTo>
                  <a:pt x="24577" y="8175"/>
                  <a:pt x="24518" y="8208"/>
                  <a:pt x="24557" y="8285"/>
                </a:cubicBezTo>
                <a:cubicBezTo>
                  <a:pt x="24424" y="8275"/>
                  <a:pt x="24417" y="8272"/>
                  <a:pt x="24408" y="8136"/>
                </a:cubicBezTo>
                <a:cubicBezTo>
                  <a:pt x="24408" y="8128"/>
                  <a:pt x="24408" y="8119"/>
                  <a:pt x="24408" y="8111"/>
                </a:cubicBezTo>
                <a:cubicBezTo>
                  <a:pt x="24498" y="8137"/>
                  <a:pt x="24476" y="8234"/>
                  <a:pt x="24482" y="8111"/>
                </a:cubicBezTo>
                <a:cubicBezTo>
                  <a:pt x="24486" y="8026"/>
                  <a:pt x="24453" y="7997"/>
                  <a:pt x="24532" y="7987"/>
                </a:cubicBezTo>
                <a:cubicBezTo>
                  <a:pt x="24613" y="7977"/>
                  <a:pt x="24581" y="7930"/>
                  <a:pt x="24581" y="7838"/>
                </a:cubicBezTo>
                <a:cubicBezTo>
                  <a:pt x="24581" y="7718"/>
                  <a:pt x="24567" y="7823"/>
                  <a:pt x="24557" y="7838"/>
                </a:cubicBezTo>
                <a:cubicBezTo>
                  <a:pt x="24540" y="7864"/>
                  <a:pt x="24483" y="7893"/>
                  <a:pt x="24433" y="7838"/>
                </a:cubicBezTo>
                <a:cubicBezTo>
                  <a:pt x="24379" y="7779"/>
                  <a:pt x="24353" y="7725"/>
                  <a:pt x="24309" y="7689"/>
                </a:cubicBezTo>
                <a:cubicBezTo>
                  <a:pt x="24301" y="7689"/>
                  <a:pt x="24292" y="7689"/>
                  <a:pt x="24284" y="7689"/>
                </a:cubicBezTo>
                <a:cubicBezTo>
                  <a:pt x="24259" y="7731"/>
                  <a:pt x="24260" y="7738"/>
                  <a:pt x="24259" y="7789"/>
                </a:cubicBezTo>
                <a:cubicBezTo>
                  <a:pt x="24258" y="7847"/>
                  <a:pt x="24204" y="8496"/>
                  <a:pt x="24284" y="8508"/>
                </a:cubicBezTo>
                <a:cubicBezTo>
                  <a:pt x="24426" y="8529"/>
                  <a:pt x="24585" y="8508"/>
                  <a:pt x="24730" y="8508"/>
                </a:cubicBezTo>
              </a:path>
              <a:path w="7095" h="2457">
                <a:moveTo>
                  <a:pt x="17810" y="10021"/>
                </a:moveTo>
                <a:cubicBezTo>
                  <a:pt x="17839" y="9926"/>
                  <a:pt x="17744" y="9925"/>
                  <a:pt x="17909" y="9897"/>
                </a:cubicBezTo>
                <a:cubicBezTo>
                  <a:pt x="18281" y="9835"/>
                  <a:pt x="18700" y="9899"/>
                  <a:pt x="19075" y="9872"/>
                </a:cubicBezTo>
                <a:cubicBezTo>
                  <a:pt x="19179" y="9864"/>
                  <a:pt x="19157" y="9857"/>
                  <a:pt x="19248" y="9823"/>
                </a:cubicBezTo>
                <a:cubicBezTo>
                  <a:pt x="19479" y="9737"/>
                  <a:pt x="19703" y="9635"/>
                  <a:pt x="19943" y="9575"/>
                </a:cubicBezTo>
                <a:cubicBezTo>
                  <a:pt x="20105" y="9534"/>
                  <a:pt x="20271" y="9504"/>
                  <a:pt x="20439" y="9475"/>
                </a:cubicBezTo>
                <a:cubicBezTo>
                  <a:pt x="20562" y="9454"/>
                  <a:pt x="20687" y="9431"/>
                  <a:pt x="20811" y="9401"/>
                </a:cubicBezTo>
                <a:cubicBezTo>
                  <a:pt x="20939" y="9369"/>
                  <a:pt x="21123" y="9371"/>
                  <a:pt x="21258" y="9327"/>
                </a:cubicBezTo>
                <a:cubicBezTo>
                  <a:pt x="21322" y="9306"/>
                  <a:pt x="21361" y="9293"/>
                  <a:pt x="21431" y="9277"/>
                </a:cubicBezTo>
                <a:cubicBezTo>
                  <a:pt x="21479" y="9266"/>
                  <a:pt x="21508" y="9262"/>
                  <a:pt x="21555" y="9252"/>
                </a:cubicBezTo>
                <a:cubicBezTo>
                  <a:pt x="21611" y="9240"/>
                  <a:pt x="21673" y="9232"/>
                  <a:pt x="21729" y="9227"/>
                </a:cubicBezTo>
                <a:cubicBezTo>
                  <a:pt x="21838" y="9218"/>
                  <a:pt x="21977" y="9240"/>
                  <a:pt x="22051" y="9203"/>
                </a:cubicBezTo>
                <a:cubicBezTo>
                  <a:pt x="22084" y="9187"/>
                  <a:pt x="22106" y="9170"/>
                  <a:pt x="22126" y="9153"/>
                </a:cubicBezTo>
                <a:cubicBezTo>
                  <a:pt x="22151" y="9153"/>
                  <a:pt x="22159" y="9153"/>
                  <a:pt x="22151" y="9128"/>
                </a:cubicBezTo>
                <a:cubicBezTo>
                  <a:pt x="21954" y="9103"/>
                  <a:pt x="21754" y="9069"/>
                  <a:pt x="21555" y="9054"/>
                </a:cubicBezTo>
                <a:cubicBezTo>
                  <a:pt x="21462" y="9047"/>
                  <a:pt x="21431" y="9018"/>
                  <a:pt x="21357" y="9004"/>
                </a:cubicBezTo>
                <a:cubicBezTo>
                  <a:pt x="21315" y="9004"/>
                  <a:pt x="21307" y="9004"/>
                  <a:pt x="21282" y="9004"/>
                </a:cubicBezTo>
                <a:cubicBezTo>
                  <a:pt x="21378" y="8964"/>
                  <a:pt x="21566" y="8883"/>
                  <a:pt x="21704" y="8855"/>
                </a:cubicBezTo>
                <a:cubicBezTo>
                  <a:pt x="21815" y="8832"/>
                  <a:pt x="21951" y="8815"/>
                  <a:pt x="22027" y="8855"/>
                </a:cubicBezTo>
                <a:cubicBezTo>
                  <a:pt x="22027" y="8880"/>
                  <a:pt x="22027" y="8888"/>
                  <a:pt x="22027" y="8905"/>
                </a:cubicBezTo>
              </a:path>
              <a:path w="7095" h="2457">
                <a:moveTo>
                  <a:pt x="22126" y="9203"/>
                </a:moveTo>
                <a:cubicBezTo>
                  <a:pt x="22192" y="9224"/>
                  <a:pt x="22120" y="9277"/>
                  <a:pt x="22101" y="9327"/>
                </a:cubicBezTo>
                <a:cubicBezTo>
                  <a:pt x="22032" y="9508"/>
                  <a:pt x="21994" y="9541"/>
                  <a:pt x="21927" y="9674"/>
                </a:cubicBezTo>
                <a:cubicBezTo>
                  <a:pt x="21907" y="9715"/>
                  <a:pt x="21872" y="9711"/>
                  <a:pt x="21853" y="9748"/>
                </a:cubicBezTo>
                <a:cubicBezTo>
                  <a:pt x="21799" y="9856"/>
                  <a:pt x="21716" y="10002"/>
                  <a:pt x="21704" y="10120"/>
                </a:cubicBezTo>
                <a:cubicBezTo>
                  <a:pt x="21704" y="10145"/>
                  <a:pt x="21704" y="10153"/>
                  <a:pt x="21679" y="101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31040" y="4848120"/>
            <a:ext cx="277920" cy="590760"/>
          </a:xfrm>
          <a:custGeom>
            <a:avLst/>
            <a:gdLst/>
            <a:ahLst/>
            <a:rect l="l" t="t" r="r" b="b"/>
            <a:pathLst>
              <a:path w="770" h="1638">
                <a:moveTo>
                  <a:pt x="20638" y="14585"/>
                </a:moveTo>
                <a:cubicBezTo>
                  <a:pt x="20626" y="14270"/>
                  <a:pt x="20606" y="13857"/>
                  <a:pt x="20687" y="13494"/>
                </a:cubicBezTo>
                <a:cubicBezTo>
                  <a:pt x="20702" y="13426"/>
                  <a:pt x="20743" y="13551"/>
                  <a:pt x="20762" y="13618"/>
                </a:cubicBezTo>
                <a:cubicBezTo>
                  <a:pt x="20820" y="13998"/>
                  <a:pt x="20749" y="14275"/>
                  <a:pt x="20662" y="14635"/>
                </a:cubicBezTo>
                <a:cubicBezTo>
                  <a:pt x="20643" y="14750"/>
                  <a:pt x="20635" y="14766"/>
                  <a:pt x="20638" y="14833"/>
                </a:cubicBezTo>
                <a:cubicBezTo>
                  <a:pt x="20603" y="14865"/>
                  <a:pt x="20548" y="14932"/>
                  <a:pt x="20489" y="14957"/>
                </a:cubicBezTo>
                <a:cubicBezTo>
                  <a:pt x="20170" y="15093"/>
                  <a:pt x="20679" y="14373"/>
                  <a:pt x="20836" y="14064"/>
                </a:cubicBezTo>
                <a:cubicBezTo>
                  <a:pt x="20952" y="13851"/>
                  <a:pt x="20953" y="13809"/>
                  <a:pt x="21059" y="13717"/>
                </a:cubicBezTo>
                <a:cubicBezTo>
                  <a:pt x="21098" y="13970"/>
                  <a:pt x="21166" y="14182"/>
                  <a:pt x="20985" y="14436"/>
                </a:cubicBezTo>
                <a:cubicBezTo>
                  <a:pt x="20913" y="14536"/>
                  <a:pt x="20707" y="14696"/>
                  <a:pt x="20563" y="14660"/>
                </a:cubicBezTo>
                <a:cubicBezTo>
                  <a:pt x="20510" y="14647"/>
                  <a:pt x="20538" y="14520"/>
                  <a:pt x="20538" y="14461"/>
                </a:cubicBezTo>
                <a:cubicBezTo>
                  <a:pt x="20600" y="14383"/>
                  <a:pt x="20713" y="14166"/>
                  <a:pt x="20737" y="14263"/>
                </a:cubicBezTo>
                <a:cubicBezTo>
                  <a:pt x="20741" y="14277"/>
                  <a:pt x="20811" y="14671"/>
                  <a:pt x="20762" y="14709"/>
                </a:cubicBezTo>
                <a:cubicBezTo>
                  <a:pt x="20633" y="14811"/>
                  <a:pt x="20312" y="14331"/>
                  <a:pt x="20414" y="14461"/>
                </a:cubicBezTo>
                <a:cubicBezTo>
                  <a:pt x="20455" y="14513"/>
                  <a:pt x="20523" y="14663"/>
                  <a:pt x="20489" y="14734"/>
                </a:cubicBezTo>
                <a:cubicBezTo>
                  <a:pt x="20464" y="14759"/>
                  <a:pt x="20439" y="14783"/>
                  <a:pt x="20414" y="14808"/>
                </a:cubicBezTo>
                <a:cubicBezTo>
                  <a:pt x="20313" y="14689"/>
                  <a:pt x="20374" y="14423"/>
                  <a:pt x="20439" y="14238"/>
                </a:cubicBezTo>
                <a:cubicBezTo>
                  <a:pt x="20482" y="14153"/>
                  <a:pt x="20529" y="14136"/>
                  <a:pt x="20638" y="14188"/>
                </a:cubicBezTo>
                <a:cubicBezTo>
                  <a:pt x="20882" y="14267"/>
                  <a:pt x="20964" y="14305"/>
                  <a:pt x="20985" y="14585"/>
                </a:cubicBezTo>
                <a:cubicBezTo>
                  <a:pt x="20990" y="14649"/>
                  <a:pt x="20891" y="14668"/>
                  <a:pt x="20861" y="14635"/>
                </a:cubicBezTo>
                <a:cubicBezTo>
                  <a:pt x="20811" y="14579"/>
                  <a:pt x="20920" y="14586"/>
                  <a:pt x="20935" y="14585"/>
                </a:cubicBezTo>
                <a:cubicBezTo>
                  <a:pt x="21051" y="14580"/>
                  <a:pt x="21215" y="14893"/>
                  <a:pt x="21134" y="15007"/>
                </a:cubicBezTo>
                <a:cubicBezTo>
                  <a:pt x="20967" y="15242"/>
                  <a:pt x="20737" y="15076"/>
                  <a:pt x="20687" y="14883"/>
                </a:cubicBezTo>
                <a:cubicBezTo>
                  <a:pt x="20667" y="14701"/>
                  <a:pt x="20658" y="14668"/>
                  <a:pt x="20662" y="14560"/>
                </a:cubicBezTo>
                <a:cubicBezTo>
                  <a:pt x="20741" y="14531"/>
                  <a:pt x="20763" y="14532"/>
                  <a:pt x="20836" y="14610"/>
                </a:cubicBezTo>
                <a:cubicBezTo>
                  <a:pt x="20874" y="14650"/>
                  <a:pt x="20844" y="14629"/>
                  <a:pt x="20762" y="14635"/>
                </a:cubicBezTo>
                <a:cubicBezTo>
                  <a:pt x="20754" y="14635"/>
                  <a:pt x="20745" y="14635"/>
                  <a:pt x="20737" y="1463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893000" y="3598920"/>
            <a:ext cx="223920" cy="384120"/>
          </a:xfrm>
          <a:custGeom>
            <a:avLst/>
            <a:gdLst/>
            <a:ahLst/>
            <a:rect l="l" t="t" r="r" b="b"/>
            <a:pathLst>
              <a:path w="621" h="1068">
                <a:moveTo>
                  <a:pt x="22423" y="10691"/>
                </a:moveTo>
                <a:cubicBezTo>
                  <a:pt x="22408" y="10665"/>
                  <a:pt x="22377" y="10592"/>
                  <a:pt x="22349" y="10542"/>
                </a:cubicBezTo>
                <a:cubicBezTo>
                  <a:pt x="22349" y="10496"/>
                  <a:pt x="22331" y="10260"/>
                  <a:pt x="22423" y="10468"/>
                </a:cubicBezTo>
                <a:cubicBezTo>
                  <a:pt x="22434" y="10494"/>
                  <a:pt x="22648" y="11005"/>
                  <a:pt x="22523" y="11063"/>
                </a:cubicBezTo>
                <a:cubicBezTo>
                  <a:pt x="22471" y="11063"/>
                  <a:pt x="22453" y="11061"/>
                  <a:pt x="22448" y="11013"/>
                </a:cubicBezTo>
                <a:cubicBezTo>
                  <a:pt x="22332" y="10877"/>
                  <a:pt x="22275" y="10698"/>
                  <a:pt x="22250" y="10517"/>
                </a:cubicBezTo>
                <a:cubicBezTo>
                  <a:pt x="22242" y="10459"/>
                  <a:pt x="22250" y="10119"/>
                  <a:pt x="22250" y="10145"/>
                </a:cubicBezTo>
                <a:cubicBezTo>
                  <a:pt x="22250" y="10288"/>
                  <a:pt x="22330" y="10749"/>
                  <a:pt x="22225" y="10815"/>
                </a:cubicBezTo>
                <a:cubicBezTo>
                  <a:pt x="22217" y="10815"/>
                  <a:pt x="22208" y="10815"/>
                  <a:pt x="22200" y="10815"/>
                </a:cubicBezTo>
                <a:cubicBezTo>
                  <a:pt x="22184" y="10730"/>
                  <a:pt x="22175" y="10655"/>
                  <a:pt x="22175" y="10567"/>
                </a:cubicBezTo>
                <a:cubicBezTo>
                  <a:pt x="22175" y="10454"/>
                  <a:pt x="22309" y="10533"/>
                  <a:pt x="22349" y="10592"/>
                </a:cubicBezTo>
                <a:cubicBezTo>
                  <a:pt x="22407" y="10678"/>
                  <a:pt x="22502" y="10879"/>
                  <a:pt x="22399" y="10864"/>
                </a:cubicBezTo>
                <a:cubicBezTo>
                  <a:pt x="22311" y="10851"/>
                  <a:pt x="22236" y="10668"/>
                  <a:pt x="22225" y="10592"/>
                </a:cubicBezTo>
                <a:cubicBezTo>
                  <a:pt x="22225" y="10476"/>
                  <a:pt x="22225" y="10410"/>
                  <a:pt x="22225" y="10319"/>
                </a:cubicBezTo>
                <a:cubicBezTo>
                  <a:pt x="22225" y="10302"/>
                  <a:pt x="22225" y="10286"/>
                  <a:pt x="22225" y="10269"/>
                </a:cubicBezTo>
                <a:cubicBezTo>
                  <a:pt x="22225" y="10331"/>
                  <a:pt x="22216" y="10800"/>
                  <a:pt x="22200" y="10790"/>
                </a:cubicBezTo>
                <a:cubicBezTo>
                  <a:pt x="22130" y="10746"/>
                  <a:pt x="22152" y="10486"/>
                  <a:pt x="22151" y="10418"/>
                </a:cubicBezTo>
                <a:cubicBezTo>
                  <a:pt x="22149" y="10257"/>
                  <a:pt x="22165" y="9886"/>
                  <a:pt x="22175" y="10046"/>
                </a:cubicBezTo>
                <a:cubicBezTo>
                  <a:pt x="22187" y="10227"/>
                  <a:pt x="22175" y="10411"/>
                  <a:pt x="22175" y="10592"/>
                </a:cubicBezTo>
                <a:cubicBezTo>
                  <a:pt x="22175" y="10607"/>
                  <a:pt x="22175" y="10758"/>
                  <a:pt x="22175" y="10691"/>
                </a:cubicBezTo>
                <a:cubicBezTo>
                  <a:pt x="22175" y="10573"/>
                  <a:pt x="22166" y="10520"/>
                  <a:pt x="22250" y="10443"/>
                </a:cubicBezTo>
                <a:cubicBezTo>
                  <a:pt x="22258" y="10435"/>
                  <a:pt x="22267" y="10426"/>
                  <a:pt x="22275" y="10418"/>
                </a:cubicBezTo>
                <a:cubicBezTo>
                  <a:pt x="22382" y="10418"/>
                  <a:pt x="22444" y="10392"/>
                  <a:pt x="22448" y="10517"/>
                </a:cubicBezTo>
                <a:cubicBezTo>
                  <a:pt x="22450" y="10585"/>
                  <a:pt x="22484" y="10716"/>
                  <a:pt x="22399" y="10740"/>
                </a:cubicBezTo>
                <a:cubicBezTo>
                  <a:pt x="22331" y="10759"/>
                  <a:pt x="22277" y="10726"/>
                  <a:pt x="22225" y="10716"/>
                </a:cubicBezTo>
                <a:cubicBezTo>
                  <a:pt x="22165" y="10704"/>
                  <a:pt x="22123" y="10731"/>
                  <a:pt x="22076" y="10740"/>
                </a:cubicBezTo>
                <a:cubicBezTo>
                  <a:pt x="22027" y="10750"/>
                  <a:pt x="22019" y="10731"/>
                  <a:pt x="21977" y="10765"/>
                </a:cubicBezTo>
                <a:cubicBezTo>
                  <a:pt x="21954" y="10788"/>
                  <a:pt x="21950" y="10796"/>
                  <a:pt x="21927" y="10790"/>
                </a:cubicBezTo>
                <a:cubicBezTo>
                  <a:pt x="21930" y="10828"/>
                  <a:pt x="21907" y="10893"/>
                  <a:pt x="21952" y="10914"/>
                </a:cubicBezTo>
                <a:cubicBezTo>
                  <a:pt x="21975" y="10925"/>
                  <a:pt x="22027" y="10936"/>
                  <a:pt x="22051" y="10939"/>
                </a:cubicBezTo>
                <a:cubicBezTo>
                  <a:pt x="22170" y="10955"/>
                  <a:pt x="22302" y="10939"/>
                  <a:pt x="22423" y="10939"/>
                </a:cubicBezTo>
                <a:cubicBezTo>
                  <a:pt x="22387" y="10939"/>
                  <a:pt x="22348" y="10859"/>
                  <a:pt x="22299" y="10740"/>
                </a:cubicBezTo>
                <a:cubicBezTo>
                  <a:pt x="22270" y="10671"/>
                  <a:pt x="22246" y="10596"/>
                  <a:pt x="22200" y="10542"/>
                </a:cubicBezTo>
                <a:cubicBezTo>
                  <a:pt x="22177" y="10519"/>
                  <a:pt x="22169" y="10515"/>
                  <a:pt x="22175" y="10492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643720" y="2714760"/>
            <a:ext cx="947520" cy="839520"/>
          </a:xfrm>
          <a:custGeom>
            <a:avLst/>
            <a:gdLst/>
            <a:ahLst/>
            <a:rect l="l" t="t" r="r" b="b"/>
            <a:pathLst>
              <a:path w="2630" h="2332">
                <a:moveTo>
                  <a:pt x="15825" y="9451"/>
                </a:moveTo>
                <a:cubicBezTo>
                  <a:pt x="15982" y="9533"/>
                  <a:pt x="16101" y="9659"/>
                  <a:pt x="16222" y="9798"/>
                </a:cubicBezTo>
                <a:cubicBezTo>
                  <a:pt x="16245" y="9821"/>
                  <a:pt x="16249" y="9829"/>
                  <a:pt x="16272" y="9823"/>
                </a:cubicBezTo>
              </a:path>
              <a:path w="2630" h="2332">
                <a:moveTo>
                  <a:pt x="15677" y="9351"/>
                </a:moveTo>
                <a:cubicBezTo>
                  <a:pt x="15731" y="9351"/>
                  <a:pt x="15753" y="9358"/>
                  <a:pt x="15776" y="9327"/>
                </a:cubicBezTo>
                <a:cubicBezTo>
                  <a:pt x="15808" y="9285"/>
                  <a:pt x="15939" y="9239"/>
                  <a:pt x="15974" y="9227"/>
                </a:cubicBezTo>
                <a:cubicBezTo>
                  <a:pt x="16059" y="9199"/>
                  <a:pt x="16135" y="9203"/>
                  <a:pt x="16222" y="9203"/>
                </a:cubicBezTo>
                <a:cubicBezTo>
                  <a:pt x="16303" y="9203"/>
                  <a:pt x="16330" y="9197"/>
                  <a:pt x="16396" y="9252"/>
                </a:cubicBezTo>
                <a:cubicBezTo>
                  <a:pt x="16447" y="9294"/>
                  <a:pt x="16421" y="9391"/>
                  <a:pt x="16421" y="9451"/>
                </a:cubicBezTo>
                <a:cubicBezTo>
                  <a:pt x="16421" y="9548"/>
                  <a:pt x="16410" y="9629"/>
                  <a:pt x="16396" y="9723"/>
                </a:cubicBezTo>
                <a:cubicBezTo>
                  <a:pt x="16393" y="9742"/>
                  <a:pt x="16385" y="9861"/>
                  <a:pt x="16371" y="9872"/>
                </a:cubicBezTo>
                <a:cubicBezTo>
                  <a:pt x="16363" y="9872"/>
                  <a:pt x="16354" y="9872"/>
                  <a:pt x="16346" y="9872"/>
                </a:cubicBezTo>
              </a:path>
              <a:path w="2630" h="2332">
                <a:moveTo>
                  <a:pt x="16718" y="9178"/>
                </a:moveTo>
                <a:cubicBezTo>
                  <a:pt x="16718" y="9116"/>
                  <a:pt x="16723" y="9088"/>
                  <a:pt x="16743" y="9029"/>
                </a:cubicBezTo>
                <a:cubicBezTo>
                  <a:pt x="16796" y="8877"/>
                  <a:pt x="16890" y="8729"/>
                  <a:pt x="16966" y="8582"/>
                </a:cubicBezTo>
                <a:cubicBezTo>
                  <a:pt x="16991" y="8533"/>
                  <a:pt x="17000" y="8516"/>
                  <a:pt x="17016" y="8483"/>
                </a:cubicBezTo>
                <a:cubicBezTo>
                  <a:pt x="16912" y="8483"/>
                  <a:pt x="16886" y="8484"/>
                  <a:pt x="16793" y="8533"/>
                </a:cubicBezTo>
                <a:cubicBezTo>
                  <a:pt x="16715" y="8574"/>
                  <a:pt x="16722" y="8613"/>
                  <a:pt x="16669" y="8682"/>
                </a:cubicBezTo>
                <a:cubicBezTo>
                  <a:pt x="16563" y="8820"/>
                  <a:pt x="16460" y="8969"/>
                  <a:pt x="16396" y="9128"/>
                </a:cubicBezTo>
                <a:cubicBezTo>
                  <a:pt x="16396" y="9136"/>
                  <a:pt x="16396" y="9145"/>
                  <a:pt x="16396" y="9153"/>
                </a:cubicBezTo>
                <a:cubicBezTo>
                  <a:pt x="16427" y="9174"/>
                  <a:pt x="16509" y="9244"/>
                  <a:pt x="16545" y="9252"/>
                </a:cubicBezTo>
                <a:cubicBezTo>
                  <a:pt x="16619" y="9268"/>
                  <a:pt x="16781" y="9264"/>
                  <a:pt x="16842" y="9227"/>
                </a:cubicBezTo>
                <a:cubicBezTo>
                  <a:pt x="16878" y="9205"/>
                  <a:pt x="16925" y="9183"/>
                  <a:pt x="16966" y="9178"/>
                </a:cubicBezTo>
                <a:cubicBezTo>
                  <a:pt x="17030" y="9170"/>
                  <a:pt x="17055" y="9181"/>
                  <a:pt x="17115" y="9153"/>
                </a:cubicBezTo>
                <a:cubicBezTo>
                  <a:pt x="17234" y="9098"/>
                  <a:pt x="17377" y="9029"/>
                  <a:pt x="17462" y="8954"/>
                </a:cubicBezTo>
              </a:path>
              <a:path w="2630" h="2332">
                <a:moveTo>
                  <a:pt x="17314" y="8508"/>
                </a:moveTo>
                <a:cubicBezTo>
                  <a:pt x="17314" y="8457"/>
                  <a:pt x="17332" y="8428"/>
                  <a:pt x="17363" y="8384"/>
                </a:cubicBezTo>
                <a:cubicBezTo>
                  <a:pt x="17447" y="8266"/>
                  <a:pt x="17478" y="8131"/>
                  <a:pt x="17537" y="8012"/>
                </a:cubicBezTo>
                <a:cubicBezTo>
                  <a:pt x="17556" y="7973"/>
                  <a:pt x="17562" y="7984"/>
                  <a:pt x="17562" y="7938"/>
                </a:cubicBezTo>
                <a:cubicBezTo>
                  <a:pt x="17475" y="7938"/>
                  <a:pt x="17389" y="7937"/>
                  <a:pt x="17338" y="7962"/>
                </a:cubicBezTo>
                <a:cubicBezTo>
                  <a:pt x="17303" y="7979"/>
                  <a:pt x="17311" y="7983"/>
                  <a:pt x="17289" y="8012"/>
                </a:cubicBezTo>
                <a:cubicBezTo>
                  <a:pt x="17168" y="8173"/>
                  <a:pt x="17196" y="8415"/>
                  <a:pt x="17190" y="8607"/>
                </a:cubicBezTo>
                <a:cubicBezTo>
                  <a:pt x="17190" y="8632"/>
                  <a:pt x="17190" y="8640"/>
                  <a:pt x="17190" y="8657"/>
                </a:cubicBezTo>
                <a:cubicBezTo>
                  <a:pt x="17298" y="8657"/>
                  <a:pt x="17350" y="8642"/>
                  <a:pt x="17462" y="8607"/>
                </a:cubicBezTo>
                <a:cubicBezTo>
                  <a:pt x="17525" y="8588"/>
                  <a:pt x="17572" y="8558"/>
                  <a:pt x="17636" y="8558"/>
                </a:cubicBezTo>
                <a:cubicBezTo>
                  <a:pt x="17699" y="8558"/>
                  <a:pt x="17733" y="8550"/>
                  <a:pt x="17785" y="8533"/>
                </a:cubicBezTo>
                <a:cubicBezTo>
                  <a:pt x="17823" y="8520"/>
                  <a:pt x="17806" y="8508"/>
                  <a:pt x="17859" y="8508"/>
                </a:cubicBezTo>
                <a:cubicBezTo>
                  <a:pt x="17884" y="8508"/>
                  <a:pt x="17892" y="8508"/>
                  <a:pt x="17884" y="8483"/>
                </a:cubicBezTo>
              </a:path>
              <a:path w="2630" h="2332">
                <a:moveTo>
                  <a:pt x="17810" y="7789"/>
                </a:moveTo>
                <a:cubicBezTo>
                  <a:pt x="17779" y="7789"/>
                  <a:pt x="17847" y="7856"/>
                  <a:pt x="17884" y="7888"/>
                </a:cubicBezTo>
                <a:cubicBezTo>
                  <a:pt x="17952" y="7947"/>
                  <a:pt x="18022" y="7995"/>
                  <a:pt x="18083" y="8062"/>
                </a:cubicBezTo>
                <a:cubicBezTo>
                  <a:pt x="18136" y="8120"/>
                  <a:pt x="18192" y="8177"/>
                  <a:pt x="18231" y="8235"/>
                </a:cubicBezTo>
                <a:cubicBezTo>
                  <a:pt x="18261" y="8265"/>
                  <a:pt x="18275" y="8276"/>
                  <a:pt x="18306" y="8285"/>
                </a:cubicBezTo>
              </a:path>
              <a:path w="2630" h="2332">
                <a:moveTo>
                  <a:pt x="17735" y="7764"/>
                </a:moveTo>
                <a:cubicBezTo>
                  <a:pt x="17735" y="7708"/>
                  <a:pt x="17747" y="7690"/>
                  <a:pt x="17760" y="7665"/>
                </a:cubicBezTo>
                <a:cubicBezTo>
                  <a:pt x="17784" y="7618"/>
                  <a:pt x="17795" y="7626"/>
                  <a:pt x="17835" y="7590"/>
                </a:cubicBezTo>
                <a:cubicBezTo>
                  <a:pt x="17852" y="7574"/>
                  <a:pt x="17905" y="7543"/>
                  <a:pt x="17909" y="7541"/>
                </a:cubicBezTo>
                <a:cubicBezTo>
                  <a:pt x="17970" y="7512"/>
                  <a:pt x="18081" y="7549"/>
                  <a:pt x="18132" y="7565"/>
                </a:cubicBezTo>
                <a:cubicBezTo>
                  <a:pt x="18192" y="7584"/>
                  <a:pt x="18182" y="7600"/>
                  <a:pt x="18182" y="7665"/>
                </a:cubicBezTo>
                <a:cubicBezTo>
                  <a:pt x="18182" y="7732"/>
                  <a:pt x="18196" y="7805"/>
                  <a:pt x="18157" y="7863"/>
                </a:cubicBezTo>
                <a:cubicBezTo>
                  <a:pt x="18143" y="7884"/>
                  <a:pt x="18116" y="7934"/>
                  <a:pt x="18107" y="7938"/>
                </a:cubicBezTo>
                <a:cubicBezTo>
                  <a:pt x="18099" y="7938"/>
                  <a:pt x="18091" y="7938"/>
                  <a:pt x="18083" y="79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6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trochanter, superior portion of lateral lip of linea asp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base and border of patella; lateral side of quadriceps femoris te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vasti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456320" y="5143680"/>
            <a:ext cx="204840" cy="384120"/>
          </a:xfrm>
          <a:custGeom>
            <a:avLst/>
            <a:gdLst/>
            <a:ahLst/>
            <a:rect l="l" t="t" r="r" b="b"/>
            <a:pathLst>
              <a:path w="571" h="1067">
                <a:moveTo>
                  <a:pt x="20935" y="14486"/>
                </a:moveTo>
                <a:cubicBezTo>
                  <a:pt x="20949" y="14527"/>
                  <a:pt x="20972" y="14500"/>
                  <a:pt x="21010" y="14536"/>
                </a:cubicBezTo>
                <a:cubicBezTo>
                  <a:pt x="21093" y="14614"/>
                  <a:pt x="21094" y="14652"/>
                  <a:pt x="21134" y="14734"/>
                </a:cubicBezTo>
                <a:cubicBezTo>
                  <a:pt x="21193" y="14856"/>
                  <a:pt x="21250" y="14995"/>
                  <a:pt x="21282" y="15131"/>
                </a:cubicBezTo>
                <a:cubicBezTo>
                  <a:pt x="21290" y="15163"/>
                  <a:pt x="21294" y="15286"/>
                  <a:pt x="21258" y="15280"/>
                </a:cubicBezTo>
                <a:cubicBezTo>
                  <a:pt x="21115" y="15256"/>
                  <a:pt x="21049" y="14986"/>
                  <a:pt x="20985" y="14883"/>
                </a:cubicBezTo>
                <a:cubicBezTo>
                  <a:pt x="20960" y="14850"/>
                  <a:pt x="20935" y="14817"/>
                  <a:pt x="20910" y="14784"/>
                </a:cubicBezTo>
                <a:cubicBezTo>
                  <a:pt x="20902" y="14767"/>
                  <a:pt x="20894" y="14751"/>
                  <a:pt x="20886" y="14734"/>
                </a:cubicBezTo>
                <a:cubicBezTo>
                  <a:pt x="20886" y="14593"/>
                  <a:pt x="20918" y="14702"/>
                  <a:pt x="20985" y="14883"/>
                </a:cubicBezTo>
                <a:cubicBezTo>
                  <a:pt x="20987" y="14887"/>
                  <a:pt x="21059" y="15246"/>
                  <a:pt x="21059" y="15180"/>
                </a:cubicBezTo>
                <a:cubicBezTo>
                  <a:pt x="21059" y="15030"/>
                  <a:pt x="21007" y="14867"/>
                  <a:pt x="21109" y="15156"/>
                </a:cubicBezTo>
                <a:cubicBezTo>
                  <a:pt x="21148" y="15254"/>
                  <a:pt x="21164" y="15267"/>
                  <a:pt x="21158" y="15329"/>
                </a:cubicBezTo>
                <a:cubicBezTo>
                  <a:pt x="21068" y="15232"/>
                  <a:pt x="21008" y="15182"/>
                  <a:pt x="20985" y="15032"/>
                </a:cubicBezTo>
                <a:cubicBezTo>
                  <a:pt x="20985" y="14974"/>
                  <a:pt x="20985" y="14965"/>
                  <a:pt x="20985" y="14932"/>
                </a:cubicBezTo>
                <a:cubicBezTo>
                  <a:pt x="20985" y="14932"/>
                  <a:pt x="21003" y="14905"/>
                  <a:pt x="21010" y="14982"/>
                </a:cubicBezTo>
                <a:cubicBezTo>
                  <a:pt x="21012" y="15002"/>
                  <a:pt x="21010" y="15119"/>
                  <a:pt x="21010" y="15056"/>
                </a:cubicBezTo>
                <a:cubicBezTo>
                  <a:pt x="21010" y="14940"/>
                  <a:pt x="21010" y="14875"/>
                  <a:pt x="21010" y="14759"/>
                </a:cubicBezTo>
                <a:cubicBezTo>
                  <a:pt x="21010" y="14703"/>
                  <a:pt x="20983" y="14598"/>
                  <a:pt x="21034" y="14585"/>
                </a:cubicBezTo>
                <a:cubicBezTo>
                  <a:pt x="21195" y="14543"/>
                  <a:pt x="21225" y="14741"/>
                  <a:pt x="21233" y="14858"/>
                </a:cubicBezTo>
                <a:cubicBezTo>
                  <a:pt x="21233" y="14893"/>
                  <a:pt x="21224" y="14906"/>
                  <a:pt x="21183" y="14908"/>
                </a:cubicBezTo>
                <a:cubicBezTo>
                  <a:pt x="21117" y="14908"/>
                  <a:pt x="21109" y="14922"/>
                  <a:pt x="21109" y="14858"/>
                </a:cubicBezTo>
                <a:cubicBezTo>
                  <a:pt x="21109" y="14800"/>
                  <a:pt x="21109" y="14742"/>
                  <a:pt x="21109" y="14684"/>
                </a:cubicBezTo>
                <a:cubicBezTo>
                  <a:pt x="21067" y="14937"/>
                  <a:pt x="20981" y="15079"/>
                  <a:pt x="20861" y="15304"/>
                </a:cubicBezTo>
                <a:cubicBezTo>
                  <a:pt x="20793" y="15432"/>
                  <a:pt x="20843" y="15280"/>
                  <a:pt x="20861" y="15304"/>
                </a:cubicBezTo>
                <a:cubicBezTo>
                  <a:pt x="20861" y="15337"/>
                  <a:pt x="20853" y="15346"/>
                  <a:pt x="20811" y="15329"/>
                </a:cubicBezTo>
                <a:cubicBezTo>
                  <a:pt x="20752" y="15210"/>
                  <a:pt x="20712" y="15138"/>
                  <a:pt x="20712" y="15007"/>
                </a:cubicBezTo>
                <a:cubicBezTo>
                  <a:pt x="20712" y="14902"/>
                  <a:pt x="20764" y="14879"/>
                  <a:pt x="20836" y="14858"/>
                </a:cubicBezTo>
                <a:cubicBezTo>
                  <a:pt x="20934" y="14830"/>
                  <a:pt x="20957" y="14796"/>
                  <a:pt x="20960" y="14908"/>
                </a:cubicBezTo>
                <a:cubicBezTo>
                  <a:pt x="20960" y="14949"/>
                  <a:pt x="20960" y="14991"/>
                  <a:pt x="20960" y="15032"/>
                </a:cubicBezTo>
                <a:cubicBezTo>
                  <a:pt x="20950" y="15062"/>
                  <a:pt x="20843" y="15178"/>
                  <a:pt x="20836" y="15106"/>
                </a:cubicBezTo>
                <a:cubicBezTo>
                  <a:pt x="20801" y="14737"/>
                  <a:pt x="20932" y="14570"/>
                  <a:pt x="21109" y="14288"/>
                </a:cubicBezTo>
                <a:cubicBezTo>
                  <a:pt x="21098" y="14406"/>
                  <a:pt x="21086" y="14509"/>
                  <a:pt x="21010" y="14610"/>
                </a:cubicBezTo>
                <a:cubicBezTo>
                  <a:pt x="20942" y="14700"/>
                  <a:pt x="20896" y="14635"/>
                  <a:pt x="20985" y="14635"/>
                </a:cubicBezTo>
                <a:cubicBezTo>
                  <a:pt x="21031" y="14635"/>
                  <a:pt x="21010" y="14723"/>
                  <a:pt x="21010" y="14759"/>
                </a:cubicBezTo>
                <a:cubicBezTo>
                  <a:pt x="21010" y="14767"/>
                  <a:pt x="21010" y="14776"/>
                  <a:pt x="21010" y="147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9120" y="3919680"/>
            <a:ext cx="1438200" cy="411120"/>
          </a:xfrm>
          <a:custGeom>
            <a:avLst/>
            <a:gdLst/>
            <a:ahLst/>
            <a:rect l="l" t="t" r="r" b="b"/>
            <a:pathLst>
              <a:path w="3994" h="1142">
                <a:moveTo>
                  <a:pt x="16942" y="12030"/>
                </a:moveTo>
                <a:cubicBezTo>
                  <a:pt x="17196" y="12030"/>
                  <a:pt x="17391" y="12013"/>
                  <a:pt x="17636" y="11956"/>
                </a:cubicBezTo>
                <a:cubicBezTo>
                  <a:pt x="17825" y="11912"/>
                  <a:pt x="18025" y="11942"/>
                  <a:pt x="18207" y="11857"/>
                </a:cubicBezTo>
                <a:cubicBezTo>
                  <a:pt x="18329" y="11800"/>
                  <a:pt x="18395" y="11750"/>
                  <a:pt x="18529" y="11708"/>
                </a:cubicBezTo>
                <a:cubicBezTo>
                  <a:pt x="18708" y="11652"/>
                  <a:pt x="18897" y="11640"/>
                  <a:pt x="19075" y="11584"/>
                </a:cubicBezTo>
                <a:cubicBezTo>
                  <a:pt x="19241" y="11532"/>
                  <a:pt x="19402" y="11482"/>
                  <a:pt x="19571" y="11435"/>
                </a:cubicBezTo>
                <a:cubicBezTo>
                  <a:pt x="19714" y="11395"/>
                  <a:pt x="19781" y="11347"/>
                  <a:pt x="19893" y="11311"/>
                </a:cubicBezTo>
                <a:cubicBezTo>
                  <a:pt x="20043" y="11263"/>
                  <a:pt x="20171" y="11247"/>
                  <a:pt x="20315" y="11212"/>
                </a:cubicBezTo>
                <a:cubicBezTo>
                  <a:pt x="20455" y="11178"/>
                  <a:pt x="20635" y="11153"/>
                  <a:pt x="20762" y="11112"/>
                </a:cubicBezTo>
                <a:cubicBezTo>
                  <a:pt x="20819" y="11094"/>
                  <a:pt x="20785" y="11088"/>
                  <a:pt x="20836" y="11063"/>
                </a:cubicBezTo>
                <a:cubicBezTo>
                  <a:pt x="20870" y="11046"/>
                  <a:pt x="20882" y="11051"/>
                  <a:pt x="20910" y="11038"/>
                </a:cubicBezTo>
                <a:cubicBezTo>
                  <a:pt x="20856" y="11027"/>
                  <a:pt x="20637" y="10991"/>
                  <a:pt x="20563" y="10988"/>
                </a:cubicBezTo>
                <a:cubicBezTo>
                  <a:pt x="20350" y="10981"/>
                  <a:pt x="20101" y="11016"/>
                  <a:pt x="19893" y="10964"/>
                </a:cubicBezTo>
                <a:cubicBezTo>
                  <a:pt x="19836" y="10945"/>
                  <a:pt x="19829" y="10936"/>
                  <a:pt x="19794" y="10939"/>
                </a:cubicBezTo>
                <a:cubicBezTo>
                  <a:pt x="19852" y="10928"/>
                  <a:pt x="19726" y="10894"/>
                  <a:pt x="19943" y="10889"/>
                </a:cubicBezTo>
                <a:cubicBezTo>
                  <a:pt x="20157" y="10884"/>
                  <a:pt x="20400" y="10881"/>
                  <a:pt x="20613" y="10914"/>
                </a:cubicBezTo>
                <a:cubicBezTo>
                  <a:pt x="20657" y="10921"/>
                  <a:pt x="20716" y="10930"/>
                  <a:pt x="20762" y="10939"/>
                </a:cubicBezTo>
                <a:cubicBezTo>
                  <a:pt x="20823" y="10951"/>
                  <a:pt x="20804" y="10949"/>
                  <a:pt x="20861" y="10964"/>
                </a:cubicBezTo>
                <a:cubicBezTo>
                  <a:pt x="20908" y="10976"/>
                  <a:pt x="20916" y="10945"/>
                  <a:pt x="20935" y="10988"/>
                </a:cubicBezTo>
                <a:cubicBezTo>
                  <a:pt x="20974" y="11075"/>
                  <a:pt x="20917" y="11229"/>
                  <a:pt x="20910" y="11311"/>
                </a:cubicBezTo>
                <a:cubicBezTo>
                  <a:pt x="20900" y="11428"/>
                  <a:pt x="20905" y="11552"/>
                  <a:pt x="20886" y="11658"/>
                </a:cubicBezTo>
                <a:cubicBezTo>
                  <a:pt x="20873" y="11730"/>
                  <a:pt x="20863" y="11796"/>
                  <a:pt x="20836" y="11857"/>
                </a:cubicBezTo>
                <a:cubicBezTo>
                  <a:pt x="20821" y="11892"/>
                  <a:pt x="20812" y="11901"/>
                  <a:pt x="20786" y="11956"/>
                </a:cubicBezTo>
                <a:cubicBezTo>
                  <a:pt x="20764" y="11978"/>
                  <a:pt x="20756" y="11983"/>
                  <a:pt x="20762" y="1200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18640" y="3857760"/>
            <a:ext cx="196560" cy="714240"/>
          </a:xfrm>
          <a:custGeom>
            <a:avLst/>
            <a:gdLst/>
            <a:ahLst/>
            <a:rect l="l" t="t" r="r" b="b"/>
            <a:pathLst>
              <a:path w="546" h="1985">
                <a:moveTo>
                  <a:pt x="22423" y="11609"/>
                </a:moveTo>
                <a:cubicBezTo>
                  <a:pt x="22556" y="11609"/>
                  <a:pt x="22694" y="11577"/>
                  <a:pt x="22796" y="11658"/>
                </a:cubicBezTo>
                <a:cubicBezTo>
                  <a:pt x="22820" y="11658"/>
                  <a:pt x="22828" y="11658"/>
                  <a:pt x="22820" y="11683"/>
                </a:cubicBezTo>
                <a:cubicBezTo>
                  <a:pt x="22692" y="11618"/>
                  <a:pt x="22544" y="11494"/>
                  <a:pt x="22498" y="11336"/>
                </a:cubicBezTo>
                <a:cubicBezTo>
                  <a:pt x="22486" y="11296"/>
                  <a:pt x="22596" y="11319"/>
                  <a:pt x="22572" y="11286"/>
                </a:cubicBezTo>
                <a:cubicBezTo>
                  <a:pt x="22507" y="11197"/>
                  <a:pt x="22449" y="11157"/>
                  <a:pt x="22423" y="11038"/>
                </a:cubicBezTo>
                <a:cubicBezTo>
                  <a:pt x="22526" y="11101"/>
                  <a:pt x="22606" y="11119"/>
                  <a:pt x="22647" y="11261"/>
                </a:cubicBezTo>
                <a:cubicBezTo>
                  <a:pt x="22647" y="11286"/>
                  <a:pt x="22647" y="11294"/>
                  <a:pt x="22647" y="11311"/>
                </a:cubicBezTo>
                <a:cubicBezTo>
                  <a:pt x="22430" y="11287"/>
                  <a:pt x="22389" y="11269"/>
                  <a:pt x="22324" y="11063"/>
                </a:cubicBezTo>
                <a:cubicBezTo>
                  <a:pt x="22331" y="11012"/>
                  <a:pt x="22328" y="10933"/>
                  <a:pt x="22349" y="11038"/>
                </a:cubicBezTo>
                <a:cubicBezTo>
                  <a:pt x="22360" y="11091"/>
                  <a:pt x="22358" y="10992"/>
                  <a:pt x="22374" y="10964"/>
                </a:cubicBezTo>
                <a:cubicBezTo>
                  <a:pt x="22397" y="10924"/>
                  <a:pt x="22438" y="10939"/>
                  <a:pt x="22498" y="10939"/>
                </a:cubicBezTo>
                <a:cubicBezTo>
                  <a:pt x="22539" y="10939"/>
                  <a:pt x="22547" y="10939"/>
                  <a:pt x="22572" y="10939"/>
                </a:cubicBezTo>
                <a:cubicBezTo>
                  <a:pt x="22589" y="10996"/>
                  <a:pt x="22605" y="11062"/>
                  <a:pt x="22547" y="10964"/>
                </a:cubicBezTo>
                <a:cubicBezTo>
                  <a:pt x="22527" y="10930"/>
                  <a:pt x="22597" y="10908"/>
                  <a:pt x="22572" y="10939"/>
                </a:cubicBezTo>
                <a:cubicBezTo>
                  <a:pt x="22533" y="10987"/>
                  <a:pt x="22486" y="10941"/>
                  <a:pt x="22523" y="10889"/>
                </a:cubicBezTo>
                <a:cubicBezTo>
                  <a:pt x="22560" y="10836"/>
                  <a:pt x="22534" y="10979"/>
                  <a:pt x="22498" y="10914"/>
                </a:cubicBezTo>
                <a:cubicBezTo>
                  <a:pt x="22465" y="10854"/>
                  <a:pt x="22498" y="10902"/>
                  <a:pt x="22448" y="10864"/>
                </a:cubicBezTo>
                <a:cubicBezTo>
                  <a:pt x="22378" y="10812"/>
                  <a:pt x="22411" y="10807"/>
                  <a:pt x="22399" y="10740"/>
                </a:cubicBezTo>
                <a:cubicBezTo>
                  <a:pt x="22448" y="10740"/>
                  <a:pt x="22524" y="10732"/>
                  <a:pt x="22597" y="10815"/>
                </a:cubicBezTo>
                <a:cubicBezTo>
                  <a:pt x="22670" y="10898"/>
                  <a:pt x="22661" y="10929"/>
                  <a:pt x="22547" y="10988"/>
                </a:cubicBezTo>
                <a:cubicBezTo>
                  <a:pt x="22518" y="11003"/>
                  <a:pt x="22416" y="10975"/>
                  <a:pt x="22399" y="11013"/>
                </a:cubicBezTo>
                <a:cubicBezTo>
                  <a:pt x="22358" y="11107"/>
                  <a:pt x="22411" y="11193"/>
                  <a:pt x="22448" y="11261"/>
                </a:cubicBezTo>
                <a:cubicBezTo>
                  <a:pt x="22698" y="11726"/>
                  <a:pt x="22736" y="12182"/>
                  <a:pt x="22796" y="12700"/>
                </a:cubicBezTo>
                <a:cubicBezTo>
                  <a:pt x="22709" y="12629"/>
                  <a:pt x="22591" y="12529"/>
                  <a:pt x="22547" y="12427"/>
                </a:cubicBezTo>
                <a:cubicBezTo>
                  <a:pt x="22517" y="12356"/>
                  <a:pt x="22498" y="12262"/>
                  <a:pt x="22498" y="12179"/>
                </a:cubicBezTo>
                <a:cubicBezTo>
                  <a:pt x="22498" y="12052"/>
                  <a:pt x="22524" y="11894"/>
                  <a:pt x="22622" y="11807"/>
                </a:cubicBezTo>
                <a:cubicBezTo>
                  <a:pt x="22663" y="11807"/>
                  <a:pt x="22679" y="11815"/>
                  <a:pt x="22671" y="11782"/>
                </a:cubicBezTo>
                <a:cubicBezTo>
                  <a:pt x="22545" y="11736"/>
                  <a:pt x="22388" y="11626"/>
                  <a:pt x="22299" y="11509"/>
                </a:cubicBezTo>
                <a:cubicBezTo>
                  <a:pt x="22299" y="11501"/>
                  <a:pt x="22299" y="11493"/>
                  <a:pt x="22299" y="11485"/>
                </a:cubicBezTo>
                <a:cubicBezTo>
                  <a:pt x="22448" y="11506"/>
                  <a:pt x="22446" y="11577"/>
                  <a:pt x="22423" y="11534"/>
                </a:cubicBezTo>
                <a:cubicBezTo>
                  <a:pt x="22354" y="11403"/>
                  <a:pt x="22417" y="11432"/>
                  <a:pt x="22498" y="11385"/>
                </a:cubicBezTo>
                <a:cubicBezTo>
                  <a:pt x="22555" y="11352"/>
                  <a:pt x="22485" y="11282"/>
                  <a:pt x="22423" y="11261"/>
                </a:cubicBezTo>
                <a:cubicBezTo>
                  <a:pt x="22399" y="11261"/>
                  <a:pt x="22390" y="11261"/>
                  <a:pt x="22374" y="11261"/>
                </a:cubicBezTo>
                <a:cubicBezTo>
                  <a:pt x="22469" y="11274"/>
                  <a:pt x="22520" y="11293"/>
                  <a:pt x="22597" y="11336"/>
                </a:cubicBezTo>
                <a:cubicBezTo>
                  <a:pt x="22554" y="11336"/>
                  <a:pt x="22324" y="11312"/>
                  <a:pt x="22324" y="11361"/>
                </a:cubicBezTo>
                <a:cubicBezTo>
                  <a:pt x="22324" y="11412"/>
                  <a:pt x="22396" y="11426"/>
                  <a:pt x="22374" y="11485"/>
                </a:cubicBezTo>
                <a:cubicBezTo>
                  <a:pt x="22366" y="11485"/>
                  <a:pt x="22357" y="11485"/>
                  <a:pt x="22349" y="11485"/>
                </a:cubicBezTo>
                <a:cubicBezTo>
                  <a:pt x="22344" y="11479"/>
                  <a:pt x="22244" y="11392"/>
                  <a:pt x="22275" y="11385"/>
                </a:cubicBezTo>
                <a:cubicBezTo>
                  <a:pt x="22324" y="11374"/>
                  <a:pt x="22580" y="11358"/>
                  <a:pt x="22597" y="11410"/>
                </a:cubicBezTo>
                <a:cubicBezTo>
                  <a:pt x="22618" y="11473"/>
                  <a:pt x="22601" y="11480"/>
                  <a:pt x="22647" y="11534"/>
                </a:cubicBezTo>
                <a:cubicBezTo>
                  <a:pt x="22662" y="11552"/>
                  <a:pt x="22657" y="11565"/>
                  <a:pt x="22671" y="115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670960" y="3000240"/>
            <a:ext cx="393840" cy="465120"/>
          </a:xfrm>
          <a:custGeom>
            <a:avLst/>
            <a:gdLst/>
            <a:ahLst/>
            <a:rect l="l" t="t" r="r" b="b"/>
            <a:pathLst>
              <a:path w="1093" h="1291">
                <a:moveTo>
                  <a:pt x="24433" y="9327"/>
                </a:moveTo>
                <a:cubicBezTo>
                  <a:pt x="24545" y="9336"/>
                  <a:pt x="24638" y="9348"/>
                  <a:pt x="24755" y="9351"/>
                </a:cubicBezTo>
                <a:cubicBezTo>
                  <a:pt x="24824" y="9353"/>
                  <a:pt x="24884" y="9373"/>
                  <a:pt x="24954" y="9376"/>
                </a:cubicBezTo>
                <a:cubicBezTo>
                  <a:pt x="24987" y="9378"/>
                  <a:pt x="25020" y="9376"/>
                  <a:pt x="25053" y="9376"/>
                </a:cubicBezTo>
                <a:cubicBezTo>
                  <a:pt x="24797" y="9376"/>
                  <a:pt x="24058" y="9405"/>
                  <a:pt x="24309" y="9351"/>
                </a:cubicBezTo>
                <a:cubicBezTo>
                  <a:pt x="24467" y="9317"/>
                  <a:pt x="24665" y="9335"/>
                  <a:pt x="24829" y="9327"/>
                </a:cubicBezTo>
                <a:cubicBezTo>
                  <a:pt x="24837" y="9327"/>
                  <a:pt x="24846" y="9327"/>
                  <a:pt x="24854" y="9327"/>
                </a:cubicBezTo>
                <a:cubicBezTo>
                  <a:pt x="24751" y="9309"/>
                  <a:pt x="24463" y="9302"/>
                  <a:pt x="24309" y="9302"/>
                </a:cubicBezTo>
                <a:cubicBezTo>
                  <a:pt x="24231" y="9302"/>
                  <a:pt x="24191" y="9286"/>
                  <a:pt x="24160" y="9277"/>
                </a:cubicBezTo>
                <a:cubicBezTo>
                  <a:pt x="24247" y="9246"/>
                  <a:pt x="24343" y="9209"/>
                  <a:pt x="24433" y="9178"/>
                </a:cubicBezTo>
                <a:cubicBezTo>
                  <a:pt x="24498" y="9155"/>
                  <a:pt x="24618" y="9153"/>
                  <a:pt x="24482" y="9153"/>
                </a:cubicBezTo>
                <a:cubicBezTo>
                  <a:pt x="24450" y="9153"/>
                  <a:pt x="24375" y="9196"/>
                  <a:pt x="24457" y="9227"/>
                </a:cubicBezTo>
                <a:cubicBezTo>
                  <a:pt x="24566" y="9268"/>
                  <a:pt x="24922" y="9252"/>
                  <a:pt x="24805" y="9252"/>
                </a:cubicBezTo>
                <a:cubicBezTo>
                  <a:pt x="24713" y="9252"/>
                  <a:pt x="24427" y="9252"/>
                  <a:pt x="24433" y="9252"/>
                </a:cubicBezTo>
                <a:cubicBezTo>
                  <a:pt x="24620" y="9252"/>
                  <a:pt x="24754" y="9246"/>
                  <a:pt x="24929" y="9203"/>
                </a:cubicBezTo>
                <a:cubicBezTo>
                  <a:pt x="24703" y="9203"/>
                  <a:pt x="24357" y="9121"/>
                  <a:pt x="24160" y="9252"/>
                </a:cubicBezTo>
                <a:cubicBezTo>
                  <a:pt x="24050" y="9325"/>
                  <a:pt x="24085" y="9434"/>
                  <a:pt x="24085" y="9550"/>
                </a:cubicBezTo>
                <a:cubicBezTo>
                  <a:pt x="24085" y="9566"/>
                  <a:pt x="24085" y="9583"/>
                  <a:pt x="24085" y="9599"/>
                </a:cubicBezTo>
                <a:cubicBezTo>
                  <a:pt x="24095" y="9601"/>
                  <a:pt x="24116" y="9647"/>
                  <a:pt x="24135" y="9575"/>
                </a:cubicBezTo>
                <a:cubicBezTo>
                  <a:pt x="24174" y="9431"/>
                  <a:pt x="24315" y="9321"/>
                  <a:pt x="24358" y="9178"/>
                </a:cubicBezTo>
                <a:cubicBezTo>
                  <a:pt x="24389" y="9074"/>
                  <a:pt x="24400" y="8964"/>
                  <a:pt x="24408" y="8855"/>
                </a:cubicBezTo>
                <a:cubicBezTo>
                  <a:pt x="24416" y="8744"/>
                  <a:pt x="24363" y="8678"/>
                  <a:pt x="24457" y="8731"/>
                </a:cubicBezTo>
                <a:cubicBezTo>
                  <a:pt x="24514" y="8763"/>
                  <a:pt x="24588" y="8818"/>
                  <a:pt x="24631" y="8855"/>
                </a:cubicBezTo>
                <a:cubicBezTo>
                  <a:pt x="24666" y="8885"/>
                  <a:pt x="24708" y="8932"/>
                  <a:pt x="24730" y="8954"/>
                </a:cubicBezTo>
                <a:cubicBezTo>
                  <a:pt x="24749" y="8973"/>
                  <a:pt x="24776" y="9018"/>
                  <a:pt x="24805" y="9054"/>
                </a:cubicBezTo>
                <a:cubicBezTo>
                  <a:pt x="24826" y="9080"/>
                  <a:pt x="24856" y="9107"/>
                  <a:pt x="24780" y="9029"/>
                </a:cubicBezTo>
                <a:cubicBezTo>
                  <a:pt x="24720" y="8878"/>
                  <a:pt x="24617" y="8702"/>
                  <a:pt x="24581" y="8558"/>
                </a:cubicBezTo>
                <a:cubicBezTo>
                  <a:pt x="24581" y="8516"/>
                  <a:pt x="24581" y="8491"/>
                  <a:pt x="24581" y="8533"/>
                </a:cubicBezTo>
                <a:cubicBezTo>
                  <a:pt x="24627" y="8624"/>
                  <a:pt x="24729" y="8736"/>
                  <a:pt x="24755" y="8830"/>
                </a:cubicBezTo>
                <a:cubicBezTo>
                  <a:pt x="24764" y="8863"/>
                  <a:pt x="24765" y="8905"/>
                  <a:pt x="24730" y="8905"/>
                </a:cubicBezTo>
                <a:cubicBezTo>
                  <a:pt x="24649" y="8905"/>
                  <a:pt x="24597" y="8734"/>
                  <a:pt x="24705" y="8930"/>
                </a:cubicBezTo>
                <a:cubicBezTo>
                  <a:pt x="24723" y="8963"/>
                  <a:pt x="24766" y="9016"/>
                  <a:pt x="24705" y="9029"/>
                </a:cubicBezTo>
                <a:cubicBezTo>
                  <a:pt x="24553" y="9062"/>
                  <a:pt x="24129" y="8895"/>
                  <a:pt x="24284" y="8905"/>
                </a:cubicBezTo>
                <a:cubicBezTo>
                  <a:pt x="24334" y="8921"/>
                  <a:pt x="24383" y="8938"/>
                  <a:pt x="24433" y="8954"/>
                </a:cubicBezTo>
                <a:cubicBezTo>
                  <a:pt x="24522" y="9047"/>
                  <a:pt x="24650" y="9303"/>
                  <a:pt x="24681" y="9178"/>
                </a:cubicBezTo>
                <a:cubicBezTo>
                  <a:pt x="24698" y="9113"/>
                  <a:pt x="24648" y="9006"/>
                  <a:pt x="24705" y="8979"/>
                </a:cubicBezTo>
                <a:cubicBezTo>
                  <a:pt x="24814" y="8928"/>
                  <a:pt x="25081" y="9466"/>
                  <a:pt x="25152" y="9550"/>
                </a:cubicBezTo>
                <a:cubicBezTo>
                  <a:pt x="25207" y="9615"/>
                  <a:pt x="25178" y="9411"/>
                  <a:pt x="25177" y="9401"/>
                </a:cubicBezTo>
                <a:cubicBezTo>
                  <a:pt x="25153" y="9233"/>
                  <a:pt x="25147" y="9182"/>
                  <a:pt x="25102" y="9079"/>
                </a:cubicBezTo>
                <a:cubicBezTo>
                  <a:pt x="25026" y="9040"/>
                  <a:pt x="25053" y="9005"/>
                  <a:pt x="25053" y="9128"/>
                </a:cubicBezTo>
                <a:cubicBezTo>
                  <a:pt x="25053" y="9213"/>
                  <a:pt x="25157" y="9346"/>
                  <a:pt x="25078" y="9376"/>
                </a:cubicBezTo>
                <a:cubicBezTo>
                  <a:pt x="24898" y="9444"/>
                  <a:pt x="24634" y="9373"/>
                  <a:pt x="24433" y="9302"/>
                </a:cubicBezTo>
                <a:cubicBezTo>
                  <a:pt x="24383" y="9277"/>
                  <a:pt x="24334" y="9252"/>
                  <a:pt x="24284" y="9227"/>
                </a:cubicBezTo>
                <a:cubicBezTo>
                  <a:pt x="24335" y="9177"/>
                  <a:pt x="24057" y="9062"/>
                  <a:pt x="24408" y="9203"/>
                </a:cubicBezTo>
                <a:cubicBezTo>
                  <a:pt x="24634" y="9294"/>
                  <a:pt x="24562" y="9300"/>
                  <a:pt x="24482" y="9004"/>
                </a:cubicBezTo>
                <a:cubicBezTo>
                  <a:pt x="24419" y="8770"/>
                  <a:pt x="24395" y="8574"/>
                  <a:pt x="24383" y="8334"/>
                </a:cubicBezTo>
                <a:cubicBezTo>
                  <a:pt x="24448" y="8430"/>
                  <a:pt x="24504" y="8620"/>
                  <a:pt x="24557" y="8682"/>
                </a:cubicBezTo>
                <a:cubicBezTo>
                  <a:pt x="24578" y="8707"/>
                  <a:pt x="24638" y="8727"/>
                  <a:pt x="24606" y="8731"/>
                </a:cubicBezTo>
                <a:cubicBezTo>
                  <a:pt x="24582" y="8734"/>
                  <a:pt x="24523" y="8647"/>
                  <a:pt x="24507" y="8657"/>
                </a:cubicBezTo>
                <a:cubicBezTo>
                  <a:pt x="24467" y="8681"/>
                  <a:pt x="24501" y="8998"/>
                  <a:pt x="24532" y="9054"/>
                </a:cubicBezTo>
                <a:cubicBezTo>
                  <a:pt x="24555" y="9096"/>
                  <a:pt x="24591" y="9098"/>
                  <a:pt x="24606" y="9128"/>
                </a:cubicBezTo>
                <a:cubicBezTo>
                  <a:pt x="24606" y="9136"/>
                  <a:pt x="24606" y="9145"/>
                  <a:pt x="24606" y="915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8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inferior iliac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of patella to form the more central portion of the quadriceps femoris te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 function #39 &amp; 4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rectusfemorisant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848640" y="1035000"/>
            <a:ext cx="1134720" cy="349200"/>
          </a:xfrm>
          <a:custGeom>
            <a:avLst/>
            <a:gdLst/>
            <a:ahLst/>
            <a:rect l="l" t="t" r="r" b="b"/>
            <a:pathLst>
              <a:path w="3151" h="969">
                <a:moveTo>
                  <a:pt x="19025" y="3820"/>
                </a:moveTo>
                <a:cubicBezTo>
                  <a:pt x="19245" y="3820"/>
                  <a:pt x="19429" y="3820"/>
                  <a:pt x="19645" y="3770"/>
                </a:cubicBezTo>
                <a:cubicBezTo>
                  <a:pt x="19814" y="3731"/>
                  <a:pt x="19996" y="3699"/>
                  <a:pt x="20141" y="3646"/>
                </a:cubicBezTo>
                <a:cubicBezTo>
                  <a:pt x="20244" y="3608"/>
                  <a:pt x="20345" y="3599"/>
                  <a:pt x="20439" y="3547"/>
                </a:cubicBezTo>
                <a:cubicBezTo>
                  <a:pt x="20486" y="3521"/>
                  <a:pt x="20564" y="3485"/>
                  <a:pt x="20613" y="3448"/>
                </a:cubicBezTo>
                <a:cubicBezTo>
                  <a:pt x="20655" y="3417"/>
                  <a:pt x="20678" y="3375"/>
                  <a:pt x="20737" y="3349"/>
                </a:cubicBezTo>
                <a:cubicBezTo>
                  <a:pt x="20801" y="3321"/>
                  <a:pt x="20889" y="3300"/>
                  <a:pt x="20960" y="3274"/>
                </a:cubicBezTo>
                <a:cubicBezTo>
                  <a:pt x="21020" y="3252"/>
                  <a:pt x="21088" y="3219"/>
                  <a:pt x="21158" y="3200"/>
                </a:cubicBezTo>
                <a:cubicBezTo>
                  <a:pt x="21256" y="3173"/>
                  <a:pt x="21336" y="3192"/>
                  <a:pt x="21431" y="3175"/>
                </a:cubicBezTo>
                <a:cubicBezTo>
                  <a:pt x="21495" y="3163"/>
                  <a:pt x="21552" y="3127"/>
                  <a:pt x="21630" y="3125"/>
                </a:cubicBezTo>
                <a:cubicBezTo>
                  <a:pt x="21811" y="3119"/>
                  <a:pt x="21994" y="3125"/>
                  <a:pt x="22175" y="3125"/>
                </a:cubicBezTo>
                <a:cubicBezTo>
                  <a:pt x="22078" y="3066"/>
                  <a:pt x="21917" y="3019"/>
                  <a:pt x="21803" y="2952"/>
                </a:cubicBezTo>
                <a:cubicBezTo>
                  <a:pt x="21779" y="2927"/>
                  <a:pt x="21771" y="2918"/>
                  <a:pt x="21754" y="2902"/>
                </a:cubicBezTo>
                <a:cubicBezTo>
                  <a:pt x="21837" y="2908"/>
                  <a:pt x="21794" y="2869"/>
                  <a:pt x="21927" y="2977"/>
                </a:cubicBezTo>
                <a:cubicBezTo>
                  <a:pt x="21998" y="3035"/>
                  <a:pt x="22012" y="3058"/>
                  <a:pt x="22051" y="3125"/>
                </a:cubicBezTo>
                <a:cubicBezTo>
                  <a:pt x="22062" y="3143"/>
                  <a:pt x="22100" y="3168"/>
                  <a:pt x="22076" y="3225"/>
                </a:cubicBezTo>
                <a:cubicBezTo>
                  <a:pt x="22057" y="3271"/>
                  <a:pt x="21997" y="3291"/>
                  <a:pt x="21977" y="3324"/>
                </a:cubicBezTo>
                <a:cubicBezTo>
                  <a:pt x="21886" y="3474"/>
                  <a:pt x="21824" y="3650"/>
                  <a:pt x="21729" y="3795"/>
                </a:cubicBezTo>
                <a:cubicBezTo>
                  <a:pt x="21718" y="3812"/>
                  <a:pt x="21685" y="3837"/>
                  <a:pt x="21679" y="384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75640" y="4973760"/>
            <a:ext cx="1581120" cy="1206360"/>
          </a:xfrm>
          <a:custGeom>
            <a:avLst/>
            <a:gdLst/>
            <a:ahLst/>
            <a:rect l="l" t="t" r="r" b="b"/>
            <a:pathLst>
              <a:path w="4391" h="3350">
                <a:moveTo>
                  <a:pt x="19100" y="14660"/>
                </a:moveTo>
                <a:cubicBezTo>
                  <a:pt x="19354" y="14575"/>
                  <a:pt x="19612" y="14493"/>
                  <a:pt x="19869" y="14412"/>
                </a:cubicBezTo>
                <a:cubicBezTo>
                  <a:pt x="19944" y="14388"/>
                  <a:pt x="20004" y="14390"/>
                  <a:pt x="20092" y="14387"/>
                </a:cubicBezTo>
                <a:cubicBezTo>
                  <a:pt x="20238" y="14382"/>
                  <a:pt x="20295" y="14399"/>
                  <a:pt x="20439" y="14436"/>
                </a:cubicBezTo>
                <a:cubicBezTo>
                  <a:pt x="20528" y="14459"/>
                  <a:pt x="20596" y="14480"/>
                  <a:pt x="20687" y="14511"/>
                </a:cubicBezTo>
                <a:cubicBezTo>
                  <a:pt x="20755" y="14534"/>
                  <a:pt x="20817" y="14553"/>
                  <a:pt x="20886" y="14560"/>
                </a:cubicBezTo>
                <a:cubicBezTo>
                  <a:pt x="21110" y="14584"/>
                  <a:pt x="21515" y="14598"/>
                  <a:pt x="21704" y="14536"/>
                </a:cubicBezTo>
                <a:cubicBezTo>
                  <a:pt x="21740" y="14524"/>
                  <a:pt x="21762" y="14520"/>
                  <a:pt x="21803" y="14511"/>
                </a:cubicBezTo>
                <a:cubicBezTo>
                  <a:pt x="21834" y="14504"/>
                  <a:pt x="21955" y="14486"/>
                  <a:pt x="22027" y="14486"/>
                </a:cubicBezTo>
                <a:cubicBezTo>
                  <a:pt x="22051" y="14486"/>
                  <a:pt x="22060" y="14486"/>
                  <a:pt x="22076" y="14486"/>
                </a:cubicBezTo>
                <a:cubicBezTo>
                  <a:pt x="21753" y="14417"/>
                  <a:pt x="21433" y="14333"/>
                  <a:pt x="21109" y="14263"/>
                </a:cubicBezTo>
                <a:cubicBezTo>
                  <a:pt x="21016" y="14243"/>
                  <a:pt x="20806" y="14261"/>
                  <a:pt x="20737" y="14213"/>
                </a:cubicBezTo>
                <a:cubicBezTo>
                  <a:pt x="20737" y="14188"/>
                  <a:pt x="20737" y="14180"/>
                  <a:pt x="20737" y="14163"/>
                </a:cubicBezTo>
                <a:cubicBezTo>
                  <a:pt x="21216" y="14196"/>
                  <a:pt x="21544" y="14392"/>
                  <a:pt x="21977" y="14585"/>
                </a:cubicBezTo>
                <a:cubicBezTo>
                  <a:pt x="22041" y="14613"/>
                  <a:pt x="22051" y="14594"/>
                  <a:pt x="22101" y="14610"/>
                </a:cubicBezTo>
                <a:cubicBezTo>
                  <a:pt x="21777" y="14863"/>
                  <a:pt x="21467" y="15129"/>
                  <a:pt x="21158" y="15404"/>
                </a:cubicBezTo>
                <a:cubicBezTo>
                  <a:pt x="21060" y="15491"/>
                  <a:pt x="21020" y="15477"/>
                  <a:pt x="20935" y="15577"/>
                </a:cubicBezTo>
                <a:cubicBezTo>
                  <a:pt x="20943" y="15577"/>
                  <a:pt x="20952" y="15577"/>
                  <a:pt x="20960" y="15577"/>
                </a:cubicBezTo>
              </a:path>
              <a:path w="4391" h="3350">
                <a:moveTo>
                  <a:pt x="22299" y="13816"/>
                </a:moveTo>
                <a:cubicBezTo>
                  <a:pt x="22299" y="14032"/>
                  <a:pt x="22309" y="14247"/>
                  <a:pt x="22324" y="14461"/>
                </a:cubicBezTo>
                <a:cubicBezTo>
                  <a:pt x="22332" y="14582"/>
                  <a:pt x="22346" y="14588"/>
                  <a:pt x="22374" y="14709"/>
                </a:cubicBezTo>
                <a:cubicBezTo>
                  <a:pt x="22409" y="14863"/>
                  <a:pt x="22439" y="15028"/>
                  <a:pt x="22473" y="15180"/>
                </a:cubicBezTo>
                <a:cubicBezTo>
                  <a:pt x="22488" y="15248"/>
                  <a:pt x="22522" y="15310"/>
                  <a:pt x="22523" y="15379"/>
                </a:cubicBezTo>
                <a:cubicBezTo>
                  <a:pt x="22525" y="15478"/>
                  <a:pt x="22523" y="15578"/>
                  <a:pt x="22523" y="15677"/>
                </a:cubicBezTo>
              </a:path>
              <a:path w="4391" h="3350">
                <a:moveTo>
                  <a:pt x="22498" y="15379"/>
                </a:moveTo>
                <a:cubicBezTo>
                  <a:pt x="22518" y="15344"/>
                  <a:pt x="22527" y="15324"/>
                  <a:pt x="22547" y="15304"/>
                </a:cubicBezTo>
                <a:cubicBezTo>
                  <a:pt x="22628" y="15224"/>
                  <a:pt x="22760" y="15037"/>
                  <a:pt x="22845" y="14982"/>
                </a:cubicBezTo>
                <a:cubicBezTo>
                  <a:pt x="22894" y="14950"/>
                  <a:pt x="23079" y="14982"/>
                  <a:pt x="23143" y="14982"/>
                </a:cubicBezTo>
                <a:cubicBezTo>
                  <a:pt x="23143" y="14821"/>
                  <a:pt x="23197" y="14481"/>
                  <a:pt x="23118" y="14337"/>
                </a:cubicBezTo>
                <a:cubicBezTo>
                  <a:pt x="23096" y="14296"/>
                  <a:pt x="23074" y="14231"/>
                  <a:pt x="23044" y="14188"/>
                </a:cubicBezTo>
                <a:cubicBezTo>
                  <a:pt x="23031" y="14170"/>
                  <a:pt x="22996" y="14166"/>
                  <a:pt x="22969" y="14139"/>
                </a:cubicBezTo>
                <a:cubicBezTo>
                  <a:pt x="22969" y="14114"/>
                  <a:pt x="22969" y="14106"/>
                  <a:pt x="22944" y="14114"/>
                </a:cubicBezTo>
              </a:path>
              <a:path w="4391" h="3350">
                <a:moveTo>
                  <a:pt x="22647" y="16197"/>
                </a:moveTo>
                <a:cubicBezTo>
                  <a:pt x="22647" y="16189"/>
                  <a:pt x="22647" y="16181"/>
                  <a:pt x="22647" y="16173"/>
                </a:cubicBezTo>
                <a:cubicBezTo>
                  <a:pt x="22673" y="16186"/>
                  <a:pt x="22750" y="16262"/>
                  <a:pt x="22771" y="16297"/>
                </a:cubicBezTo>
                <a:cubicBezTo>
                  <a:pt x="22792" y="16333"/>
                  <a:pt x="22820" y="16352"/>
                  <a:pt x="22845" y="16371"/>
                </a:cubicBezTo>
                <a:cubicBezTo>
                  <a:pt x="22874" y="16393"/>
                  <a:pt x="22910" y="16439"/>
                  <a:pt x="22920" y="16470"/>
                </a:cubicBezTo>
                <a:cubicBezTo>
                  <a:pt x="22942" y="16536"/>
                  <a:pt x="22941" y="16625"/>
                  <a:pt x="22944" y="16694"/>
                </a:cubicBezTo>
                <a:cubicBezTo>
                  <a:pt x="22948" y="16791"/>
                  <a:pt x="22937" y="16871"/>
                  <a:pt x="22969" y="16966"/>
                </a:cubicBezTo>
                <a:cubicBezTo>
                  <a:pt x="22990" y="17027"/>
                  <a:pt x="22994" y="17075"/>
                  <a:pt x="22994" y="17140"/>
                </a:cubicBezTo>
              </a:path>
              <a:path w="4391" h="3350">
                <a:moveTo>
                  <a:pt x="23490" y="15776"/>
                </a:moveTo>
                <a:cubicBezTo>
                  <a:pt x="23468" y="15798"/>
                  <a:pt x="23441" y="15805"/>
                  <a:pt x="23416" y="15825"/>
                </a:cubicBezTo>
                <a:cubicBezTo>
                  <a:pt x="23357" y="15872"/>
                  <a:pt x="23297" y="15925"/>
                  <a:pt x="23192" y="16024"/>
                </a:cubicBezTo>
                <a:cubicBezTo>
                  <a:pt x="23119" y="16092"/>
                  <a:pt x="22989" y="16147"/>
                  <a:pt x="22994" y="16247"/>
                </a:cubicBezTo>
                <a:cubicBezTo>
                  <a:pt x="22997" y="16302"/>
                  <a:pt x="23039" y="16373"/>
                  <a:pt x="23068" y="16421"/>
                </a:cubicBezTo>
                <a:cubicBezTo>
                  <a:pt x="23103" y="16479"/>
                  <a:pt x="23132" y="16507"/>
                  <a:pt x="23143" y="16545"/>
                </a:cubicBezTo>
                <a:cubicBezTo>
                  <a:pt x="23167" y="16625"/>
                  <a:pt x="23169" y="17033"/>
                  <a:pt x="23118" y="17066"/>
                </a:cubicBezTo>
                <a:cubicBezTo>
                  <a:pt x="23091" y="17083"/>
                  <a:pt x="22930" y="17162"/>
                  <a:pt x="22920" y="17165"/>
                </a:cubicBezTo>
                <a:cubicBezTo>
                  <a:pt x="22903" y="17165"/>
                  <a:pt x="22887" y="17165"/>
                  <a:pt x="22870" y="17165"/>
                </a:cubicBezTo>
                <a:cubicBezTo>
                  <a:pt x="22878" y="17111"/>
                  <a:pt x="22872" y="17118"/>
                  <a:pt x="22895" y="17090"/>
                </a:cubicBezTo>
                <a:cubicBezTo>
                  <a:pt x="22913" y="17068"/>
                  <a:pt x="22925" y="17060"/>
                  <a:pt x="22944" y="1704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1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 from anterior surfaces and lower borders of transverse processes of L1 - L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upper 2/3 of iliac fossa of i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#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873760" y="1600200"/>
            <a:ext cx="1585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#4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rsal ilium between inferior and anterior glutea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surface of great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glutminimus: "/>
          <p:cNvPicPr/>
          <p:nvPr/>
        </p:nvPicPr>
        <p:blipFill>
          <a:blip r:embed="rId1"/>
          <a:stretch/>
        </p:blipFill>
        <p:spPr>
          <a:xfrm>
            <a:off x="5899320" y="1447920"/>
            <a:ext cx="3244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 the Muscle #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superior iliac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iotibial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ducts a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stabilize and steady the hip and knee joints by putting tension on the iliotibial band of fas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sartorius: "/>
          <p:cNvPicPr/>
          <p:nvPr/>
        </p:nvPicPr>
        <p:blipFill>
          <a:blip r:embed="rId1"/>
          <a:stretch/>
        </p:blipFill>
        <p:spPr>
          <a:xfrm>
            <a:off x="552132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glutmaximuslat: "/>
          <p:cNvPicPr/>
          <p:nvPr/>
        </p:nvPicPr>
        <p:blipFill>
          <a:blip r:embed="rId2"/>
          <a:stretch/>
        </p:blipFill>
        <p:spPr>
          <a:xfrm>
            <a:off x="7215120" y="0"/>
            <a:ext cx="192888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518080" y="258840"/>
            <a:ext cx="447840" cy="857160"/>
          </a:xfrm>
          <a:custGeom>
            <a:avLst/>
            <a:gdLst/>
            <a:ahLst/>
            <a:rect l="l" t="t" r="r" b="b"/>
            <a:pathLst>
              <a:path w="1242" h="2383">
                <a:moveTo>
                  <a:pt x="15652" y="2803"/>
                </a:moveTo>
                <a:cubicBezTo>
                  <a:pt x="15647" y="2750"/>
                  <a:pt x="15631" y="2724"/>
                  <a:pt x="15627" y="2679"/>
                </a:cubicBezTo>
                <a:cubicBezTo>
                  <a:pt x="15606" y="2441"/>
                  <a:pt x="15614" y="2167"/>
                  <a:pt x="15677" y="1935"/>
                </a:cubicBezTo>
                <a:cubicBezTo>
                  <a:pt x="15701" y="1847"/>
                  <a:pt x="15745" y="1706"/>
                  <a:pt x="15776" y="1612"/>
                </a:cubicBezTo>
                <a:cubicBezTo>
                  <a:pt x="15814" y="1497"/>
                  <a:pt x="15812" y="1505"/>
                  <a:pt x="15825" y="1414"/>
                </a:cubicBezTo>
                <a:cubicBezTo>
                  <a:pt x="16006" y="1901"/>
                  <a:pt x="16153" y="2434"/>
                  <a:pt x="16396" y="2902"/>
                </a:cubicBezTo>
                <a:cubicBezTo>
                  <a:pt x="16727" y="3541"/>
                  <a:pt x="16232" y="2553"/>
                  <a:pt x="16222" y="2530"/>
                </a:cubicBezTo>
                <a:cubicBezTo>
                  <a:pt x="16128" y="2313"/>
                  <a:pt x="16019" y="1625"/>
                  <a:pt x="15999" y="1860"/>
                </a:cubicBezTo>
                <a:cubicBezTo>
                  <a:pt x="15979" y="2097"/>
                  <a:pt x="16009" y="2322"/>
                  <a:pt x="16024" y="2555"/>
                </a:cubicBezTo>
                <a:cubicBezTo>
                  <a:pt x="15872" y="2273"/>
                  <a:pt x="15900" y="2057"/>
                  <a:pt x="15900" y="1736"/>
                </a:cubicBezTo>
                <a:cubicBezTo>
                  <a:pt x="15900" y="1678"/>
                  <a:pt x="15900" y="1621"/>
                  <a:pt x="15900" y="1563"/>
                </a:cubicBezTo>
                <a:cubicBezTo>
                  <a:pt x="15914" y="1649"/>
                  <a:pt x="16032" y="2078"/>
                  <a:pt x="15925" y="2108"/>
                </a:cubicBezTo>
                <a:cubicBezTo>
                  <a:pt x="15692" y="2172"/>
                  <a:pt x="15554" y="1721"/>
                  <a:pt x="15553" y="1563"/>
                </a:cubicBezTo>
                <a:cubicBezTo>
                  <a:pt x="15553" y="1537"/>
                  <a:pt x="15577" y="1871"/>
                  <a:pt x="15577" y="1984"/>
                </a:cubicBezTo>
                <a:cubicBezTo>
                  <a:pt x="15577" y="1992"/>
                  <a:pt x="15577" y="2001"/>
                  <a:pt x="15577" y="2009"/>
                </a:cubicBezTo>
                <a:cubicBezTo>
                  <a:pt x="15577" y="1706"/>
                  <a:pt x="15668" y="1494"/>
                  <a:pt x="15925" y="1290"/>
                </a:cubicBezTo>
                <a:cubicBezTo>
                  <a:pt x="16212" y="1062"/>
                  <a:pt x="16141" y="1185"/>
                  <a:pt x="16421" y="1141"/>
                </a:cubicBezTo>
                <a:cubicBezTo>
                  <a:pt x="16421" y="1480"/>
                  <a:pt x="16488" y="1579"/>
                  <a:pt x="16297" y="1786"/>
                </a:cubicBezTo>
                <a:cubicBezTo>
                  <a:pt x="16168" y="1925"/>
                  <a:pt x="15832" y="2226"/>
                  <a:pt x="15627" y="2059"/>
                </a:cubicBezTo>
                <a:cubicBezTo>
                  <a:pt x="15599" y="2004"/>
                  <a:pt x="15591" y="1981"/>
                  <a:pt x="15602" y="1935"/>
                </a:cubicBezTo>
                <a:cubicBezTo>
                  <a:pt x="15611" y="1886"/>
                  <a:pt x="15699" y="1852"/>
                  <a:pt x="15652" y="1836"/>
                </a:cubicBezTo>
                <a:cubicBezTo>
                  <a:pt x="15610" y="1822"/>
                  <a:pt x="15588" y="1951"/>
                  <a:pt x="15553" y="1761"/>
                </a:cubicBezTo>
                <a:cubicBezTo>
                  <a:pt x="15491" y="1430"/>
                  <a:pt x="16182" y="816"/>
                  <a:pt x="16421" y="719"/>
                </a:cubicBezTo>
                <a:cubicBezTo>
                  <a:pt x="16454" y="719"/>
                  <a:pt x="16487" y="719"/>
                  <a:pt x="16520" y="719"/>
                </a:cubicBezTo>
                <a:cubicBezTo>
                  <a:pt x="16583" y="959"/>
                  <a:pt x="16622" y="1343"/>
                  <a:pt x="16396" y="1538"/>
                </a:cubicBezTo>
                <a:cubicBezTo>
                  <a:pt x="16372" y="1558"/>
                  <a:pt x="15976" y="1831"/>
                  <a:pt x="15850" y="1736"/>
                </a:cubicBezTo>
                <a:cubicBezTo>
                  <a:pt x="15802" y="1700"/>
                  <a:pt x="15810" y="1482"/>
                  <a:pt x="15850" y="1439"/>
                </a:cubicBezTo>
                <a:cubicBezTo>
                  <a:pt x="15867" y="1431"/>
                  <a:pt x="15883" y="1422"/>
                  <a:pt x="15900" y="1414"/>
                </a:cubicBezTo>
                <a:cubicBezTo>
                  <a:pt x="16042" y="1394"/>
                  <a:pt x="16286" y="1426"/>
                  <a:pt x="16173" y="1513"/>
                </a:cubicBezTo>
                <a:cubicBezTo>
                  <a:pt x="16016" y="1634"/>
                  <a:pt x="15655" y="1662"/>
                  <a:pt x="15528" y="1637"/>
                </a:cubicBezTo>
                <a:cubicBezTo>
                  <a:pt x="15465" y="1624"/>
                  <a:pt x="15696" y="1689"/>
                  <a:pt x="15652" y="1736"/>
                </a:cubicBezTo>
                <a:cubicBezTo>
                  <a:pt x="15601" y="1790"/>
                  <a:pt x="15442" y="1789"/>
                  <a:pt x="15404" y="1687"/>
                </a:cubicBezTo>
                <a:cubicBezTo>
                  <a:pt x="15393" y="1658"/>
                  <a:pt x="15397" y="1579"/>
                  <a:pt x="15429" y="1563"/>
                </a:cubicBezTo>
                <a:cubicBezTo>
                  <a:pt x="15454" y="1563"/>
                  <a:pt x="15478" y="1563"/>
                  <a:pt x="15503" y="1563"/>
                </a:cubicBezTo>
                <a:cubicBezTo>
                  <a:pt x="15536" y="1563"/>
                  <a:pt x="15495" y="1535"/>
                  <a:pt x="15528" y="1538"/>
                </a:cubicBezTo>
                <a:cubicBezTo>
                  <a:pt x="15710" y="1556"/>
                  <a:pt x="15798" y="1923"/>
                  <a:pt x="15751" y="2084"/>
                </a:cubicBezTo>
                <a:cubicBezTo>
                  <a:pt x="15727" y="2167"/>
                  <a:pt x="15744" y="2135"/>
                  <a:pt x="15751" y="2158"/>
                </a:cubicBezTo>
                <a:cubicBezTo>
                  <a:pt x="15830" y="2441"/>
                  <a:pt x="15681" y="2680"/>
                  <a:pt x="15553" y="2927"/>
                </a:cubicBezTo>
                <a:cubicBezTo>
                  <a:pt x="15513" y="3005"/>
                  <a:pt x="15478" y="3029"/>
                  <a:pt x="15404" y="3076"/>
                </a:cubicBezTo>
                <a:cubicBezTo>
                  <a:pt x="15461" y="3076"/>
                  <a:pt x="15584" y="3096"/>
                  <a:pt x="15602" y="3051"/>
                </a:cubicBezTo>
                <a:cubicBezTo>
                  <a:pt x="15628" y="2985"/>
                  <a:pt x="15573" y="2915"/>
                  <a:pt x="15627" y="2853"/>
                </a:cubicBezTo>
                <a:cubicBezTo>
                  <a:pt x="15665" y="2810"/>
                  <a:pt x="15739" y="2818"/>
                  <a:pt x="15776" y="2778"/>
                </a:cubicBezTo>
                <a:cubicBezTo>
                  <a:pt x="15810" y="2742"/>
                  <a:pt x="15797" y="2726"/>
                  <a:pt x="15801" y="2679"/>
                </a:cubicBezTo>
                <a:cubicBezTo>
                  <a:pt x="15815" y="2493"/>
                  <a:pt x="15991" y="2561"/>
                  <a:pt x="16123" y="2505"/>
                </a:cubicBezTo>
                <a:cubicBezTo>
                  <a:pt x="16178" y="2481"/>
                  <a:pt x="16214" y="2444"/>
                  <a:pt x="16197" y="2431"/>
                </a:cubicBezTo>
                <a:cubicBezTo>
                  <a:pt x="16181" y="2431"/>
                  <a:pt x="16164" y="2431"/>
                  <a:pt x="16148" y="2431"/>
                </a:cubicBezTo>
                <a:cubicBezTo>
                  <a:pt x="16045" y="2440"/>
                  <a:pt x="16050" y="2429"/>
                  <a:pt x="15999" y="2530"/>
                </a:cubicBezTo>
                <a:cubicBezTo>
                  <a:pt x="15967" y="2593"/>
                  <a:pt x="15988" y="2606"/>
                  <a:pt x="15925" y="2629"/>
                </a:cubicBezTo>
                <a:cubicBezTo>
                  <a:pt x="15882" y="2644"/>
                  <a:pt x="15815" y="2590"/>
                  <a:pt x="15825" y="2629"/>
                </a:cubicBezTo>
                <a:cubicBezTo>
                  <a:pt x="15843" y="2696"/>
                  <a:pt x="15967" y="2773"/>
                  <a:pt x="15850" y="2629"/>
                </a:cubicBezTo>
                <a:cubicBezTo>
                  <a:pt x="15803" y="2571"/>
                  <a:pt x="15837" y="2566"/>
                  <a:pt x="15825" y="2555"/>
                </a:cubicBezTo>
                <a:cubicBezTo>
                  <a:pt x="15793" y="2526"/>
                  <a:pt x="15730" y="2503"/>
                  <a:pt x="15701" y="2480"/>
                </a:cubicBezTo>
                <a:cubicBezTo>
                  <a:pt x="15651" y="2440"/>
                  <a:pt x="15592" y="2433"/>
                  <a:pt x="15528" y="2332"/>
                </a:cubicBezTo>
                <a:cubicBezTo>
                  <a:pt x="15430" y="2178"/>
                  <a:pt x="15411" y="1976"/>
                  <a:pt x="15354" y="1811"/>
                </a:cubicBezTo>
                <a:cubicBezTo>
                  <a:pt x="15322" y="1716"/>
                  <a:pt x="15306" y="1566"/>
                  <a:pt x="15329" y="1463"/>
                </a:cubicBezTo>
                <a:cubicBezTo>
                  <a:pt x="15343" y="1400"/>
                  <a:pt x="15321" y="1433"/>
                  <a:pt x="15379" y="1414"/>
                </a:cubicBezTo>
                <a:cubicBezTo>
                  <a:pt x="15434" y="1396"/>
                  <a:pt x="15495" y="1408"/>
                  <a:pt x="15553" y="1389"/>
                </a:cubicBezTo>
                <a:cubicBezTo>
                  <a:pt x="15563" y="1385"/>
                  <a:pt x="15657" y="1339"/>
                  <a:pt x="15677" y="1364"/>
                </a:cubicBezTo>
                <a:cubicBezTo>
                  <a:pt x="15704" y="1398"/>
                  <a:pt x="15660" y="1490"/>
                  <a:pt x="15652" y="1513"/>
                </a:cubicBezTo>
                <a:cubicBezTo>
                  <a:pt x="15635" y="1560"/>
                  <a:pt x="15640" y="1583"/>
                  <a:pt x="15627" y="1637"/>
                </a:cubicBezTo>
                <a:cubicBezTo>
                  <a:pt x="15619" y="1670"/>
                  <a:pt x="15612" y="1721"/>
                  <a:pt x="15602" y="1761"/>
                </a:cubicBezTo>
                <a:cubicBezTo>
                  <a:pt x="15592" y="1803"/>
                  <a:pt x="15545" y="1924"/>
                  <a:pt x="15528" y="1960"/>
                </a:cubicBezTo>
                <a:cubicBezTo>
                  <a:pt x="15487" y="2044"/>
                  <a:pt x="15483" y="2069"/>
                  <a:pt x="15478" y="2158"/>
                </a:cubicBezTo>
                <a:cubicBezTo>
                  <a:pt x="15475" y="2210"/>
                  <a:pt x="15498" y="2244"/>
                  <a:pt x="15503" y="2282"/>
                </a:cubicBezTo>
                <a:cubicBezTo>
                  <a:pt x="15525" y="2455"/>
                  <a:pt x="15527" y="2687"/>
                  <a:pt x="15478" y="2853"/>
                </a:cubicBezTo>
                <a:cubicBezTo>
                  <a:pt x="15467" y="2891"/>
                  <a:pt x="15466" y="2917"/>
                  <a:pt x="15453" y="2952"/>
                </a:cubicBezTo>
                <a:cubicBezTo>
                  <a:pt x="15570" y="2952"/>
                  <a:pt x="15700" y="2964"/>
                  <a:pt x="15801" y="2927"/>
                </a:cubicBezTo>
                <a:cubicBezTo>
                  <a:pt x="15847" y="2910"/>
                  <a:pt x="15882" y="2877"/>
                  <a:pt x="15925" y="2853"/>
                </a:cubicBezTo>
                <a:cubicBezTo>
                  <a:pt x="15972" y="2827"/>
                  <a:pt x="16006" y="2801"/>
                  <a:pt x="16049" y="2778"/>
                </a:cubicBezTo>
                <a:cubicBezTo>
                  <a:pt x="16065" y="2770"/>
                  <a:pt x="16161" y="2694"/>
                  <a:pt x="16173" y="2679"/>
                </a:cubicBezTo>
                <a:cubicBezTo>
                  <a:pt x="16190" y="2658"/>
                  <a:pt x="16192" y="2606"/>
                  <a:pt x="16197" y="2580"/>
                </a:cubicBezTo>
                <a:cubicBezTo>
                  <a:pt x="16230" y="2427"/>
                  <a:pt x="16160" y="2254"/>
                  <a:pt x="16222" y="2108"/>
                </a:cubicBezTo>
                <a:cubicBezTo>
                  <a:pt x="16245" y="2054"/>
                  <a:pt x="16245" y="2039"/>
                  <a:pt x="16247" y="1984"/>
                </a:cubicBezTo>
                <a:cubicBezTo>
                  <a:pt x="16251" y="1883"/>
                  <a:pt x="16263" y="1722"/>
                  <a:pt x="16222" y="1662"/>
                </a:cubicBezTo>
                <a:cubicBezTo>
                  <a:pt x="16203" y="1634"/>
                  <a:pt x="16194" y="1581"/>
                  <a:pt x="16148" y="1563"/>
                </a:cubicBezTo>
                <a:cubicBezTo>
                  <a:pt x="16102" y="1545"/>
                  <a:pt x="16050" y="1559"/>
                  <a:pt x="15999" y="1538"/>
                </a:cubicBezTo>
                <a:cubicBezTo>
                  <a:pt x="15985" y="1532"/>
                  <a:pt x="15945" y="1516"/>
                  <a:pt x="15900" y="1513"/>
                </a:cubicBezTo>
                <a:cubicBezTo>
                  <a:pt x="15815" y="1507"/>
                  <a:pt x="15568" y="1477"/>
                  <a:pt x="15503" y="1538"/>
                </a:cubicBezTo>
                <a:cubicBezTo>
                  <a:pt x="15421" y="1614"/>
                  <a:pt x="15391" y="1822"/>
                  <a:pt x="15379" y="1935"/>
                </a:cubicBezTo>
                <a:cubicBezTo>
                  <a:pt x="15365" y="2071"/>
                  <a:pt x="15372" y="2125"/>
                  <a:pt x="15429" y="2208"/>
                </a:cubicBezTo>
                <a:cubicBezTo>
                  <a:pt x="15454" y="2245"/>
                  <a:pt x="15501" y="2267"/>
                  <a:pt x="15528" y="2307"/>
                </a:cubicBezTo>
                <a:cubicBezTo>
                  <a:pt x="15547" y="2336"/>
                  <a:pt x="15546" y="2361"/>
                  <a:pt x="15577" y="2381"/>
                </a:cubicBezTo>
                <a:cubicBezTo>
                  <a:pt x="15587" y="2388"/>
                  <a:pt x="15691" y="2429"/>
                  <a:pt x="15701" y="2431"/>
                </a:cubicBezTo>
                <a:cubicBezTo>
                  <a:pt x="15793" y="2447"/>
                  <a:pt x="15861" y="2426"/>
                  <a:pt x="15949" y="24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62800" y="2320920"/>
            <a:ext cx="760320" cy="554040"/>
          </a:xfrm>
          <a:custGeom>
            <a:avLst/>
            <a:gdLst/>
            <a:ahLst/>
            <a:rect l="l" t="t" r="r" b="b"/>
            <a:pathLst>
              <a:path w="2110" h="1539">
                <a:moveTo>
                  <a:pt x="19199" y="6697"/>
                </a:moveTo>
                <a:cubicBezTo>
                  <a:pt x="19308" y="6697"/>
                  <a:pt x="19452" y="6671"/>
                  <a:pt x="19546" y="6722"/>
                </a:cubicBezTo>
                <a:cubicBezTo>
                  <a:pt x="19585" y="6743"/>
                  <a:pt x="19568" y="6771"/>
                  <a:pt x="19571" y="6821"/>
                </a:cubicBezTo>
                <a:cubicBezTo>
                  <a:pt x="19588" y="7093"/>
                  <a:pt x="19374" y="7191"/>
                  <a:pt x="19199" y="7317"/>
                </a:cubicBezTo>
                <a:cubicBezTo>
                  <a:pt x="19182" y="7334"/>
                  <a:pt x="19166" y="7350"/>
                  <a:pt x="19149" y="7367"/>
                </a:cubicBezTo>
                <a:cubicBezTo>
                  <a:pt x="19144" y="7341"/>
                  <a:pt x="19124" y="7208"/>
                  <a:pt x="19124" y="7144"/>
                </a:cubicBezTo>
                <a:cubicBezTo>
                  <a:pt x="19124" y="6996"/>
                  <a:pt x="19082" y="6853"/>
                  <a:pt x="19174" y="6796"/>
                </a:cubicBezTo>
                <a:cubicBezTo>
                  <a:pt x="19202" y="6769"/>
                  <a:pt x="19216" y="6761"/>
                  <a:pt x="19248" y="6772"/>
                </a:cubicBezTo>
                <a:cubicBezTo>
                  <a:pt x="19103" y="7100"/>
                  <a:pt x="18925" y="7306"/>
                  <a:pt x="18703" y="7590"/>
                </a:cubicBezTo>
                <a:cubicBezTo>
                  <a:pt x="18642" y="7671"/>
                  <a:pt x="18637" y="7693"/>
                  <a:pt x="18579" y="7714"/>
                </a:cubicBezTo>
                <a:cubicBezTo>
                  <a:pt x="18579" y="7503"/>
                  <a:pt x="18461" y="7009"/>
                  <a:pt x="18604" y="6846"/>
                </a:cubicBezTo>
                <a:cubicBezTo>
                  <a:pt x="18640" y="6805"/>
                  <a:pt x="18730" y="6734"/>
                  <a:pt x="18802" y="6722"/>
                </a:cubicBezTo>
                <a:cubicBezTo>
                  <a:pt x="18861" y="6712"/>
                  <a:pt x="19146" y="6693"/>
                  <a:pt x="19149" y="6772"/>
                </a:cubicBezTo>
                <a:cubicBezTo>
                  <a:pt x="19153" y="6891"/>
                  <a:pt x="19115" y="6997"/>
                  <a:pt x="19050" y="7094"/>
                </a:cubicBezTo>
                <a:cubicBezTo>
                  <a:pt x="19033" y="7111"/>
                  <a:pt x="19017" y="7127"/>
                  <a:pt x="19000" y="7144"/>
                </a:cubicBezTo>
                <a:cubicBezTo>
                  <a:pt x="19021" y="7082"/>
                  <a:pt x="19211" y="6517"/>
                  <a:pt x="19348" y="6548"/>
                </a:cubicBezTo>
                <a:cubicBezTo>
                  <a:pt x="19389" y="6548"/>
                  <a:pt x="19397" y="6565"/>
                  <a:pt x="19372" y="6623"/>
                </a:cubicBezTo>
                <a:cubicBezTo>
                  <a:pt x="19298" y="6650"/>
                  <a:pt x="19248" y="6660"/>
                  <a:pt x="19174" y="6672"/>
                </a:cubicBezTo>
                <a:cubicBezTo>
                  <a:pt x="19107" y="6683"/>
                  <a:pt x="19254" y="6672"/>
                  <a:pt x="19273" y="6672"/>
                </a:cubicBezTo>
                <a:cubicBezTo>
                  <a:pt x="19315" y="6672"/>
                  <a:pt x="19323" y="6672"/>
                  <a:pt x="19348" y="6672"/>
                </a:cubicBezTo>
                <a:cubicBezTo>
                  <a:pt x="19295" y="6615"/>
                  <a:pt x="19315" y="6605"/>
                  <a:pt x="19199" y="6548"/>
                </a:cubicBezTo>
                <a:cubicBezTo>
                  <a:pt x="19197" y="6547"/>
                  <a:pt x="19093" y="6509"/>
                  <a:pt x="19124" y="6499"/>
                </a:cubicBezTo>
                <a:cubicBezTo>
                  <a:pt x="19506" y="6372"/>
                  <a:pt x="19943" y="6449"/>
                  <a:pt x="20340" y="6449"/>
                </a:cubicBezTo>
                <a:cubicBezTo>
                  <a:pt x="20018" y="6547"/>
                  <a:pt x="19695" y="6632"/>
                  <a:pt x="19372" y="6722"/>
                </a:cubicBezTo>
                <a:cubicBezTo>
                  <a:pt x="19326" y="6735"/>
                  <a:pt x="19202" y="6775"/>
                  <a:pt x="19224" y="6747"/>
                </a:cubicBezTo>
                <a:cubicBezTo>
                  <a:pt x="19270" y="6688"/>
                  <a:pt x="19496" y="6676"/>
                  <a:pt x="19422" y="6672"/>
                </a:cubicBezTo>
                <a:cubicBezTo>
                  <a:pt x="19197" y="6661"/>
                  <a:pt x="18933" y="6670"/>
                  <a:pt x="18752" y="6623"/>
                </a:cubicBezTo>
                <a:cubicBezTo>
                  <a:pt x="18736" y="6623"/>
                  <a:pt x="18719" y="6623"/>
                  <a:pt x="18703" y="6623"/>
                </a:cubicBezTo>
                <a:cubicBezTo>
                  <a:pt x="18902" y="6623"/>
                  <a:pt x="19002" y="6598"/>
                  <a:pt x="19199" y="6623"/>
                </a:cubicBezTo>
                <a:cubicBezTo>
                  <a:pt x="19242" y="6628"/>
                  <a:pt x="19181" y="6647"/>
                  <a:pt x="19224" y="6648"/>
                </a:cubicBezTo>
                <a:cubicBezTo>
                  <a:pt x="19378" y="6651"/>
                  <a:pt x="19653" y="6655"/>
                  <a:pt x="19769" y="6672"/>
                </a:cubicBezTo>
                <a:cubicBezTo>
                  <a:pt x="19635" y="6720"/>
                  <a:pt x="19470" y="6809"/>
                  <a:pt x="19323" y="6772"/>
                </a:cubicBezTo>
                <a:cubicBezTo>
                  <a:pt x="19295" y="6765"/>
                  <a:pt x="19332" y="6772"/>
                  <a:pt x="19323" y="6697"/>
                </a:cubicBezTo>
                <a:cubicBezTo>
                  <a:pt x="19318" y="6656"/>
                  <a:pt x="19266" y="6625"/>
                  <a:pt x="19298" y="6598"/>
                </a:cubicBezTo>
                <a:cubicBezTo>
                  <a:pt x="19310" y="6588"/>
                  <a:pt x="19516" y="6576"/>
                  <a:pt x="19323" y="6573"/>
                </a:cubicBezTo>
                <a:cubicBezTo>
                  <a:pt x="18963" y="6567"/>
                  <a:pt x="18604" y="6548"/>
                  <a:pt x="18256" y="6474"/>
                </a:cubicBezTo>
                <a:cubicBezTo>
                  <a:pt x="18248" y="6474"/>
                  <a:pt x="18239" y="6474"/>
                  <a:pt x="18231" y="6474"/>
                </a:cubicBezTo>
                <a:cubicBezTo>
                  <a:pt x="18533" y="6556"/>
                  <a:pt x="18418" y="6408"/>
                  <a:pt x="18827" y="6772"/>
                </a:cubicBezTo>
                <a:cubicBezTo>
                  <a:pt x="19026" y="6949"/>
                  <a:pt x="19393" y="7252"/>
                  <a:pt x="19422" y="7565"/>
                </a:cubicBezTo>
                <a:cubicBezTo>
                  <a:pt x="19433" y="7687"/>
                  <a:pt x="19422" y="7815"/>
                  <a:pt x="19422" y="7938"/>
                </a:cubicBezTo>
                <a:cubicBezTo>
                  <a:pt x="19334" y="7981"/>
                  <a:pt x="19241" y="8032"/>
                  <a:pt x="19149" y="7938"/>
                </a:cubicBezTo>
                <a:cubicBezTo>
                  <a:pt x="18999" y="7784"/>
                  <a:pt x="18805" y="7499"/>
                  <a:pt x="18728" y="7317"/>
                </a:cubicBezTo>
                <a:cubicBezTo>
                  <a:pt x="18705" y="7295"/>
                  <a:pt x="18697" y="7290"/>
                  <a:pt x="18703" y="7268"/>
                </a:cubicBezTo>
                <a:cubicBezTo>
                  <a:pt x="18752" y="7261"/>
                  <a:pt x="18909" y="7228"/>
                  <a:pt x="19000" y="7243"/>
                </a:cubicBezTo>
                <a:cubicBezTo>
                  <a:pt x="19124" y="7263"/>
                  <a:pt x="19185" y="7286"/>
                  <a:pt x="19298" y="7293"/>
                </a:cubicBezTo>
                <a:cubicBezTo>
                  <a:pt x="19366" y="7293"/>
                  <a:pt x="19385" y="7296"/>
                  <a:pt x="19422" y="72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61160" y="3394080"/>
            <a:ext cx="590760" cy="517680"/>
          </a:xfrm>
          <a:custGeom>
            <a:avLst/>
            <a:gdLst/>
            <a:ahLst/>
            <a:rect l="l" t="t" r="r" b="b"/>
            <a:pathLst>
              <a:path w="1639" h="1439">
                <a:moveTo>
                  <a:pt x="21282" y="10864"/>
                </a:moveTo>
                <a:cubicBezTo>
                  <a:pt x="21282" y="10795"/>
                  <a:pt x="21272" y="10728"/>
                  <a:pt x="21307" y="10666"/>
                </a:cubicBezTo>
                <a:cubicBezTo>
                  <a:pt x="21404" y="10497"/>
                  <a:pt x="21519" y="10464"/>
                  <a:pt x="21654" y="10344"/>
                </a:cubicBezTo>
                <a:cubicBezTo>
                  <a:pt x="21707" y="10297"/>
                  <a:pt x="21719" y="10256"/>
                  <a:pt x="21779" y="10220"/>
                </a:cubicBezTo>
                <a:cubicBezTo>
                  <a:pt x="21855" y="10174"/>
                  <a:pt x="21964" y="10074"/>
                  <a:pt x="22027" y="10046"/>
                </a:cubicBezTo>
                <a:cubicBezTo>
                  <a:pt x="22128" y="10001"/>
                  <a:pt x="22262" y="9952"/>
                  <a:pt x="22349" y="9897"/>
                </a:cubicBezTo>
                <a:cubicBezTo>
                  <a:pt x="22390" y="9871"/>
                  <a:pt x="22427" y="9854"/>
                  <a:pt x="22473" y="9823"/>
                </a:cubicBezTo>
                <a:cubicBezTo>
                  <a:pt x="22482" y="9817"/>
                  <a:pt x="22522" y="9749"/>
                  <a:pt x="22523" y="9748"/>
                </a:cubicBezTo>
                <a:cubicBezTo>
                  <a:pt x="22571" y="9723"/>
                  <a:pt x="22592" y="9698"/>
                  <a:pt x="22622" y="9674"/>
                </a:cubicBezTo>
                <a:cubicBezTo>
                  <a:pt x="22650" y="9652"/>
                  <a:pt x="22717" y="9621"/>
                  <a:pt x="22746" y="9599"/>
                </a:cubicBezTo>
                <a:cubicBezTo>
                  <a:pt x="22764" y="9585"/>
                  <a:pt x="22794" y="9533"/>
                  <a:pt x="22820" y="9500"/>
                </a:cubicBezTo>
                <a:cubicBezTo>
                  <a:pt x="22842" y="9472"/>
                  <a:pt x="22837" y="9480"/>
                  <a:pt x="22845" y="9426"/>
                </a:cubicBezTo>
                <a:cubicBezTo>
                  <a:pt x="22793" y="9434"/>
                  <a:pt x="22810" y="9443"/>
                  <a:pt x="22771" y="9451"/>
                </a:cubicBezTo>
                <a:cubicBezTo>
                  <a:pt x="22716" y="9462"/>
                  <a:pt x="22652" y="9471"/>
                  <a:pt x="22597" y="9500"/>
                </a:cubicBezTo>
                <a:cubicBezTo>
                  <a:pt x="22490" y="9557"/>
                  <a:pt x="22391" y="9635"/>
                  <a:pt x="22299" y="9723"/>
                </a:cubicBezTo>
                <a:cubicBezTo>
                  <a:pt x="22261" y="9762"/>
                  <a:pt x="22244" y="9794"/>
                  <a:pt x="22250" y="9748"/>
                </a:cubicBezTo>
                <a:cubicBezTo>
                  <a:pt x="22456" y="9679"/>
                  <a:pt x="22658" y="9587"/>
                  <a:pt x="22870" y="9550"/>
                </a:cubicBezTo>
                <a:cubicBezTo>
                  <a:pt x="22887" y="9550"/>
                  <a:pt x="22903" y="9550"/>
                  <a:pt x="22920" y="9550"/>
                </a:cubicBezTo>
              </a:path>
              <a:path w="1639" h="1439">
                <a:moveTo>
                  <a:pt x="22920" y="9674"/>
                </a:moveTo>
                <a:cubicBezTo>
                  <a:pt x="22920" y="9666"/>
                  <a:pt x="22920" y="9657"/>
                  <a:pt x="22920" y="9649"/>
                </a:cubicBezTo>
                <a:cubicBezTo>
                  <a:pt x="22861" y="9664"/>
                  <a:pt x="22866" y="9696"/>
                  <a:pt x="22845" y="9748"/>
                </a:cubicBezTo>
                <a:cubicBezTo>
                  <a:pt x="22805" y="9847"/>
                  <a:pt x="22714" y="9946"/>
                  <a:pt x="22696" y="10046"/>
                </a:cubicBezTo>
                <a:cubicBezTo>
                  <a:pt x="22696" y="10054"/>
                  <a:pt x="22696" y="10063"/>
                  <a:pt x="22696" y="10071"/>
                </a:cubicBezTo>
                <a:cubicBezTo>
                  <a:pt x="22649" y="10083"/>
                  <a:pt x="22657" y="10109"/>
                  <a:pt x="22622" y="10120"/>
                </a:cubicBezTo>
                <a:cubicBezTo>
                  <a:pt x="22617" y="10142"/>
                  <a:pt x="22584" y="10234"/>
                  <a:pt x="22572" y="10244"/>
                </a:cubicBezTo>
                <a:cubicBezTo>
                  <a:pt x="22564" y="10244"/>
                  <a:pt x="22555" y="10244"/>
                  <a:pt x="22547" y="1024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95920" y="3751200"/>
            <a:ext cx="820800" cy="401760"/>
          </a:xfrm>
          <a:custGeom>
            <a:avLst/>
            <a:gdLst/>
            <a:ahLst/>
            <a:rect l="l" t="t" r="r" b="b"/>
            <a:pathLst>
              <a:path w="2283" h="1117">
                <a:moveTo>
                  <a:pt x="13320" y="10939"/>
                </a:moveTo>
                <a:cubicBezTo>
                  <a:pt x="13334" y="10890"/>
                  <a:pt x="13310" y="10878"/>
                  <a:pt x="13370" y="10864"/>
                </a:cubicBezTo>
                <a:cubicBezTo>
                  <a:pt x="13424" y="10851"/>
                  <a:pt x="13514" y="10846"/>
                  <a:pt x="13568" y="10840"/>
                </a:cubicBezTo>
                <a:cubicBezTo>
                  <a:pt x="13699" y="10825"/>
                  <a:pt x="13780" y="10826"/>
                  <a:pt x="13915" y="10790"/>
                </a:cubicBezTo>
                <a:cubicBezTo>
                  <a:pt x="14174" y="10720"/>
                  <a:pt x="14446" y="10726"/>
                  <a:pt x="14709" y="10666"/>
                </a:cubicBezTo>
                <a:cubicBezTo>
                  <a:pt x="14887" y="10625"/>
                  <a:pt x="15046" y="10596"/>
                  <a:pt x="15230" y="10592"/>
                </a:cubicBezTo>
                <a:cubicBezTo>
                  <a:pt x="15354" y="10589"/>
                  <a:pt x="15478" y="10592"/>
                  <a:pt x="15602" y="10592"/>
                </a:cubicBezTo>
                <a:cubicBezTo>
                  <a:pt x="15416" y="10561"/>
                  <a:pt x="15237" y="10524"/>
                  <a:pt x="15056" y="10468"/>
                </a:cubicBezTo>
                <a:cubicBezTo>
                  <a:pt x="14992" y="10448"/>
                  <a:pt x="14947" y="10426"/>
                  <a:pt x="14883" y="10418"/>
                </a:cubicBezTo>
                <a:cubicBezTo>
                  <a:pt x="15023" y="10418"/>
                  <a:pt x="15164" y="10418"/>
                  <a:pt x="15304" y="10418"/>
                </a:cubicBezTo>
              </a:path>
              <a:path w="2283" h="1117">
                <a:moveTo>
                  <a:pt x="15602" y="10740"/>
                </a:moveTo>
                <a:cubicBezTo>
                  <a:pt x="15592" y="10712"/>
                  <a:pt x="15581" y="10698"/>
                  <a:pt x="15553" y="10666"/>
                </a:cubicBezTo>
                <a:cubicBezTo>
                  <a:pt x="15518" y="10626"/>
                  <a:pt x="15504" y="10616"/>
                  <a:pt x="15453" y="10616"/>
                </a:cubicBezTo>
                <a:cubicBezTo>
                  <a:pt x="15320" y="10616"/>
                  <a:pt x="15346" y="10796"/>
                  <a:pt x="15304" y="10889"/>
                </a:cubicBezTo>
                <a:cubicBezTo>
                  <a:pt x="15218" y="11079"/>
                  <a:pt x="15076" y="11292"/>
                  <a:pt x="15056" y="11509"/>
                </a:cubicBezTo>
                <a:cubicBezTo>
                  <a:pt x="15056" y="11517"/>
                  <a:pt x="15056" y="11526"/>
                  <a:pt x="15056" y="1153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)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rd to 5th ribs near their costal cartil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border and superior surface of coracoid process of scap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zes scapula by drawing it inferiorly and anteriorly against thoracic w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pectoral nerv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anteriormuscles: "/>
          <p:cNvPicPr/>
          <p:nvPr/>
        </p:nvPicPr>
        <p:blipFill>
          <a:blip r:embed="rId1"/>
          <a:stretch/>
        </p:blipFill>
        <p:spPr>
          <a:xfrm>
            <a:off x="4343400" y="1600200"/>
            <a:ext cx="4408560" cy="4495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pectoralisminor: "/>
          <p:cNvPicPr/>
          <p:nvPr/>
        </p:nvPicPr>
        <p:blipFill>
          <a:blip r:embed="rId2"/>
          <a:stretch/>
        </p:blipFill>
        <p:spPr>
          <a:xfrm>
            <a:off x="4343400" y="1447920"/>
            <a:ext cx="44640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6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aspect of dorsal iliu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superior iliac crest, posterior inferior aspect of sacrum and coccy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iotibial band; also into the gluteal tuberosity on posterior femoral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ior gluteal nerve (L5, S1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glutmaximus: "/>
          <p:cNvPicPr/>
          <p:nvPr/>
        </p:nvPicPr>
        <p:blipFill>
          <a:blip r:embed="rId1"/>
          <a:stretch/>
        </p:blipFill>
        <p:spPr>
          <a:xfrm>
            <a:off x="5562720" y="2819520"/>
            <a:ext cx="2014560" cy="3581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glutmaximuslat: "/>
          <p:cNvPicPr/>
          <p:nvPr/>
        </p:nvPicPr>
        <p:blipFill>
          <a:blip r:embed="rId2"/>
          <a:stretch/>
        </p:blipFill>
        <p:spPr>
          <a:xfrm>
            <a:off x="7391520" y="0"/>
            <a:ext cx="192852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973840" y="1687680"/>
            <a:ext cx="1438200" cy="625320"/>
          </a:xfrm>
          <a:custGeom>
            <a:avLst/>
            <a:gdLst/>
            <a:ahLst/>
            <a:rect l="l" t="t" r="r" b="b"/>
            <a:pathLst>
              <a:path w="3995" h="1737">
                <a:moveTo>
                  <a:pt x="16594" y="5854"/>
                </a:moveTo>
                <a:cubicBezTo>
                  <a:pt x="16829" y="5842"/>
                  <a:pt x="17005" y="5802"/>
                  <a:pt x="17239" y="5730"/>
                </a:cubicBezTo>
                <a:cubicBezTo>
                  <a:pt x="17384" y="5685"/>
                  <a:pt x="17511" y="5670"/>
                  <a:pt x="17661" y="5631"/>
                </a:cubicBezTo>
                <a:cubicBezTo>
                  <a:pt x="17904" y="5568"/>
                  <a:pt x="18106" y="5507"/>
                  <a:pt x="18355" y="5507"/>
                </a:cubicBezTo>
                <a:cubicBezTo>
                  <a:pt x="18735" y="5507"/>
                  <a:pt x="19194" y="5569"/>
                  <a:pt x="19571" y="5482"/>
                </a:cubicBezTo>
                <a:cubicBezTo>
                  <a:pt x="19686" y="5455"/>
                  <a:pt x="19805" y="5436"/>
                  <a:pt x="19918" y="5407"/>
                </a:cubicBezTo>
                <a:cubicBezTo>
                  <a:pt x="19978" y="5392"/>
                  <a:pt x="20017" y="5375"/>
                  <a:pt x="20067" y="5358"/>
                </a:cubicBezTo>
                <a:cubicBezTo>
                  <a:pt x="20077" y="5355"/>
                  <a:pt x="20123" y="5335"/>
                  <a:pt x="20166" y="5333"/>
                </a:cubicBezTo>
                <a:cubicBezTo>
                  <a:pt x="20294" y="5326"/>
                  <a:pt x="20415" y="5331"/>
                  <a:pt x="20538" y="5358"/>
                </a:cubicBezTo>
                <a:cubicBezTo>
                  <a:pt x="20455" y="5358"/>
                  <a:pt x="20468" y="5385"/>
                  <a:pt x="20389" y="5358"/>
                </a:cubicBezTo>
                <a:cubicBezTo>
                  <a:pt x="19833" y="5168"/>
                  <a:pt x="19296" y="4954"/>
                  <a:pt x="18728" y="4787"/>
                </a:cubicBezTo>
                <a:cubicBezTo>
                  <a:pt x="18614" y="4753"/>
                  <a:pt x="18519" y="4723"/>
                  <a:pt x="18405" y="4688"/>
                </a:cubicBezTo>
                <a:cubicBezTo>
                  <a:pt x="18596" y="4695"/>
                  <a:pt x="18789" y="4703"/>
                  <a:pt x="18976" y="4738"/>
                </a:cubicBezTo>
                <a:cubicBezTo>
                  <a:pt x="18976" y="4779"/>
                  <a:pt x="18993" y="4787"/>
                  <a:pt x="19050" y="4762"/>
                </a:cubicBezTo>
              </a:path>
              <a:path w="3995" h="1737">
                <a:moveTo>
                  <a:pt x="20414" y="5383"/>
                </a:moveTo>
                <a:cubicBezTo>
                  <a:pt x="20248" y="5498"/>
                  <a:pt x="20179" y="5646"/>
                  <a:pt x="20042" y="5829"/>
                </a:cubicBezTo>
                <a:cubicBezTo>
                  <a:pt x="19900" y="6019"/>
                  <a:pt x="19792" y="6145"/>
                  <a:pt x="19645" y="6325"/>
                </a:cubicBezTo>
                <a:cubicBezTo>
                  <a:pt x="19616" y="6361"/>
                  <a:pt x="19605" y="6391"/>
                  <a:pt x="19571" y="64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70840" y="4081320"/>
            <a:ext cx="714240" cy="428760"/>
          </a:xfrm>
          <a:custGeom>
            <a:avLst/>
            <a:gdLst/>
            <a:ahLst/>
            <a:rect l="l" t="t" r="r" b="b"/>
            <a:pathLst>
              <a:path w="1986" h="1191">
                <a:moveTo>
                  <a:pt x="21903" y="11708"/>
                </a:moveTo>
                <a:cubicBezTo>
                  <a:pt x="21853" y="11714"/>
                  <a:pt x="21802" y="11719"/>
                  <a:pt x="21754" y="11733"/>
                </a:cubicBezTo>
                <a:cubicBezTo>
                  <a:pt x="21427" y="11827"/>
                  <a:pt x="21123" y="11915"/>
                  <a:pt x="20786" y="11956"/>
                </a:cubicBezTo>
                <a:cubicBezTo>
                  <a:pt x="20625" y="11976"/>
                  <a:pt x="20086" y="12018"/>
                  <a:pt x="19943" y="11931"/>
                </a:cubicBezTo>
                <a:cubicBezTo>
                  <a:pt x="19988" y="11738"/>
                  <a:pt x="20056" y="11659"/>
                  <a:pt x="20191" y="11509"/>
                </a:cubicBezTo>
                <a:cubicBezTo>
                  <a:pt x="20284" y="11406"/>
                  <a:pt x="20415" y="11382"/>
                  <a:pt x="20538" y="11336"/>
                </a:cubicBezTo>
                <a:cubicBezTo>
                  <a:pt x="20450" y="11395"/>
                  <a:pt x="20413" y="11452"/>
                  <a:pt x="20340" y="11534"/>
                </a:cubicBezTo>
                <a:cubicBezTo>
                  <a:pt x="20260" y="11623"/>
                  <a:pt x="20217" y="11716"/>
                  <a:pt x="20141" y="11807"/>
                </a:cubicBezTo>
                <a:cubicBezTo>
                  <a:pt x="20124" y="11827"/>
                  <a:pt x="20105" y="11830"/>
                  <a:pt x="20067" y="11832"/>
                </a:cubicBezTo>
                <a:cubicBezTo>
                  <a:pt x="20023" y="11835"/>
                  <a:pt x="20018" y="11837"/>
                  <a:pt x="19993" y="11857"/>
                </a:cubicBezTo>
                <a:cubicBezTo>
                  <a:pt x="19975" y="11871"/>
                  <a:pt x="19935" y="11873"/>
                  <a:pt x="19918" y="11906"/>
                </a:cubicBezTo>
                <a:cubicBezTo>
                  <a:pt x="19887" y="11967"/>
                  <a:pt x="19997" y="12078"/>
                  <a:pt x="20017" y="12105"/>
                </a:cubicBezTo>
                <a:cubicBezTo>
                  <a:pt x="20084" y="12196"/>
                  <a:pt x="20086" y="12220"/>
                  <a:pt x="20166" y="12278"/>
                </a:cubicBezTo>
                <a:cubicBezTo>
                  <a:pt x="20233" y="12327"/>
                  <a:pt x="20308" y="12335"/>
                  <a:pt x="20365" y="12402"/>
                </a:cubicBezTo>
                <a:cubicBezTo>
                  <a:pt x="20459" y="12512"/>
                  <a:pt x="20416" y="12502"/>
                  <a:pt x="20513" y="12526"/>
                </a:cubicBezTo>
                <a:cubicBezTo>
                  <a:pt x="20538" y="12526"/>
                  <a:pt x="20546" y="12526"/>
                  <a:pt x="20563" y="1252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8 Name the Muscl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surface of the fibula and the adjacent interosseous membra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and dorsal center of distal phalanx of great t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#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302600" y="0"/>
            <a:ext cx="1841400" cy="69343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724800" y="4017960"/>
            <a:ext cx="1758960" cy="1411200"/>
          </a:xfrm>
          <a:custGeom>
            <a:avLst/>
            <a:gdLst/>
            <a:ahLst/>
            <a:rect l="l" t="t" r="r" b="b"/>
            <a:pathLst>
              <a:path w="4887" h="3920">
                <a:moveTo>
                  <a:pt x="18678" y="11162"/>
                </a:moveTo>
                <a:cubicBezTo>
                  <a:pt x="18954" y="11360"/>
                  <a:pt x="19226" y="11572"/>
                  <a:pt x="19496" y="11782"/>
                </a:cubicBezTo>
                <a:cubicBezTo>
                  <a:pt x="19767" y="11993"/>
                  <a:pt x="19834" y="12225"/>
                  <a:pt x="20042" y="12477"/>
                </a:cubicBezTo>
                <a:cubicBezTo>
                  <a:pt x="20196" y="12663"/>
                  <a:pt x="20454" y="12829"/>
                  <a:pt x="20662" y="12948"/>
                </a:cubicBezTo>
                <a:cubicBezTo>
                  <a:pt x="20974" y="13127"/>
                  <a:pt x="21342" y="13196"/>
                  <a:pt x="21654" y="13345"/>
                </a:cubicBezTo>
                <a:cubicBezTo>
                  <a:pt x="21913" y="13469"/>
                  <a:pt x="22111" y="13709"/>
                  <a:pt x="22374" y="13841"/>
                </a:cubicBezTo>
                <a:cubicBezTo>
                  <a:pt x="22843" y="14076"/>
                  <a:pt x="23127" y="14469"/>
                  <a:pt x="23515" y="14734"/>
                </a:cubicBezTo>
                <a:cubicBezTo>
                  <a:pt x="23556" y="14734"/>
                  <a:pt x="23572" y="14726"/>
                  <a:pt x="23564" y="14759"/>
                </a:cubicBezTo>
                <a:cubicBezTo>
                  <a:pt x="23206" y="14361"/>
                  <a:pt x="22750" y="13815"/>
                  <a:pt x="22399" y="13395"/>
                </a:cubicBezTo>
                <a:cubicBezTo>
                  <a:pt x="22052" y="12980"/>
                  <a:pt x="22057" y="12960"/>
                  <a:pt x="21878" y="12675"/>
                </a:cubicBezTo>
                <a:cubicBezTo>
                  <a:pt x="22182" y="13043"/>
                  <a:pt x="22386" y="13393"/>
                  <a:pt x="22597" y="13816"/>
                </a:cubicBezTo>
                <a:cubicBezTo>
                  <a:pt x="22609" y="13841"/>
                  <a:pt x="22654" y="13945"/>
                  <a:pt x="22671" y="13965"/>
                </a:cubicBezTo>
                <a:cubicBezTo>
                  <a:pt x="22722" y="14023"/>
                  <a:pt x="22759" y="14011"/>
                  <a:pt x="22796" y="14039"/>
                </a:cubicBezTo>
              </a:path>
              <a:path w="4887" h="3920">
                <a:moveTo>
                  <a:pt x="23366" y="14684"/>
                </a:moveTo>
                <a:cubicBezTo>
                  <a:pt x="23306" y="14695"/>
                  <a:pt x="23253" y="14704"/>
                  <a:pt x="23192" y="14734"/>
                </a:cubicBezTo>
                <a:cubicBezTo>
                  <a:pt x="22931" y="14863"/>
                  <a:pt x="22684" y="14930"/>
                  <a:pt x="22399" y="15007"/>
                </a:cubicBezTo>
                <a:cubicBezTo>
                  <a:pt x="22182" y="15065"/>
                  <a:pt x="21928" y="15069"/>
                  <a:pt x="21704" y="15081"/>
                </a:cubicBezTo>
                <a:cubicBezTo>
                  <a:pt x="21564" y="15088"/>
                  <a:pt x="21422" y="15081"/>
                  <a:pt x="21282" y="1508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0) Name the Mus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rsal ilium inferior to iliac c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and superior surfaces of great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#51 of thig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glutmedius: "/>
          <p:cNvPicPr/>
          <p:nvPr/>
        </p:nvPicPr>
        <p:blipFill>
          <a:blip r:embed="rId1"/>
          <a:stretch/>
        </p:blipFill>
        <p:spPr>
          <a:xfrm>
            <a:off x="5796000" y="1371600"/>
            <a:ext cx="334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condyle of fibula, upper 2/3 - 3/4 of medial fibular shaft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lits into 4 tendon slips each of which insert on middle and distal phalan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#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52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859880" y="0"/>
            <a:ext cx="128412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232760" y="4973760"/>
            <a:ext cx="876240" cy="571320"/>
          </a:xfrm>
          <a:custGeom>
            <a:avLst/>
            <a:gdLst/>
            <a:ahLst/>
            <a:rect l="l" t="t" r="r" b="b"/>
            <a:pathLst>
              <a:path w="2432" h="1589">
                <a:moveTo>
                  <a:pt x="20092" y="13816"/>
                </a:moveTo>
                <a:cubicBezTo>
                  <a:pt x="20250" y="13873"/>
                  <a:pt x="20405" y="13952"/>
                  <a:pt x="20563" y="14015"/>
                </a:cubicBezTo>
                <a:cubicBezTo>
                  <a:pt x="20686" y="14064"/>
                  <a:pt x="20815" y="14142"/>
                  <a:pt x="20935" y="14188"/>
                </a:cubicBezTo>
                <a:cubicBezTo>
                  <a:pt x="21190" y="14285"/>
                  <a:pt x="21392" y="14414"/>
                  <a:pt x="21630" y="14536"/>
                </a:cubicBezTo>
                <a:cubicBezTo>
                  <a:pt x="21665" y="14554"/>
                  <a:pt x="21718" y="14564"/>
                  <a:pt x="21754" y="14585"/>
                </a:cubicBezTo>
                <a:cubicBezTo>
                  <a:pt x="21776" y="14598"/>
                  <a:pt x="21856" y="14672"/>
                  <a:pt x="21903" y="14684"/>
                </a:cubicBezTo>
                <a:cubicBezTo>
                  <a:pt x="21971" y="14701"/>
                  <a:pt x="22036" y="14688"/>
                  <a:pt x="22101" y="14734"/>
                </a:cubicBezTo>
                <a:cubicBezTo>
                  <a:pt x="22141" y="14762"/>
                  <a:pt x="22179" y="14824"/>
                  <a:pt x="22225" y="14858"/>
                </a:cubicBezTo>
                <a:cubicBezTo>
                  <a:pt x="22254" y="14879"/>
                  <a:pt x="22277" y="14892"/>
                  <a:pt x="22299" y="14908"/>
                </a:cubicBezTo>
                <a:cubicBezTo>
                  <a:pt x="22320" y="14924"/>
                  <a:pt x="22354" y="14922"/>
                  <a:pt x="22374" y="14932"/>
                </a:cubicBezTo>
                <a:cubicBezTo>
                  <a:pt x="22395" y="14943"/>
                  <a:pt x="22399" y="14952"/>
                  <a:pt x="22448" y="14957"/>
                </a:cubicBezTo>
                <a:cubicBezTo>
                  <a:pt x="22473" y="14957"/>
                  <a:pt x="22481" y="14957"/>
                  <a:pt x="22498" y="14957"/>
                </a:cubicBezTo>
                <a:cubicBezTo>
                  <a:pt x="22514" y="14833"/>
                  <a:pt x="22520" y="14714"/>
                  <a:pt x="22523" y="14585"/>
                </a:cubicBezTo>
                <a:cubicBezTo>
                  <a:pt x="22526" y="14432"/>
                  <a:pt x="22508" y="14304"/>
                  <a:pt x="22473" y="14163"/>
                </a:cubicBezTo>
                <a:cubicBezTo>
                  <a:pt x="22459" y="14108"/>
                  <a:pt x="22424" y="14058"/>
                  <a:pt x="22399" y="14015"/>
                </a:cubicBezTo>
                <a:cubicBezTo>
                  <a:pt x="22389" y="14052"/>
                  <a:pt x="22337" y="14193"/>
                  <a:pt x="22349" y="14312"/>
                </a:cubicBezTo>
                <a:cubicBezTo>
                  <a:pt x="22360" y="14423"/>
                  <a:pt x="22424" y="14493"/>
                  <a:pt x="22448" y="14585"/>
                </a:cubicBezTo>
                <a:cubicBezTo>
                  <a:pt x="22488" y="14740"/>
                  <a:pt x="22464" y="14968"/>
                  <a:pt x="22349" y="15056"/>
                </a:cubicBezTo>
                <a:cubicBezTo>
                  <a:pt x="22244" y="15136"/>
                  <a:pt x="22076" y="15282"/>
                  <a:pt x="21952" y="15329"/>
                </a:cubicBezTo>
                <a:cubicBezTo>
                  <a:pt x="21906" y="15346"/>
                  <a:pt x="21857" y="15372"/>
                  <a:pt x="21828" y="15379"/>
                </a:cubicBezTo>
                <a:cubicBezTo>
                  <a:pt x="21798" y="15387"/>
                  <a:pt x="21753" y="15399"/>
                  <a:pt x="21729" y="15404"/>
                </a:cubicBezTo>
                <a:cubicBezTo>
                  <a:pt x="21721" y="15404"/>
                  <a:pt x="21712" y="15404"/>
                  <a:pt x="21704" y="1540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4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condyle of tibia, proximal 1/2 - 2/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and plantar surfaces of 1st cuneiform and on base of first metatars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tibanterior: "/>
          <p:cNvPicPr/>
          <p:nvPr/>
        </p:nvPicPr>
        <p:blipFill>
          <a:blip r:embed="rId1"/>
          <a:stretch/>
        </p:blipFill>
        <p:spPr>
          <a:xfrm>
            <a:off x="7816680" y="0"/>
            <a:ext cx="1327320" cy="70866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670880" y="31528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21307" y="8756"/>
                </a:moveTo>
                <a:lnTo>
                  <a:pt x="21307" y="875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6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ior 2/3 of lateral fibular surface; also anterior and posterior intermuscular septa of l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of 5th metatarsal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ficial peroneal ner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2524320" cy="5562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769080" y="4983120"/>
            <a:ext cx="1160640" cy="1214640"/>
          </a:xfrm>
          <a:custGeom>
            <a:avLst/>
            <a:gdLst/>
            <a:ahLst/>
            <a:rect l="l" t="t" r="r" b="b"/>
            <a:pathLst>
              <a:path w="3226" h="3374">
                <a:moveTo>
                  <a:pt x="22027" y="13841"/>
                </a:moveTo>
                <a:cubicBezTo>
                  <a:pt x="21783" y="14015"/>
                  <a:pt x="21536" y="14188"/>
                  <a:pt x="21307" y="14387"/>
                </a:cubicBezTo>
                <a:cubicBezTo>
                  <a:pt x="21112" y="14557"/>
                  <a:pt x="20948" y="14733"/>
                  <a:pt x="20786" y="14932"/>
                </a:cubicBezTo>
                <a:cubicBezTo>
                  <a:pt x="20701" y="15036"/>
                  <a:pt x="20614" y="15167"/>
                  <a:pt x="20513" y="15255"/>
                </a:cubicBezTo>
                <a:cubicBezTo>
                  <a:pt x="20422" y="15334"/>
                  <a:pt x="20352" y="15393"/>
                  <a:pt x="20265" y="15478"/>
                </a:cubicBezTo>
                <a:cubicBezTo>
                  <a:pt x="20191" y="15550"/>
                  <a:pt x="20122" y="15641"/>
                  <a:pt x="20067" y="15726"/>
                </a:cubicBezTo>
                <a:cubicBezTo>
                  <a:pt x="20015" y="15805"/>
                  <a:pt x="20003" y="15835"/>
                  <a:pt x="19943" y="15900"/>
                </a:cubicBezTo>
                <a:cubicBezTo>
                  <a:pt x="19909" y="15937"/>
                  <a:pt x="19856" y="15997"/>
                  <a:pt x="19819" y="16049"/>
                </a:cubicBezTo>
                <a:cubicBezTo>
                  <a:pt x="19756" y="16136"/>
                  <a:pt x="19701" y="16231"/>
                  <a:pt x="19645" y="16321"/>
                </a:cubicBezTo>
                <a:cubicBezTo>
                  <a:pt x="19617" y="16366"/>
                  <a:pt x="19581" y="16421"/>
                  <a:pt x="19546" y="16470"/>
                </a:cubicBezTo>
                <a:cubicBezTo>
                  <a:pt x="19534" y="16487"/>
                  <a:pt x="19498" y="16547"/>
                  <a:pt x="19472" y="16570"/>
                </a:cubicBezTo>
                <a:cubicBezTo>
                  <a:pt x="19435" y="16602"/>
                  <a:pt x="19419" y="16625"/>
                  <a:pt x="19397" y="16644"/>
                </a:cubicBezTo>
                <a:cubicBezTo>
                  <a:pt x="19372" y="16665"/>
                  <a:pt x="19328" y="16688"/>
                  <a:pt x="19298" y="16718"/>
                </a:cubicBezTo>
                <a:cubicBezTo>
                  <a:pt x="19278" y="16738"/>
                  <a:pt x="19271" y="16749"/>
                  <a:pt x="19248" y="16768"/>
                </a:cubicBezTo>
                <a:cubicBezTo>
                  <a:pt x="19222" y="16790"/>
                  <a:pt x="19176" y="16805"/>
                  <a:pt x="19149" y="16842"/>
                </a:cubicBezTo>
                <a:cubicBezTo>
                  <a:pt x="19123" y="16877"/>
                  <a:pt x="19122" y="16963"/>
                  <a:pt x="19100" y="16991"/>
                </a:cubicBezTo>
                <a:cubicBezTo>
                  <a:pt x="19084" y="17011"/>
                  <a:pt x="19040" y="17018"/>
                  <a:pt x="19025" y="17041"/>
                </a:cubicBezTo>
                <a:cubicBezTo>
                  <a:pt x="18995" y="17087"/>
                  <a:pt x="19011" y="17058"/>
                  <a:pt x="18976" y="17140"/>
                </a:cubicBezTo>
                <a:cubicBezTo>
                  <a:pt x="18933" y="17154"/>
                  <a:pt x="18935" y="17154"/>
                  <a:pt x="18901" y="17165"/>
                </a:cubicBezTo>
                <a:cubicBezTo>
                  <a:pt x="18864" y="17177"/>
                  <a:pt x="18875" y="17179"/>
                  <a:pt x="18827" y="17190"/>
                </a:cubicBezTo>
                <a:cubicBezTo>
                  <a:pt x="18819" y="17190"/>
                  <a:pt x="18810" y="17190"/>
                  <a:pt x="18802" y="17190"/>
                </a:cubicBezTo>
                <a:cubicBezTo>
                  <a:pt x="18802" y="17075"/>
                  <a:pt x="18822" y="16885"/>
                  <a:pt x="18827" y="16818"/>
                </a:cubicBezTo>
                <a:cubicBezTo>
                  <a:pt x="18829" y="16785"/>
                  <a:pt x="18825" y="16751"/>
                  <a:pt x="18827" y="16718"/>
                </a:cubicBezTo>
                <a:cubicBezTo>
                  <a:pt x="18827" y="16849"/>
                  <a:pt x="18842" y="17024"/>
                  <a:pt x="18852" y="17115"/>
                </a:cubicBezTo>
                <a:cubicBezTo>
                  <a:pt x="18855" y="17139"/>
                  <a:pt x="18847" y="17167"/>
                  <a:pt x="18852" y="17190"/>
                </a:cubicBezTo>
                <a:cubicBezTo>
                  <a:pt x="18890" y="17197"/>
                  <a:pt x="18916" y="17211"/>
                  <a:pt x="18951" y="17214"/>
                </a:cubicBezTo>
                <a:cubicBezTo>
                  <a:pt x="19237" y="17240"/>
                  <a:pt x="19565" y="17247"/>
                  <a:pt x="19844" y="17190"/>
                </a:cubicBezTo>
                <a:cubicBezTo>
                  <a:pt x="19938" y="17171"/>
                  <a:pt x="19877" y="17159"/>
                  <a:pt x="19918" y="171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00960" y="3133800"/>
            <a:ext cx="1339920" cy="1339920"/>
          </a:xfrm>
          <a:custGeom>
            <a:avLst/>
            <a:gdLst/>
            <a:ahLst/>
            <a:rect l="l" t="t" r="r" b="b"/>
            <a:pathLst>
              <a:path w="3722" h="3722">
                <a:moveTo>
                  <a:pt x="22175" y="10145"/>
                </a:moveTo>
                <a:cubicBezTo>
                  <a:pt x="22139" y="10163"/>
                  <a:pt x="22130" y="10153"/>
                  <a:pt x="22101" y="10170"/>
                </a:cubicBezTo>
                <a:cubicBezTo>
                  <a:pt x="21821" y="10337"/>
                  <a:pt x="21584" y="10727"/>
                  <a:pt x="21382" y="10964"/>
                </a:cubicBezTo>
                <a:cubicBezTo>
                  <a:pt x="21230" y="11143"/>
                  <a:pt x="21067" y="11328"/>
                  <a:pt x="20935" y="11509"/>
                </a:cubicBezTo>
                <a:cubicBezTo>
                  <a:pt x="20902" y="11555"/>
                  <a:pt x="20827" y="11605"/>
                  <a:pt x="20836" y="11683"/>
                </a:cubicBezTo>
                <a:cubicBezTo>
                  <a:pt x="20858" y="11869"/>
                  <a:pt x="20965" y="12013"/>
                  <a:pt x="21134" y="12105"/>
                </a:cubicBezTo>
                <a:cubicBezTo>
                  <a:pt x="21216" y="12149"/>
                  <a:pt x="21298" y="12161"/>
                  <a:pt x="21382" y="12179"/>
                </a:cubicBezTo>
                <a:cubicBezTo>
                  <a:pt x="21390" y="12179"/>
                  <a:pt x="21398" y="12179"/>
                  <a:pt x="21406" y="12179"/>
                </a:cubicBezTo>
                <a:cubicBezTo>
                  <a:pt x="21611" y="11761"/>
                  <a:pt x="21763" y="11425"/>
                  <a:pt x="22126" y="11088"/>
                </a:cubicBezTo>
                <a:cubicBezTo>
                  <a:pt x="22357" y="10874"/>
                  <a:pt x="22326" y="10963"/>
                  <a:pt x="22473" y="10889"/>
                </a:cubicBezTo>
                <a:cubicBezTo>
                  <a:pt x="22669" y="11047"/>
                  <a:pt x="22720" y="11311"/>
                  <a:pt x="22796" y="11559"/>
                </a:cubicBezTo>
                <a:cubicBezTo>
                  <a:pt x="22806" y="11591"/>
                  <a:pt x="22866" y="11760"/>
                  <a:pt x="22845" y="11807"/>
                </a:cubicBezTo>
                <a:cubicBezTo>
                  <a:pt x="22719" y="12091"/>
                  <a:pt x="22415" y="12236"/>
                  <a:pt x="22151" y="12402"/>
                </a:cubicBezTo>
                <a:cubicBezTo>
                  <a:pt x="22140" y="12409"/>
                  <a:pt x="22078" y="12427"/>
                  <a:pt x="22076" y="12427"/>
                </a:cubicBezTo>
                <a:cubicBezTo>
                  <a:pt x="21929" y="12395"/>
                  <a:pt x="22257" y="12249"/>
                  <a:pt x="22374" y="12154"/>
                </a:cubicBezTo>
              </a:path>
              <a:path w="3722" h="3722">
                <a:moveTo>
                  <a:pt x="22597" y="9773"/>
                </a:moveTo>
                <a:cubicBezTo>
                  <a:pt x="22572" y="9773"/>
                  <a:pt x="22564" y="9773"/>
                  <a:pt x="22547" y="9773"/>
                </a:cubicBezTo>
                <a:cubicBezTo>
                  <a:pt x="22715" y="9865"/>
                  <a:pt x="22869" y="9999"/>
                  <a:pt x="23019" y="10096"/>
                </a:cubicBezTo>
                <a:cubicBezTo>
                  <a:pt x="23027" y="10096"/>
                  <a:pt x="23036" y="10096"/>
                  <a:pt x="23044" y="10096"/>
                </a:cubicBezTo>
              </a:path>
              <a:path w="3722" h="3722">
                <a:moveTo>
                  <a:pt x="22473" y="9897"/>
                </a:moveTo>
                <a:cubicBezTo>
                  <a:pt x="22473" y="9793"/>
                  <a:pt x="22472" y="9757"/>
                  <a:pt x="22547" y="9649"/>
                </a:cubicBezTo>
                <a:cubicBezTo>
                  <a:pt x="22730" y="9386"/>
                  <a:pt x="22963" y="9148"/>
                  <a:pt x="23118" y="8880"/>
                </a:cubicBezTo>
              </a:path>
              <a:path w="3722" h="3722">
                <a:moveTo>
                  <a:pt x="23044" y="8930"/>
                </a:moveTo>
                <a:cubicBezTo>
                  <a:pt x="23067" y="8948"/>
                  <a:pt x="23154" y="9034"/>
                  <a:pt x="23192" y="9054"/>
                </a:cubicBezTo>
                <a:cubicBezTo>
                  <a:pt x="23366" y="9148"/>
                  <a:pt x="23585" y="9185"/>
                  <a:pt x="23738" y="9302"/>
                </a:cubicBezTo>
                <a:cubicBezTo>
                  <a:pt x="23764" y="9322"/>
                  <a:pt x="23803" y="9397"/>
                  <a:pt x="23812" y="9426"/>
                </a:cubicBezTo>
                <a:cubicBezTo>
                  <a:pt x="23812" y="9434"/>
                  <a:pt x="23812" y="9443"/>
                  <a:pt x="23812" y="9451"/>
                </a:cubicBezTo>
                <a:cubicBezTo>
                  <a:pt x="23764" y="9402"/>
                  <a:pt x="23744" y="9389"/>
                  <a:pt x="23713" y="9327"/>
                </a:cubicBezTo>
                <a:cubicBezTo>
                  <a:pt x="23706" y="9313"/>
                  <a:pt x="23646" y="9206"/>
                  <a:pt x="23664" y="9178"/>
                </a:cubicBezTo>
                <a:cubicBezTo>
                  <a:pt x="23766" y="9021"/>
                  <a:pt x="23940" y="8932"/>
                  <a:pt x="24085" y="8806"/>
                </a:cubicBezTo>
                <a:cubicBezTo>
                  <a:pt x="24134" y="8763"/>
                  <a:pt x="24225" y="8723"/>
                  <a:pt x="24284" y="8706"/>
                </a:cubicBezTo>
                <a:cubicBezTo>
                  <a:pt x="24373" y="8681"/>
                  <a:pt x="24455" y="8705"/>
                  <a:pt x="24507" y="8781"/>
                </a:cubicBezTo>
                <a:cubicBezTo>
                  <a:pt x="24540" y="8829"/>
                  <a:pt x="24514" y="8820"/>
                  <a:pt x="24557" y="885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8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 of fibula, upper 1/2 - 2/3 of lateral fibular sha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cuneiform and lateral side of 1st metatarsal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ficial perone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359400" y="1066680"/>
            <a:ext cx="2629080" cy="57913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724880" y="4044960"/>
            <a:ext cx="955440" cy="1884240"/>
          </a:xfrm>
          <a:custGeom>
            <a:avLst/>
            <a:gdLst/>
            <a:ahLst/>
            <a:rect l="l" t="t" r="r" b="b"/>
            <a:pathLst>
              <a:path w="2655" h="5234">
                <a:moveTo>
                  <a:pt x="23019" y="15503"/>
                </a:moveTo>
                <a:cubicBezTo>
                  <a:pt x="22927" y="15544"/>
                  <a:pt x="22808" y="15584"/>
                  <a:pt x="22721" y="15602"/>
                </a:cubicBezTo>
                <a:cubicBezTo>
                  <a:pt x="22662" y="15614"/>
                  <a:pt x="22622" y="15609"/>
                  <a:pt x="22572" y="15627"/>
                </a:cubicBezTo>
                <a:cubicBezTo>
                  <a:pt x="22309" y="15719"/>
                  <a:pt x="22105" y="15920"/>
                  <a:pt x="21878" y="16073"/>
                </a:cubicBezTo>
                <a:cubicBezTo>
                  <a:pt x="21837" y="16101"/>
                  <a:pt x="21807" y="16101"/>
                  <a:pt x="21779" y="16123"/>
                </a:cubicBezTo>
                <a:cubicBezTo>
                  <a:pt x="21718" y="16170"/>
                  <a:pt x="21649" y="16253"/>
                  <a:pt x="21605" y="16297"/>
                </a:cubicBezTo>
                <a:cubicBezTo>
                  <a:pt x="21605" y="16321"/>
                  <a:pt x="21605" y="16329"/>
                  <a:pt x="21580" y="16321"/>
                </a:cubicBezTo>
                <a:cubicBezTo>
                  <a:pt x="21580" y="16276"/>
                  <a:pt x="21602" y="16227"/>
                  <a:pt x="21605" y="16197"/>
                </a:cubicBezTo>
                <a:cubicBezTo>
                  <a:pt x="21612" y="16116"/>
                  <a:pt x="21605" y="16031"/>
                  <a:pt x="21605" y="15949"/>
                </a:cubicBezTo>
                <a:cubicBezTo>
                  <a:pt x="21555" y="16115"/>
                  <a:pt x="21497" y="16278"/>
                  <a:pt x="21456" y="16446"/>
                </a:cubicBezTo>
                <a:cubicBezTo>
                  <a:pt x="21456" y="16454"/>
                  <a:pt x="21456" y="16462"/>
                  <a:pt x="21456" y="16470"/>
                </a:cubicBezTo>
                <a:cubicBezTo>
                  <a:pt x="21803" y="16470"/>
                  <a:pt x="22151" y="16470"/>
                  <a:pt x="22498" y="16470"/>
                </a:cubicBezTo>
              </a:path>
              <a:path w="2655" h="5234">
                <a:moveTo>
                  <a:pt x="22051" y="13667"/>
                </a:moveTo>
                <a:cubicBezTo>
                  <a:pt x="22051" y="13208"/>
                  <a:pt x="22131" y="12779"/>
                  <a:pt x="22175" y="12328"/>
                </a:cubicBezTo>
                <a:cubicBezTo>
                  <a:pt x="22175" y="12303"/>
                  <a:pt x="22175" y="12295"/>
                  <a:pt x="22175" y="12278"/>
                </a:cubicBezTo>
                <a:cubicBezTo>
                  <a:pt x="22261" y="12357"/>
                  <a:pt x="22358" y="12424"/>
                  <a:pt x="22423" y="12551"/>
                </a:cubicBezTo>
                <a:cubicBezTo>
                  <a:pt x="22528" y="12756"/>
                  <a:pt x="22682" y="13002"/>
                  <a:pt x="22746" y="13221"/>
                </a:cubicBezTo>
                <a:cubicBezTo>
                  <a:pt x="22761" y="13272"/>
                  <a:pt x="22775" y="13322"/>
                  <a:pt x="22796" y="13370"/>
                </a:cubicBezTo>
                <a:cubicBezTo>
                  <a:pt x="22830" y="13451"/>
                  <a:pt x="22883" y="13512"/>
                  <a:pt x="22920" y="13593"/>
                </a:cubicBezTo>
                <a:cubicBezTo>
                  <a:pt x="22949" y="13656"/>
                  <a:pt x="22941" y="13668"/>
                  <a:pt x="22969" y="13717"/>
                </a:cubicBezTo>
              </a:path>
              <a:path w="2655" h="5234">
                <a:moveTo>
                  <a:pt x="22051" y="14784"/>
                </a:moveTo>
                <a:cubicBezTo>
                  <a:pt x="22097" y="14751"/>
                  <a:pt x="22091" y="14752"/>
                  <a:pt x="22126" y="14709"/>
                </a:cubicBezTo>
                <a:cubicBezTo>
                  <a:pt x="22272" y="14529"/>
                  <a:pt x="22420" y="14359"/>
                  <a:pt x="22597" y="14213"/>
                </a:cubicBezTo>
                <a:cubicBezTo>
                  <a:pt x="22618" y="14196"/>
                  <a:pt x="22625" y="14163"/>
                  <a:pt x="22647" y="14139"/>
                </a:cubicBezTo>
                <a:cubicBezTo>
                  <a:pt x="22783" y="13989"/>
                  <a:pt x="22883" y="13823"/>
                  <a:pt x="23019" y="13667"/>
                </a:cubicBezTo>
                <a:cubicBezTo>
                  <a:pt x="23067" y="13612"/>
                  <a:pt x="23080" y="13614"/>
                  <a:pt x="23118" y="13568"/>
                </a:cubicBezTo>
                <a:cubicBezTo>
                  <a:pt x="23159" y="13518"/>
                  <a:pt x="23212" y="13449"/>
                  <a:pt x="23242" y="13419"/>
                </a:cubicBezTo>
                <a:cubicBezTo>
                  <a:pt x="23262" y="13399"/>
                  <a:pt x="23265" y="13385"/>
                  <a:pt x="23267" y="13345"/>
                </a:cubicBezTo>
                <a:cubicBezTo>
                  <a:pt x="23271" y="13282"/>
                  <a:pt x="23273" y="13250"/>
                  <a:pt x="23292" y="13196"/>
                </a:cubicBezTo>
                <a:cubicBezTo>
                  <a:pt x="23311" y="13155"/>
                  <a:pt x="23319" y="13149"/>
                  <a:pt x="23316" y="13122"/>
                </a:cubicBezTo>
              </a:path>
              <a:path w="2655" h="5234">
                <a:moveTo>
                  <a:pt x="23292" y="11435"/>
                </a:moveTo>
                <a:cubicBezTo>
                  <a:pt x="23170" y="11398"/>
                  <a:pt x="23022" y="11397"/>
                  <a:pt x="22895" y="11435"/>
                </a:cubicBezTo>
                <a:cubicBezTo>
                  <a:pt x="22807" y="11461"/>
                  <a:pt x="22771" y="11482"/>
                  <a:pt x="22771" y="11559"/>
                </a:cubicBezTo>
                <a:cubicBezTo>
                  <a:pt x="22771" y="11710"/>
                  <a:pt x="22915" y="11708"/>
                  <a:pt x="23019" y="11733"/>
                </a:cubicBezTo>
                <a:cubicBezTo>
                  <a:pt x="23075" y="11746"/>
                  <a:pt x="23168" y="11774"/>
                  <a:pt x="23217" y="11807"/>
                </a:cubicBezTo>
                <a:cubicBezTo>
                  <a:pt x="23243" y="11825"/>
                  <a:pt x="23264" y="11878"/>
                  <a:pt x="23267" y="11906"/>
                </a:cubicBezTo>
                <a:cubicBezTo>
                  <a:pt x="23284" y="12062"/>
                  <a:pt x="23024" y="12104"/>
                  <a:pt x="22920" y="12179"/>
                </a:cubicBezTo>
                <a:cubicBezTo>
                  <a:pt x="22864" y="12235"/>
                  <a:pt x="22866" y="12260"/>
                  <a:pt x="22820" y="12254"/>
                </a:cubicBezTo>
              </a:path>
              <a:path w="2655" h="5234">
                <a:moveTo>
                  <a:pt x="23589" y="11237"/>
                </a:moveTo>
                <a:cubicBezTo>
                  <a:pt x="23589" y="11452"/>
                  <a:pt x="23589" y="11666"/>
                  <a:pt x="23589" y="11881"/>
                </a:cubicBezTo>
              </a:path>
              <a:path w="2655" h="5234">
                <a:moveTo>
                  <a:pt x="23440" y="11410"/>
                </a:moveTo>
                <a:cubicBezTo>
                  <a:pt x="23488" y="11398"/>
                  <a:pt x="23479" y="11369"/>
                  <a:pt x="23515" y="11361"/>
                </a:cubicBezTo>
                <a:cubicBezTo>
                  <a:pt x="23619" y="11339"/>
                  <a:pt x="23706" y="11311"/>
                  <a:pt x="23812" y="11311"/>
                </a:cubicBezTo>
                <a:cubicBezTo>
                  <a:pt x="23911" y="11311"/>
                  <a:pt x="24011" y="11311"/>
                  <a:pt x="24110" y="1131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 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posterior nonarticular surface of medial femoral condy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r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lateral surface of femoral lateral cond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hilles tendon, inserting on the middle 1/3 of the posterior calcaneal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#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l nerve (S1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gastrocnemiuspost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2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aspect of fibular head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lles tendon, inserting on the middle 1/3 of the posterior calcaneal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 (S1, S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8 cost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iac crest, ligamentum ingu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rv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6 intercostal nerve + subcost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es torso on the opposite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648320" y="1438200"/>
            <a:ext cx="4324320" cy="54198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483080" y="3544920"/>
            <a:ext cx="3062160" cy="1046160"/>
          </a:xfrm>
          <a:custGeom>
            <a:avLst/>
            <a:gdLst/>
            <a:ahLst/>
            <a:rect l="l" t="t" r="r" b="b"/>
            <a:pathLst>
              <a:path w="8509" h="2904">
                <a:moveTo>
                  <a:pt x="20042" y="12626"/>
                </a:moveTo>
                <a:cubicBezTo>
                  <a:pt x="19895" y="12626"/>
                  <a:pt x="19674" y="12669"/>
                  <a:pt x="19546" y="12601"/>
                </a:cubicBezTo>
                <a:cubicBezTo>
                  <a:pt x="19524" y="12589"/>
                  <a:pt x="19523" y="12579"/>
                  <a:pt x="19472" y="12576"/>
                </a:cubicBezTo>
                <a:cubicBezTo>
                  <a:pt x="19318" y="12567"/>
                  <a:pt x="19120" y="12551"/>
                  <a:pt x="18976" y="12601"/>
                </a:cubicBezTo>
                <a:cubicBezTo>
                  <a:pt x="18915" y="12622"/>
                  <a:pt x="18832" y="12634"/>
                  <a:pt x="18777" y="12675"/>
                </a:cubicBezTo>
                <a:cubicBezTo>
                  <a:pt x="18724" y="12714"/>
                  <a:pt x="18702" y="12722"/>
                  <a:pt x="18653" y="12750"/>
                </a:cubicBezTo>
                <a:cubicBezTo>
                  <a:pt x="18631" y="12727"/>
                  <a:pt x="18624" y="12701"/>
                  <a:pt x="18604" y="12675"/>
                </a:cubicBezTo>
                <a:cubicBezTo>
                  <a:pt x="18574" y="12637"/>
                  <a:pt x="18600" y="12637"/>
                  <a:pt x="18579" y="12576"/>
                </a:cubicBezTo>
                <a:cubicBezTo>
                  <a:pt x="18572" y="12556"/>
                  <a:pt x="18535" y="12506"/>
                  <a:pt x="18529" y="12502"/>
                </a:cubicBezTo>
                <a:cubicBezTo>
                  <a:pt x="18498" y="12480"/>
                  <a:pt x="18486" y="12474"/>
                  <a:pt x="18455" y="12452"/>
                </a:cubicBezTo>
                <a:cubicBezTo>
                  <a:pt x="18486" y="12436"/>
                  <a:pt x="18485" y="12427"/>
                  <a:pt x="18554" y="12427"/>
                </a:cubicBezTo>
                <a:cubicBezTo>
                  <a:pt x="18907" y="12427"/>
                  <a:pt x="19413" y="12515"/>
                  <a:pt x="19745" y="12402"/>
                </a:cubicBezTo>
                <a:cubicBezTo>
                  <a:pt x="19843" y="12369"/>
                  <a:pt x="19909" y="12310"/>
                  <a:pt x="19993" y="12278"/>
                </a:cubicBezTo>
                <a:cubicBezTo>
                  <a:pt x="20119" y="12230"/>
                  <a:pt x="20273" y="12271"/>
                  <a:pt x="20389" y="12229"/>
                </a:cubicBezTo>
                <a:cubicBezTo>
                  <a:pt x="20480" y="12196"/>
                  <a:pt x="20513" y="12179"/>
                  <a:pt x="20613" y="12179"/>
                </a:cubicBezTo>
                <a:cubicBezTo>
                  <a:pt x="20691" y="12179"/>
                  <a:pt x="20876" y="12144"/>
                  <a:pt x="20935" y="12204"/>
                </a:cubicBezTo>
                <a:cubicBezTo>
                  <a:pt x="20954" y="12223"/>
                  <a:pt x="20958" y="12272"/>
                  <a:pt x="20960" y="12303"/>
                </a:cubicBezTo>
                <a:cubicBezTo>
                  <a:pt x="20964" y="12380"/>
                  <a:pt x="20950" y="12374"/>
                  <a:pt x="20910" y="12452"/>
                </a:cubicBezTo>
                <a:cubicBezTo>
                  <a:pt x="20883" y="12504"/>
                  <a:pt x="20874" y="12535"/>
                  <a:pt x="20811" y="12526"/>
                </a:cubicBezTo>
                <a:cubicBezTo>
                  <a:pt x="20765" y="12519"/>
                  <a:pt x="20743" y="12481"/>
                  <a:pt x="20662" y="12477"/>
                </a:cubicBezTo>
                <a:cubicBezTo>
                  <a:pt x="20525" y="12470"/>
                  <a:pt x="20337" y="12484"/>
                  <a:pt x="20241" y="12502"/>
                </a:cubicBezTo>
                <a:cubicBezTo>
                  <a:pt x="20196" y="12510"/>
                  <a:pt x="20138" y="12502"/>
                  <a:pt x="20092" y="12502"/>
                </a:cubicBezTo>
              </a:path>
              <a:path w="8509" h="2904">
                <a:moveTo>
                  <a:pt x="20538" y="10765"/>
                </a:moveTo>
                <a:cubicBezTo>
                  <a:pt x="20441" y="10765"/>
                  <a:pt x="20332" y="10751"/>
                  <a:pt x="20241" y="10790"/>
                </a:cubicBezTo>
                <a:cubicBezTo>
                  <a:pt x="20180" y="10816"/>
                  <a:pt x="20175" y="10815"/>
                  <a:pt x="20092" y="10815"/>
                </a:cubicBezTo>
                <a:cubicBezTo>
                  <a:pt x="19985" y="10815"/>
                  <a:pt x="19924" y="10843"/>
                  <a:pt x="19819" y="10864"/>
                </a:cubicBezTo>
                <a:cubicBezTo>
                  <a:pt x="19741" y="10879"/>
                  <a:pt x="19673" y="10867"/>
                  <a:pt x="19596" y="10889"/>
                </a:cubicBezTo>
                <a:cubicBezTo>
                  <a:pt x="19526" y="10909"/>
                  <a:pt x="19436" y="10932"/>
                  <a:pt x="19372" y="10939"/>
                </a:cubicBezTo>
                <a:cubicBezTo>
                  <a:pt x="19311" y="10945"/>
                  <a:pt x="19283" y="10957"/>
                  <a:pt x="19248" y="10964"/>
                </a:cubicBezTo>
                <a:cubicBezTo>
                  <a:pt x="19093" y="10993"/>
                  <a:pt x="18555" y="11020"/>
                  <a:pt x="18455" y="10939"/>
                </a:cubicBezTo>
                <a:cubicBezTo>
                  <a:pt x="18425" y="10915"/>
                  <a:pt x="18433" y="10918"/>
                  <a:pt x="18430" y="10864"/>
                </a:cubicBezTo>
                <a:cubicBezTo>
                  <a:pt x="18430" y="10840"/>
                  <a:pt x="18430" y="10831"/>
                  <a:pt x="18430" y="10815"/>
                </a:cubicBezTo>
                <a:cubicBezTo>
                  <a:pt x="18860" y="10815"/>
                  <a:pt x="19290" y="10815"/>
                  <a:pt x="19720" y="10815"/>
                </a:cubicBezTo>
              </a:path>
              <a:path w="8509" h="2904">
                <a:moveTo>
                  <a:pt x="12452" y="11683"/>
                </a:moveTo>
                <a:cubicBezTo>
                  <a:pt x="12474" y="11679"/>
                  <a:pt x="12689" y="11638"/>
                  <a:pt x="12725" y="11633"/>
                </a:cubicBezTo>
                <a:cubicBezTo>
                  <a:pt x="12913" y="11609"/>
                  <a:pt x="13084" y="11577"/>
                  <a:pt x="13271" y="11534"/>
                </a:cubicBezTo>
                <a:cubicBezTo>
                  <a:pt x="13855" y="11399"/>
                  <a:pt x="14422" y="11241"/>
                  <a:pt x="15007" y="11112"/>
                </a:cubicBezTo>
                <a:cubicBezTo>
                  <a:pt x="15425" y="11020"/>
                  <a:pt x="15849" y="10985"/>
                  <a:pt x="16272" y="10914"/>
                </a:cubicBezTo>
                <a:cubicBezTo>
                  <a:pt x="16681" y="10845"/>
                  <a:pt x="17085" y="10732"/>
                  <a:pt x="17487" y="10616"/>
                </a:cubicBezTo>
                <a:cubicBezTo>
                  <a:pt x="17742" y="10543"/>
                  <a:pt x="17963" y="10411"/>
                  <a:pt x="18207" y="10319"/>
                </a:cubicBezTo>
                <a:cubicBezTo>
                  <a:pt x="18342" y="10268"/>
                  <a:pt x="18367" y="10236"/>
                  <a:pt x="18405" y="10220"/>
                </a:cubicBezTo>
                <a:cubicBezTo>
                  <a:pt x="18513" y="10173"/>
                  <a:pt x="18651" y="10120"/>
                  <a:pt x="18752" y="10071"/>
                </a:cubicBezTo>
                <a:cubicBezTo>
                  <a:pt x="18793" y="10051"/>
                  <a:pt x="18815" y="10046"/>
                  <a:pt x="18852" y="10021"/>
                </a:cubicBezTo>
                <a:cubicBezTo>
                  <a:pt x="18876" y="9996"/>
                  <a:pt x="18884" y="9987"/>
                  <a:pt x="18901" y="9971"/>
                </a:cubicBezTo>
                <a:cubicBezTo>
                  <a:pt x="18874" y="9957"/>
                  <a:pt x="18856" y="9924"/>
                  <a:pt x="18777" y="9897"/>
                </a:cubicBezTo>
                <a:cubicBezTo>
                  <a:pt x="18725" y="9880"/>
                  <a:pt x="18693" y="9850"/>
                  <a:pt x="18628" y="9847"/>
                </a:cubicBezTo>
                <a:cubicBezTo>
                  <a:pt x="18444" y="9838"/>
                  <a:pt x="18256" y="9860"/>
                  <a:pt x="18083" y="9872"/>
                </a:cubicBezTo>
                <a:cubicBezTo>
                  <a:pt x="18041" y="9872"/>
                  <a:pt x="18033" y="9872"/>
                  <a:pt x="18008" y="9872"/>
                </a:cubicBezTo>
                <a:cubicBezTo>
                  <a:pt x="18169" y="9933"/>
                  <a:pt x="18414" y="10062"/>
                  <a:pt x="18554" y="10096"/>
                </a:cubicBezTo>
                <a:cubicBezTo>
                  <a:pt x="18631" y="10114"/>
                  <a:pt x="18715" y="10081"/>
                  <a:pt x="18777" y="10071"/>
                </a:cubicBezTo>
                <a:cubicBezTo>
                  <a:pt x="18810" y="10066"/>
                  <a:pt x="18820" y="10057"/>
                  <a:pt x="18852" y="10046"/>
                </a:cubicBezTo>
                <a:cubicBezTo>
                  <a:pt x="18866" y="10126"/>
                  <a:pt x="18889" y="9900"/>
                  <a:pt x="18901" y="10269"/>
                </a:cubicBezTo>
                <a:cubicBezTo>
                  <a:pt x="18905" y="10376"/>
                  <a:pt x="18919" y="10480"/>
                  <a:pt x="18876" y="10567"/>
                </a:cubicBezTo>
                <a:cubicBezTo>
                  <a:pt x="18840" y="10639"/>
                  <a:pt x="18773" y="10759"/>
                  <a:pt x="18728" y="10815"/>
                </a:cubicBezTo>
                <a:cubicBezTo>
                  <a:pt x="18711" y="10823"/>
                  <a:pt x="18695" y="10832"/>
                  <a:pt x="18678" y="1084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)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rt he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p of coracoid process of scapul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 he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praglenoid tubercle of scapu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berosity of radius and fascia of forearm via bicipital aponeur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is muscle does (#3) in a (#4 pos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ulocutaneous nerve (C5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638680" y="1295280"/>
            <a:ext cx="2840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bis Cr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ibs (5th, 6th, &amp; 7th) Xipoid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#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raco-abdominal ne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Rectus Abdominis"/>
          <p:cNvPicPr/>
          <p:nvPr/>
        </p:nvPicPr>
        <p:blipFill>
          <a:blip r:embed="rId2"/>
          <a:stretch/>
        </p:blipFill>
        <p:spPr>
          <a:xfrm>
            <a:off x="4648320" y="1295280"/>
            <a:ext cx="3973320" cy="55627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241880" y="3125880"/>
            <a:ext cx="4857840" cy="714240"/>
          </a:xfrm>
          <a:custGeom>
            <a:avLst/>
            <a:gdLst/>
            <a:ahLst/>
            <a:rect l="l" t="t" r="r" b="b"/>
            <a:pathLst>
              <a:path w="13495" h="1985">
                <a:moveTo>
                  <a:pt x="11782" y="9401"/>
                </a:moveTo>
                <a:cubicBezTo>
                  <a:pt x="12291" y="9401"/>
                  <a:pt x="12789" y="9426"/>
                  <a:pt x="13295" y="9451"/>
                </a:cubicBezTo>
                <a:cubicBezTo>
                  <a:pt x="13446" y="9459"/>
                  <a:pt x="13708" y="9500"/>
                  <a:pt x="13866" y="9475"/>
                </a:cubicBezTo>
                <a:cubicBezTo>
                  <a:pt x="14020" y="9451"/>
                  <a:pt x="14189" y="9418"/>
                  <a:pt x="14337" y="9376"/>
                </a:cubicBezTo>
                <a:cubicBezTo>
                  <a:pt x="14556" y="9314"/>
                  <a:pt x="14771" y="9214"/>
                  <a:pt x="15007" y="9252"/>
                </a:cubicBezTo>
                <a:cubicBezTo>
                  <a:pt x="15204" y="9284"/>
                  <a:pt x="15384" y="9405"/>
                  <a:pt x="15577" y="9451"/>
                </a:cubicBezTo>
                <a:cubicBezTo>
                  <a:pt x="15935" y="9536"/>
                  <a:pt x="16377" y="9431"/>
                  <a:pt x="16718" y="9376"/>
                </a:cubicBezTo>
                <a:cubicBezTo>
                  <a:pt x="16809" y="9361"/>
                  <a:pt x="16940" y="9390"/>
                  <a:pt x="16991" y="9401"/>
                </a:cubicBezTo>
                <a:cubicBezTo>
                  <a:pt x="16983" y="9401"/>
                  <a:pt x="16974" y="9401"/>
                  <a:pt x="16966" y="9401"/>
                </a:cubicBezTo>
                <a:cubicBezTo>
                  <a:pt x="16601" y="9178"/>
                  <a:pt x="16245" y="8959"/>
                  <a:pt x="15900" y="8706"/>
                </a:cubicBezTo>
                <a:cubicBezTo>
                  <a:pt x="16111" y="8822"/>
                  <a:pt x="16251" y="8913"/>
                  <a:pt x="16446" y="9054"/>
                </a:cubicBezTo>
                <a:cubicBezTo>
                  <a:pt x="16652" y="9202"/>
                  <a:pt x="16884" y="9353"/>
                  <a:pt x="17016" y="9525"/>
                </a:cubicBezTo>
                <a:cubicBezTo>
                  <a:pt x="16953" y="9548"/>
                  <a:pt x="16582" y="9653"/>
                  <a:pt x="16545" y="9674"/>
                </a:cubicBezTo>
                <a:cubicBezTo>
                  <a:pt x="16133" y="9904"/>
                  <a:pt x="15629" y="10264"/>
                  <a:pt x="15379" y="10666"/>
                </a:cubicBezTo>
                <a:cubicBezTo>
                  <a:pt x="15350" y="10713"/>
                  <a:pt x="15473" y="10598"/>
                  <a:pt x="15528" y="10592"/>
                </a:cubicBezTo>
              </a:path>
              <a:path w="13495" h="1985">
                <a:moveTo>
                  <a:pt x="16024" y="10368"/>
                </a:moveTo>
                <a:cubicBezTo>
                  <a:pt x="16524" y="10285"/>
                  <a:pt x="16829" y="10258"/>
                  <a:pt x="17239" y="10269"/>
                </a:cubicBezTo>
              </a:path>
              <a:path w="13495" h="1985">
                <a:moveTo>
                  <a:pt x="25276" y="8830"/>
                </a:moveTo>
                <a:cubicBezTo>
                  <a:pt x="25237" y="8815"/>
                  <a:pt x="25232" y="8765"/>
                  <a:pt x="25177" y="8756"/>
                </a:cubicBezTo>
                <a:cubicBezTo>
                  <a:pt x="24846" y="8703"/>
                  <a:pt x="24472" y="8770"/>
                  <a:pt x="24135" y="8806"/>
                </a:cubicBezTo>
                <a:cubicBezTo>
                  <a:pt x="23582" y="8865"/>
                  <a:pt x="23028" y="8902"/>
                  <a:pt x="22473" y="8954"/>
                </a:cubicBezTo>
                <a:cubicBezTo>
                  <a:pt x="22001" y="8998"/>
                  <a:pt x="21586" y="9155"/>
                  <a:pt x="21134" y="9302"/>
                </a:cubicBezTo>
                <a:cubicBezTo>
                  <a:pt x="20705" y="9441"/>
                  <a:pt x="20447" y="9847"/>
                  <a:pt x="19993" y="9971"/>
                </a:cubicBezTo>
                <a:cubicBezTo>
                  <a:pt x="19954" y="9982"/>
                  <a:pt x="19841" y="9971"/>
                  <a:pt x="19745" y="9996"/>
                </a:cubicBezTo>
                <a:cubicBezTo>
                  <a:pt x="19681" y="10013"/>
                  <a:pt x="19610" y="10027"/>
                  <a:pt x="19546" y="10046"/>
                </a:cubicBezTo>
                <a:cubicBezTo>
                  <a:pt x="19562" y="9980"/>
                  <a:pt x="19535" y="9931"/>
                  <a:pt x="19571" y="9872"/>
                </a:cubicBezTo>
                <a:cubicBezTo>
                  <a:pt x="19592" y="9838"/>
                  <a:pt x="19649" y="9791"/>
                  <a:pt x="19695" y="9748"/>
                </a:cubicBezTo>
                <a:cubicBezTo>
                  <a:pt x="19712" y="9732"/>
                  <a:pt x="19744" y="9717"/>
                  <a:pt x="19769" y="9699"/>
                </a:cubicBezTo>
                <a:cubicBezTo>
                  <a:pt x="19808" y="9671"/>
                  <a:pt x="19815" y="9667"/>
                  <a:pt x="19844" y="9649"/>
                </a:cubicBezTo>
                <a:cubicBezTo>
                  <a:pt x="19819" y="9732"/>
                  <a:pt x="19810" y="9788"/>
                  <a:pt x="19769" y="9872"/>
                </a:cubicBezTo>
                <a:cubicBezTo>
                  <a:pt x="19742" y="9927"/>
                  <a:pt x="19739" y="9937"/>
                  <a:pt x="19720" y="9971"/>
                </a:cubicBezTo>
                <a:cubicBezTo>
                  <a:pt x="19649" y="10098"/>
                  <a:pt x="19550" y="10236"/>
                  <a:pt x="19496" y="10368"/>
                </a:cubicBezTo>
                <a:cubicBezTo>
                  <a:pt x="19496" y="10376"/>
                  <a:pt x="19496" y="10385"/>
                  <a:pt x="19496" y="10393"/>
                </a:cubicBezTo>
                <a:cubicBezTo>
                  <a:pt x="19604" y="10350"/>
                  <a:pt x="19652" y="10346"/>
                  <a:pt x="19769" y="10344"/>
                </a:cubicBezTo>
                <a:cubicBezTo>
                  <a:pt x="20106" y="10338"/>
                  <a:pt x="20268" y="10369"/>
                  <a:pt x="20563" y="1046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7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rior superior 2/3 of medial posterior surface of fibul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ficial sl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serts on the tuberosity of the navicular bone and sometimes medial cuneiform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eper sl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vides again into slips inserting on plantar sufraces of metatarsals 2 - 4 and second cunei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bial nerve (L4, L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tibposterior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045120" y="2187720"/>
            <a:ext cx="1768680" cy="911160"/>
          </a:xfrm>
          <a:custGeom>
            <a:avLst/>
            <a:gdLst/>
            <a:ahLst/>
            <a:rect l="l" t="t" r="r" b="b"/>
            <a:pathLst>
              <a:path w="4912" h="2531">
                <a:moveTo>
                  <a:pt x="16793" y="7565"/>
                </a:moveTo>
                <a:cubicBezTo>
                  <a:pt x="17031" y="7867"/>
                  <a:pt x="17276" y="8224"/>
                  <a:pt x="17562" y="8483"/>
                </a:cubicBezTo>
                <a:cubicBezTo>
                  <a:pt x="17603" y="8508"/>
                  <a:pt x="17645" y="8533"/>
                  <a:pt x="17686" y="8558"/>
                </a:cubicBezTo>
                <a:cubicBezTo>
                  <a:pt x="17745" y="8576"/>
                  <a:pt x="17721" y="8433"/>
                  <a:pt x="17686" y="8260"/>
                </a:cubicBezTo>
                <a:cubicBezTo>
                  <a:pt x="17631" y="7986"/>
                  <a:pt x="17513" y="7503"/>
                  <a:pt x="17264" y="7317"/>
                </a:cubicBezTo>
                <a:cubicBezTo>
                  <a:pt x="17238" y="7298"/>
                  <a:pt x="17133" y="7303"/>
                  <a:pt x="17115" y="7293"/>
                </a:cubicBezTo>
                <a:cubicBezTo>
                  <a:pt x="17195" y="7221"/>
                  <a:pt x="17306" y="7161"/>
                  <a:pt x="17438" y="7144"/>
                </a:cubicBezTo>
                <a:cubicBezTo>
                  <a:pt x="17577" y="7126"/>
                  <a:pt x="17718" y="7119"/>
                  <a:pt x="17859" y="7119"/>
                </a:cubicBezTo>
                <a:cubicBezTo>
                  <a:pt x="17962" y="7119"/>
                  <a:pt x="18073" y="7092"/>
                  <a:pt x="18132" y="7169"/>
                </a:cubicBezTo>
                <a:cubicBezTo>
                  <a:pt x="18220" y="7283"/>
                  <a:pt x="18203" y="7492"/>
                  <a:pt x="18132" y="7615"/>
                </a:cubicBezTo>
                <a:cubicBezTo>
                  <a:pt x="18062" y="7735"/>
                  <a:pt x="17893" y="8055"/>
                  <a:pt x="17711" y="8111"/>
                </a:cubicBezTo>
                <a:cubicBezTo>
                  <a:pt x="17703" y="8111"/>
                  <a:pt x="17694" y="8111"/>
                  <a:pt x="17686" y="8111"/>
                </a:cubicBezTo>
                <a:cubicBezTo>
                  <a:pt x="17807" y="8021"/>
                  <a:pt x="18018" y="7970"/>
                  <a:pt x="18182" y="7913"/>
                </a:cubicBezTo>
                <a:cubicBezTo>
                  <a:pt x="18234" y="7895"/>
                  <a:pt x="18296" y="7872"/>
                  <a:pt x="18355" y="7888"/>
                </a:cubicBezTo>
                <a:cubicBezTo>
                  <a:pt x="18415" y="7904"/>
                  <a:pt x="18390" y="7914"/>
                  <a:pt x="18405" y="7962"/>
                </a:cubicBezTo>
                <a:cubicBezTo>
                  <a:pt x="18432" y="8048"/>
                  <a:pt x="18474" y="8119"/>
                  <a:pt x="18479" y="8210"/>
                </a:cubicBezTo>
                <a:cubicBezTo>
                  <a:pt x="18485" y="8323"/>
                  <a:pt x="18467" y="8291"/>
                  <a:pt x="18355" y="8409"/>
                </a:cubicBezTo>
                <a:cubicBezTo>
                  <a:pt x="18261" y="8508"/>
                  <a:pt x="18164" y="8597"/>
                  <a:pt x="18033" y="8607"/>
                </a:cubicBezTo>
                <a:cubicBezTo>
                  <a:pt x="17951" y="8613"/>
                  <a:pt x="17867" y="8607"/>
                  <a:pt x="17785" y="8607"/>
                </a:cubicBezTo>
              </a:path>
              <a:path w="4912" h="2531">
                <a:moveTo>
                  <a:pt x="19174" y="7764"/>
                </a:moveTo>
                <a:cubicBezTo>
                  <a:pt x="19161" y="7726"/>
                  <a:pt x="19145" y="7739"/>
                  <a:pt x="19100" y="7739"/>
                </a:cubicBezTo>
                <a:cubicBezTo>
                  <a:pt x="18965" y="7739"/>
                  <a:pt x="18893" y="7844"/>
                  <a:pt x="18777" y="7888"/>
                </a:cubicBezTo>
                <a:cubicBezTo>
                  <a:pt x="18733" y="7904"/>
                  <a:pt x="18709" y="7889"/>
                  <a:pt x="18703" y="7938"/>
                </a:cubicBezTo>
                <a:cubicBezTo>
                  <a:pt x="18694" y="8007"/>
                  <a:pt x="18666" y="8068"/>
                  <a:pt x="18653" y="8136"/>
                </a:cubicBezTo>
                <a:cubicBezTo>
                  <a:pt x="18648" y="8164"/>
                  <a:pt x="18653" y="8205"/>
                  <a:pt x="18653" y="8235"/>
                </a:cubicBezTo>
                <a:cubicBezTo>
                  <a:pt x="18802" y="8235"/>
                  <a:pt x="18950" y="8256"/>
                  <a:pt x="19100" y="8260"/>
                </a:cubicBezTo>
                <a:cubicBezTo>
                  <a:pt x="19133" y="8261"/>
                  <a:pt x="19166" y="8260"/>
                  <a:pt x="19199" y="8260"/>
                </a:cubicBezTo>
                <a:cubicBezTo>
                  <a:pt x="19199" y="8153"/>
                  <a:pt x="19199" y="8045"/>
                  <a:pt x="19199" y="7938"/>
                </a:cubicBezTo>
                <a:cubicBezTo>
                  <a:pt x="19219" y="7997"/>
                  <a:pt x="19239" y="8089"/>
                  <a:pt x="19273" y="8136"/>
                </a:cubicBezTo>
                <a:cubicBezTo>
                  <a:pt x="19281" y="8144"/>
                  <a:pt x="19290" y="8153"/>
                  <a:pt x="19298" y="8161"/>
                </a:cubicBezTo>
              </a:path>
              <a:path w="4912" h="2531">
                <a:moveTo>
                  <a:pt x="20117" y="7317"/>
                </a:moveTo>
                <a:cubicBezTo>
                  <a:pt x="20089" y="7317"/>
                  <a:pt x="20031" y="7328"/>
                  <a:pt x="20017" y="7342"/>
                </a:cubicBezTo>
                <a:cubicBezTo>
                  <a:pt x="19970" y="7389"/>
                  <a:pt x="19718" y="7467"/>
                  <a:pt x="19645" y="7516"/>
                </a:cubicBezTo>
                <a:cubicBezTo>
                  <a:pt x="19615" y="7536"/>
                  <a:pt x="19527" y="7577"/>
                  <a:pt x="19521" y="7590"/>
                </a:cubicBezTo>
                <a:cubicBezTo>
                  <a:pt x="19493" y="7647"/>
                  <a:pt x="19477" y="7724"/>
                  <a:pt x="19472" y="7789"/>
                </a:cubicBezTo>
                <a:cubicBezTo>
                  <a:pt x="19472" y="7797"/>
                  <a:pt x="19472" y="7805"/>
                  <a:pt x="19472" y="7813"/>
                </a:cubicBezTo>
                <a:cubicBezTo>
                  <a:pt x="19557" y="7813"/>
                  <a:pt x="19585" y="7816"/>
                  <a:pt x="19670" y="7863"/>
                </a:cubicBezTo>
                <a:cubicBezTo>
                  <a:pt x="19770" y="7919"/>
                  <a:pt x="19850" y="7982"/>
                  <a:pt x="19968" y="7987"/>
                </a:cubicBezTo>
                <a:cubicBezTo>
                  <a:pt x="20050" y="7990"/>
                  <a:pt x="20134" y="7987"/>
                  <a:pt x="20216" y="7987"/>
                </a:cubicBezTo>
              </a:path>
              <a:path w="4912" h="2531">
                <a:moveTo>
                  <a:pt x="20315" y="6077"/>
                </a:moveTo>
                <a:cubicBezTo>
                  <a:pt x="20403" y="6359"/>
                  <a:pt x="20550" y="6630"/>
                  <a:pt x="20638" y="6921"/>
                </a:cubicBezTo>
                <a:cubicBezTo>
                  <a:pt x="20701" y="7129"/>
                  <a:pt x="20733" y="7333"/>
                  <a:pt x="20786" y="7541"/>
                </a:cubicBezTo>
                <a:cubicBezTo>
                  <a:pt x="20802" y="7604"/>
                  <a:pt x="20805" y="7612"/>
                  <a:pt x="20811" y="7665"/>
                </a:cubicBezTo>
              </a:path>
              <a:path w="4912" h="2531">
                <a:moveTo>
                  <a:pt x="20613" y="7069"/>
                </a:moveTo>
                <a:cubicBezTo>
                  <a:pt x="20613" y="7019"/>
                  <a:pt x="20613" y="7010"/>
                  <a:pt x="20638" y="6970"/>
                </a:cubicBezTo>
                <a:cubicBezTo>
                  <a:pt x="20691" y="6884"/>
                  <a:pt x="20733" y="6773"/>
                  <a:pt x="20786" y="6697"/>
                </a:cubicBezTo>
                <a:cubicBezTo>
                  <a:pt x="20837" y="6623"/>
                  <a:pt x="20870" y="6536"/>
                  <a:pt x="20910" y="6449"/>
                </a:cubicBezTo>
                <a:cubicBezTo>
                  <a:pt x="20937" y="6390"/>
                  <a:pt x="20962" y="6360"/>
                  <a:pt x="20985" y="6325"/>
                </a:cubicBezTo>
                <a:cubicBezTo>
                  <a:pt x="21011" y="6286"/>
                  <a:pt x="21026" y="6219"/>
                  <a:pt x="21059" y="6176"/>
                </a:cubicBezTo>
                <a:cubicBezTo>
                  <a:pt x="21082" y="6154"/>
                  <a:pt x="21090" y="6149"/>
                  <a:pt x="21084" y="6127"/>
                </a:cubicBezTo>
              </a:path>
              <a:path w="4912" h="2531">
                <a:moveTo>
                  <a:pt x="20712" y="7045"/>
                </a:moveTo>
                <a:cubicBezTo>
                  <a:pt x="20743" y="6953"/>
                  <a:pt x="20941" y="7059"/>
                  <a:pt x="21010" y="7094"/>
                </a:cubicBezTo>
                <a:cubicBezTo>
                  <a:pt x="21076" y="7127"/>
                  <a:pt x="21134" y="7131"/>
                  <a:pt x="21208" y="7169"/>
                </a:cubicBezTo>
                <a:cubicBezTo>
                  <a:pt x="21379" y="7258"/>
                  <a:pt x="21516" y="7384"/>
                  <a:pt x="21654" y="7516"/>
                </a:cubicBezTo>
                <a:cubicBezTo>
                  <a:pt x="21690" y="7550"/>
                  <a:pt x="21691" y="7528"/>
                  <a:pt x="21704" y="7565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2 muscles make up your calf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chial tuber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surface of the medial tibial cond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1 and 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02680" y="0"/>
            <a:ext cx="174132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697360" y="4232160"/>
            <a:ext cx="795600" cy="706680"/>
          </a:xfrm>
          <a:custGeom>
            <a:avLst/>
            <a:gdLst/>
            <a:ahLst/>
            <a:rect l="l" t="t" r="r" b="b"/>
            <a:pathLst>
              <a:path w="2209" h="1961">
                <a:moveTo>
                  <a:pt x="15825" y="12254"/>
                </a:moveTo>
                <a:cubicBezTo>
                  <a:pt x="15850" y="12345"/>
                  <a:pt x="15876" y="12371"/>
                  <a:pt x="15949" y="12452"/>
                </a:cubicBezTo>
                <a:cubicBezTo>
                  <a:pt x="16069" y="12584"/>
                  <a:pt x="16113" y="12706"/>
                  <a:pt x="16173" y="12874"/>
                </a:cubicBezTo>
                <a:cubicBezTo>
                  <a:pt x="16261" y="13118"/>
                  <a:pt x="16378" y="13341"/>
                  <a:pt x="16495" y="13568"/>
                </a:cubicBezTo>
                <a:cubicBezTo>
                  <a:pt x="16554" y="13683"/>
                  <a:pt x="16518" y="13647"/>
                  <a:pt x="16545" y="13717"/>
                </a:cubicBezTo>
                <a:cubicBezTo>
                  <a:pt x="16435" y="13537"/>
                  <a:pt x="16373" y="13370"/>
                  <a:pt x="16297" y="13171"/>
                </a:cubicBezTo>
                <a:cubicBezTo>
                  <a:pt x="16264" y="13086"/>
                  <a:pt x="16215" y="12989"/>
                  <a:pt x="16197" y="12898"/>
                </a:cubicBezTo>
                <a:cubicBezTo>
                  <a:pt x="16181" y="12817"/>
                  <a:pt x="16179" y="12705"/>
                  <a:pt x="16173" y="12626"/>
                </a:cubicBezTo>
                <a:cubicBezTo>
                  <a:pt x="16168" y="12561"/>
                  <a:pt x="16141" y="12375"/>
                  <a:pt x="16197" y="12328"/>
                </a:cubicBezTo>
                <a:cubicBezTo>
                  <a:pt x="16288" y="12251"/>
                  <a:pt x="16386" y="12259"/>
                  <a:pt x="16495" y="12254"/>
                </a:cubicBezTo>
                <a:cubicBezTo>
                  <a:pt x="16568" y="12251"/>
                  <a:pt x="16594" y="12251"/>
                  <a:pt x="16644" y="12303"/>
                </a:cubicBezTo>
                <a:cubicBezTo>
                  <a:pt x="16681" y="12341"/>
                  <a:pt x="16726" y="12406"/>
                  <a:pt x="16743" y="12452"/>
                </a:cubicBezTo>
                <a:cubicBezTo>
                  <a:pt x="16749" y="12468"/>
                  <a:pt x="16743" y="12599"/>
                  <a:pt x="16743" y="12477"/>
                </a:cubicBezTo>
                <a:cubicBezTo>
                  <a:pt x="16743" y="12237"/>
                  <a:pt x="16743" y="11997"/>
                  <a:pt x="16743" y="11757"/>
                </a:cubicBezTo>
                <a:cubicBezTo>
                  <a:pt x="16864" y="11757"/>
                  <a:pt x="16951" y="11750"/>
                  <a:pt x="17066" y="11807"/>
                </a:cubicBezTo>
                <a:cubicBezTo>
                  <a:pt x="17285" y="11915"/>
                  <a:pt x="17397" y="12091"/>
                  <a:pt x="17537" y="12278"/>
                </a:cubicBezTo>
                <a:cubicBezTo>
                  <a:pt x="17607" y="12372"/>
                  <a:pt x="17647" y="12454"/>
                  <a:pt x="17711" y="12526"/>
                </a:cubicBezTo>
                <a:cubicBezTo>
                  <a:pt x="17762" y="12584"/>
                  <a:pt x="17806" y="12644"/>
                  <a:pt x="17859" y="12700"/>
                </a:cubicBezTo>
                <a:cubicBezTo>
                  <a:pt x="17896" y="12740"/>
                  <a:pt x="17946" y="12773"/>
                  <a:pt x="17983" y="12824"/>
                </a:cubicBezTo>
                <a:cubicBezTo>
                  <a:pt x="17993" y="12837"/>
                  <a:pt x="18029" y="12867"/>
                  <a:pt x="18033" y="12874"/>
                </a:cubicBezTo>
                <a:cubicBezTo>
                  <a:pt x="18033" y="12890"/>
                  <a:pt x="18033" y="12907"/>
                  <a:pt x="18033" y="12923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s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chial tuberosity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lateral lip of linea aspera of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ily on fibular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 answer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4 and 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Long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tibial nerve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common perone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bicepsfemshort: "/>
          <p:cNvPicPr/>
          <p:nvPr/>
        </p:nvPicPr>
        <p:blipFill>
          <a:blip r:embed="rId1"/>
          <a:stretch/>
        </p:blipFill>
        <p:spPr>
          <a:xfrm>
            <a:off x="5715000" y="0"/>
            <a:ext cx="1743120" cy="68580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7402680" y="0"/>
            <a:ext cx="174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76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schial tuber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aspect of medial portion of tibial sh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77 &amp; 7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semitendinosusant: "/>
          <p:cNvPicPr/>
          <p:nvPr/>
        </p:nvPicPr>
        <p:blipFill>
          <a:blip r:embed="rId1"/>
          <a:stretch/>
        </p:blipFill>
        <p:spPr>
          <a:xfrm>
            <a:off x="7400880" y="0"/>
            <a:ext cx="174312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688000" y="3224160"/>
            <a:ext cx="795240" cy="1170000"/>
          </a:xfrm>
          <a:custGeom>
            <a:avLst/>
            <a:gdLst/>
            <a:ahLst/>
            <a:rect l="l" t="t" r="r" b="b"/>
            <a:pathLst>
              <a:path w="2208" h="3251">
                <a:moveTo>
                  <a:pt x="16594" y="10294"/>
                </a:moveTo>
                <a:cubicBezTo>
                  <a:pt x="16570" y="10294"/>
                  <a:pt x="16561" y="10294"/>
                  <a:pt x="16545" y="10294"/>
                </a:cubicBezTo>
                <a:cubicBezTo>
                  <a:pt x="16585" y="10375"/>
                  <a:pt x="16634" y="10463"/>
                  <a:pt x="16694" y="10542"/>
                </a:cubicBezTo>
                <a:cubicBezTo>
                  <a:pt x="16798" y="10680"/>
                  <a:pt x="16875" y="10760"/>
                  <a:pt x="16942" y="10914"/>
                </a:cubicBezTo>
                <a:cubicBezTo>
                  <a:pt x="17052" y="11167"/>
                  <a:pt x="17232" y="11411"/>
                  <a:pt x="17388" y="11633"/>
                </a:cubicBezTo>
                <a:cubicBezTo>
                  <a:pt x="17502" y="11795"/>
                  <a:pt x="17631" y="11940"/>
                  <a:pt x="17735" y="12105"/>
                </a:cubicBezTo>
                <a:cubicBezTo>
                  <a:pt x="17775" y="12164"/>
                  <a:pt x="17779" y="12176"/>
                  <a:pt x="17810" y="12204"/>
                </a:cubicBezTo>
              </a:path>
              <a:path w="2208" h="3251">
                <a:moveTo>
                  <a:pt x="15801" y="10716"/>
                </a:moveTo>
                <a:cubicBezTo>
                  <a:pt x="15816" y="10665"/>
                  <a:pt x="15794" y="10670"/>
                  <a:pt x="15825" y="10641"/>
                </a:cubicBezTo>
                <a:cubicBezTo>
                  <a:pt x="15907" y="10564"/>
                  <a:pt x="16118" y="10391"/>
                  <a:pt x="16173" y="10344"/>
                </a:cubicBezTo>
                <a:cubicBezTo>
                  <a:pt x="16599" y="9978"/>
                  <a:pt x="17050" y="9628"/>
                  <a:pt x="17487" y="9277"/>
                </a:cubicBezTo>
                <a:cubicBezTo>
                  <a:pt x="17577" y="9205"/>
                  <a:pt x="17746" y="9088"/>
                  <a:pt x="17859" y="9054"/>
                </a:cubicBezTo>
                <a:cubicBezTo>
                  <a:pt x="17945" y="9028"/>
                  <a:pt x="17961" y="9002"/>
                  <a:pt x="18008" y="895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9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superior iliac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ior aspect of the medial surface of the tibial shaft near the tibial tube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es and laterally rotates the hip joint and flexes the kn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367760" y="0"/>
            <a:ext cx="1776240" cy="69343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7348680" y="384120"/>
            <a:ext cx="519120" cy="1125720"/>
          </a:xfrm>
          <a:custGeom>
            <a:avLst/>
            <a:gdLst/>
            <a:ahLst/>
            <a:rect l="l" t="t" r="r" b="b"/>
            <a:pathLst>
              <a:path w="1440" h="3126">
                <a:moveTo>
                  <a:pt x="20762" y="3026"/>
                </a:moveTo>
                <a:cubicBezTo>
                  <a:pt x="20762" y="2614"/>
                  <a:pt x="20830" y="2521"/>
                  <a:pt x="21010" y="2084"/>
                </a:cubicBezTo>
                <a:cubicBezTo>
                  <a:pt x="21078" y="1920"/>
                  <a:pt x="21109" y="1797"/>
                  <a:pt x="21134" y="1637"/>
                </a:cubicBezTo>
                <a:cubicBezTo>
                  <a:pt x="21147" y="1551"/>
                  <a:pt x="21144" y="1311"/>
                  <a:pt x="21183" y="1389"/>
                </a:cubicBezTo>
                <a:cubicBezTo>
                  <a:pt x="21183" y="1439"/>
                  <a:pt x="21183" y="1488"/>
                  <a:pt x="21183" y="1538"/>
                </a:cubicBezTo>
                <a:cubicBezTo>
                  <a:pt x="21124" y="1859"/>
                  <a:pt x="21329" y="2365"/>
                  <a:pt x="21034" y="2505"/>
                </a:cubicBezTo>
                <a:cubicBezTo>
                  <a:pt x="20992" y="2525"/>
                  <a:pt x="20965" y="2405"/>
                  <a:pt x="20935" y="2332"/>
                </a:cubicBezTo>
                <a:cubicBezTo>
                  <a:pt x="20881" y="2203"/>
                  <a:pt x="20868" y="2123"/>
                  <a:pt x="20861" y="1984"/>
                </a:cubicBezTo>
                <a:cubicBezTo>
                  <a:pt x="20856" y="1885"/>
                  <a:pt x="20801" y="1810"/>
                  <a:pt x="20786" y="1984"/>
                </a:cubicBezTo>
                <a:cubicBezTo>
                  <a:pt x="20751" y="2380"/>
                  <a:pt x="20769" y="3470"/>
                  <a:pt x="20712" y="3076"/>
                </a:cubicBezTo>
                <a:cubicBezTo>
                  <a:pt x="20712" y="2778"/>
                  <a:pt x="20712" y="2679"/>
                  <a:pt x="20712" y="2480"/>
                </a:cubicBezTo>
                <a:cubicBezTo>
                  <a:pt x="20735" y="2280"/>
                  <a:pt x="20691" y="1708"/>
                  <a:pt x="20786" y="1885"/>
                </a:cubicBezTo>
                <a:cubicBezTo>
                  <a:pt x="20929" y="2150"/>
                  <a:pt x="20894" y="2562"/>
                  <a:pt x="20910" y="2853"/>
                </a:cubicBezTo>
                <a:cubicBezTo>
                  <a:pt x="20910" y="2869"/>
                  <a:pt x="20910" y="2886"/>
                  <a:pt x="20910" y="2902"/>
                </a:cubicBezTo>
                <a:cubicBezTo>
                  <a:pt x="20910" y="2662"/>
                  <a:pt x="20888" y="2424"/>
                  <a:pt x="20886" y="2183"/>
                </a:cubicBezTo>
                <a:cubicBezTo>
                  <a:pt x="20885" y="2117"/>
                  <a:pt x="20861" y="1695"/>
                  <a:pt x="20960" y="1637"/>
                </a:cubicBezTo>
                <a:cubicBezTo>
                  <a:pt x="21098" y="1557"/>
                  <a:pt x="21008" y="1950"/>
                  <a:pt x="21034" y="2108"/>
                </a:cubicBezTo>
                <a:cubicBezTo>
                  <a:pt x="21088" y="2437"/>
                  <a:pt x="21059" y="2171"/>
                  <a:pt x="21059" y="2009"/>
                </a:cubicBezTo>
                <a:cubicBezTo>
                  <a:pt x="21059" y="1966"/>
                  <a:pt x="21070" y="1572"/>
                  <a:pt x="21084" y="1563"/>
                </a:cubicBezTo>
                <a:cubicBezTo>
                  <a:pt x="21101" y="1596"/>
                  <a:pt x="21117" y="1629"/>
                  <a:pt x="21134" y="1662"/>
                </a:cubicBezTo>
                <a:cubicBezTo>
                  <a:pt x="21142" y="1736"/>
                  <a:pt x="21150" y="1811"/>
                  <a:pt x="21158" y="1885"/>
                </a:cubicBezTo>
                <a:cubicBezTo>
                  <a:pt x="21158" y="2001"/>
                  <a:pt x="21158" y="2200"/>
                  <a:pt x="21158" y="2084"/>
                </a:cubicBezTo>
                <a:cubicBezTo>
                  <a:pt x="21158" y="1980"/>
                  <a:pt x="21151" y="1191"/>
                  <a:pt x="21258" y="1637"/>
                </a:cubicBezTo>
                <a:cubicBezTo>
                  <a:pt x="21294" y="1785"/>
                  <a:pt x="21354" y="1935"/>
                  <a:pt x="21382" y="2084"/>
                </a:cubicBezTo>
                <a:cubicBezTo>
                  <a:pt x="21383" y="2089"/>
                  <a:pt x="21375" y="2228"/>
                  <a:pt x="21382" y="2158"/>
                </a:cubicBezTo>
                <a:cubicBezTo>
                  <a:pt x="21400" y="1987"/>
                  <a:pt x="21382" y="1809"/>
                  <a:pt x="21382" y="1637"/>
                </a:cubicBezTo>
                <a:cubicBezTo>
                  <a:pt x="21388" y="1615"/>
                  <a:pt x="21552" y="1166"/>
                  <a:pt x="21431" y="1538"/>
                </a:cubicBezTo>
                <a:cubicBezTo>
                  <a:pt x="21146" y="2411"/>
                  <a:pt x="20882" y="3291"/>
                  <a:pt x="20613" y="4167"/>
                </a:cubicBezTo>
                <a:cubicBezTo>
                  <a:pt x="20591" y="4238"/>
                  <a:pt x="20613" y="4068"/>
                  <a:pt x="20613" y="3994"/>
                </a:cubicBezTo>
                <a:cubicBezTo>
                  <a:pt x="20872" y="2928"/>
                  <a:pt x="21282" y="2032"/>
                  <a:pt x="21853" y="1067"/>
                </a:cubicBezTo>
                <a:cubicBezTo>
                  <a:pt x="21836" y="1205"/>
                  <a:pt x="21840" y="1761"/>
                  <a:pt x="21729" y="1836"/>
                </a:cubicBezTo>
                <a:cubicBezTo>
                  <a:pt x="21625" y="1907"/>
                  <a:pt x="21333" y="1765"/>
                  <a:pt x="21282" y="1786"/>
                </a:cubicBezTo>
                <a:cubicBezTo>
                  <a:pt x="21242" y="1802"/>
                  <a:pt x="21157" y="1947"/>
                  <a:pt x="21084" y="2009"/>
                </a:cubicBezTo>
                <a:cubicBezTo>
                  <a:pt x="20982" y="2097"/>
                  <a:pt x="20989" y="1953"/>
                  <a:pt x="20985" y="1885"/>
                </a:cubicBezTo>
                <a:cubicBezTo>
                  <a:pt x="20978" y="1761"/>
                  <a:pt x="20985" y="1439"/>
                  <a:pt x="20985" y="1563"/>
                </a:cubicBezTo>
                <a:cubicBezTo>
                  <a:pt x="20985" y="1714"/>
                  <a:pt x="21031" y="1788"/>
                  <a:pt x="20836" y="1836"/>
                </a:cubicBezTo>
                <a:cubicBezTo>
                  <a:pt x="20691" y="1872"/>
                  <a:pt x="20599" y="1872"/>
                  <a:pt x="20588" y="1761"/>
                </a:cubicBezTo>
                <a:cubicBezTo>
                  <a:pt x="20574" y="1622"/>
                  <a:pt x="20633" y="1406"/>
                  <a:pt x="20712" y="1290"/>
                </a:cubicBezTo>
                <a:cubicBezTo>
                  <a:pt x="20729" y="1290"/>
                  <a:pt x="20745" y="1290"/>
                  <a:pt x="20762" y="1290"/>
                </a:cubicBezTo>
                <a:cubicBezTo>
                  <a:pt x="21064" y="1340"/>
                  <a:pt x="20911" y="1800"/>
                  <a:pt x="20811" y="2034"/>
                </a:cubicBezTo>
                <a:cubicBezTo>
                  <a:pt x="20793" y="2077"/>
                  <a:pt x="20530" y="2705"/>
                  <a:pt x="20414" y="2555"/>
                </a:cubicBezTo>
                <a:cubicBezTo>
                  <a:pt x="20401" y="2538"/>
                  <a:pt x="20414" y="2480"/>
                  <a:pt x="20414" y="2456"/>
                </a:cubicBezTo>
                <a:cubicBezTo>
                  <a:pt x="20547" y="2233"/>
                  <a:pt x="20781" y="2016"/>
                  <a:pt x="21034" y="1885"/>
                </a:cubicBezTo>
                <a:cubicBezTo>
                  <a:pt x="21374" y="1709"/>
                  <a:pt x="21299" y="2222"/>
                  <a:pt x="21282" y="2381"/>
                </a:cubicBezTo>
                <a:cubicBezTo>
                  <a:pt x="21278" y="2420"/>
                  <a:pt x="21236" y="3031"/>
                  <a:pt x="20985" y="2853"/>
                </a:cubicBezTo>
                <a:cubicBezTo>
                  <a:pt x="20840" y="2750"/>
                  <a:pt x="20677" y="2033"/>
                  <a:pt x="20836" y="1910"/>
                </a:cubicBezTo>
                <a:cubicBezTo>
                  <a:pt x="20869" y="1877"/>
                  <a:pt x="20886" y="1877"/>
                  <a:pt x="20910" y="1935"/>
                </a:cubicBezTo>
                <a:cubicBezTo>
                  <a:pt x="20910" y="2300"/>
                  <a:pt x="20887" y="2613"/>
                  <a:pt x="20687" y="2927"/>
                </a:cubicBezTo>
                <a:cubicBezTo>
                  <a:pt x="20637" y="2978"/>
                  <a:pt x="20619" y="2995"/>
                  <a:pt x="20563" y="2977"/>
                </a:cubicBezTo>
                <a:cubicBezTo>
                  <a:pt x="20592" y="2217"/>
                  <a:pt x="20782" y="2112"/>
                  <a:pt x="21208" y="1389"/>
                </a:cubicBezTo>
                <a:cubicBezTo>
                  <a:pt x="21311" y="1213"/>
                  <a:pt x="21299" y="1092"/>
                  <a:pt x="21431" y="1215"/>
                </a:cubicBezTo>
                <a:cubicBezTo>
                  <a:pt x="21579" y="1353"/>
                  <a:pt x="21272" y="1700"/>
                  <a:pt x="21233" y="1736"/>
                </a:cubicBezTo>
                <a:cubicBezTo>
                  <a:pt x="21198" y="1768"/>
                  <a:pt x="21088" y="1842"/>
                  <a:pt x="21034" y="1811"/>
                </a:cubicBezTo>
                <a:cubicBezTo>
                  <a:pt x="20988" y="1784"/>
                  <a:pt x="21012" y="1706"/>
                  <a:pt x="21010" y="1662"/>
                </a:cubicBezTo>
                <a:cubicBezTo>
                  <a:pt x="21010" y="1645"/>
                  <a:pt x="21010" y="1629"/>
                  <a:pt x="21010" y="1612"/>
                </a:cubicBezTo>
              </a:path>
              <a:path w="1440" h="3126">
                <a:moveTo>
                  <a:pt x="21158" y="1588"/>
                </a:moveTo>
                <a:cubicBezTo>
                  <a:pt x="21247" y="1794"/>
                  <a:pt x="21248" y="1933"/>
                  <a:pt x="20985" y="2059"/>
                </a:cubicBezTo>
                <a:cubicBezTo>
                  <a:pt x="20827" y="2079"/>
                  <a:pt x="20799" y="2075"/>
                  <a:pt x="20712" y="2108"/>
                </a:cubicBezTo>
                <a:cubicBezTo>
                  <a:pt x="20712" y="2037"/>
                  <a:pt x="20692" y="1917"/>
                  <a:pt x="20737" y="1885"/>
                </a:cubicBezTo>
                <a:cubicBezTo>
                  <a:pt x="20828" y="1821"/>
                  <a:pt x="20930" y="1844"/>
                  <a:pt x="20985" y="1910"/>
                </a:cubicBezTo>
                <a:cubicBezTo>
                  <a:pt x="20985" y="2056"/>
                  <a:pt x="20909" y="2039"/>
                  <a:pt x="20762" y="2059"/>
                </a:cubicBezTo>
                <a:cubicBezTo>
                  <a:pt x="20644" y="2075"/>
                  <a:pt x="20638" y="2065"/>
                  <a:pt x="20638" y="1960"/>
                </a:cubicBezTo>
                <a:cubicBezTo>
                  <a:pt x="20638" y="1935"/>
                  <a:pt x="20638" y="1910"/>
                  <a:pt x="20638" y="1885"/>
                </a:cubicBezTo>
              </a:path>
              <a:path w="1440" h="3126">
                <a:moveTo>
                  <a:pt x="20737" y="1836"/>
                </a:moveTo>
                <a:cubicBezTo>
                  <a:pt x="20868" y="1803"/>
                  <a:pt x="20934" y="1786"/>
                  <a:pt x="21059" y="1786"/>
                </a:cubicBezTo>
                <a:cubicBezTo>
                  <a:pt x="20998" y="1748"/>
                  <a:pt x="20930" y="1656"/>
                  <a:pt x="20910" y="1563"/>
                </a:cubicBezTo>
                <a:cubicBezTo>
                  <a:pt x="20888" y="1464"/>
                  <a:pt x="20910" y="1343"/>
                  <a:pt x="20910" y="1240"/>
                </a:cubicBezTo>
                <a:cubicBezTo>
                  <a:pt x="20983" y="1285"/>
                  <a:pt x="20994" y="1342"/>
                  <a:pt x="21034" y="1439"/>
                </a:cubicBezTo>
                <a:cubicBezTo>
                  <a:pt x="21076" y="1541"/>
                  <a:pt x="21059" y="1651"/>
                  <a:pt x="21059" y="1761"/>
                </a:cubicBezTo>
                <a:cubicBezTo>
                  <a:pt x="21112" y="1708"/>
                  <a:pt x="21093" y="1674"/>
                  <a:pt x="21134" y="1612"/>
                </a:cubicBezTo>
                <a:cubicBezTo>
                  <a:pt x="21195" y="1519"/>
                  <a:pt x="21282" y="1365"/>
                  <a:pt x="21382" y="1315"/>
                </a:cubicBezTo>
                <a:cubicBezTo>
                  <a:pt x="21390" y="1315"/>
                  <a:pt x="21398" y="1315"/>
                  <a:pt x="21406" y="1315"/>
                </a:cubicBezTo>
                <a:cubicBezTo>
                  <a:pt x="21417" y="1358"/>
                  <a:pt x="21419" y="1341"/>
                  <a:pt x="21332" y="1364"/>
                </a:cubicBezTo>
                <a:cubicBezTo>
                  <a:pt x="21170" y="1407"/>
                  <a:pt x="21061" y="1977"/>
                  <a:pt x="21059" y="1984"/>
                </a:cubicBezTo>
                <a:cubicBezTo>
                  <a:pt x="20917" y="2475"/>
                  <a:pt x="20786" y="2918"/>
                  <a:pt x="20786" y="3423"/>
                </a:cubicBezTo>
                <a:cubicBezTo>
                  <a:pt x="20786" y="3534"/>
                  <a:pt x="20775" y="3699"/>
                  <a:pt x="20811" y="3770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892840" y="2205000"/>
            <a:ext cx="3100320" cy="1268280"/>
          </a:xfrm>
          <a:custGeom>
            <a:avLst/>
            <a:gdLst/>
            <a:ahLst/>
            <a:rect l="l" t="t" r="r" b="b"/>
            <a:pathLst>
              <a:path w="8608" h="3523">
                <a:moveTo>
                  <a:pt x="24234" y="6697"/>
                </a:moveTo>
                <a:cubicBezTo>
                  <a:pt x="24482" y="6697"/>
                  <a:pt x="24730" y="6697"/>
                  <a:pt x="24978" y="6697"/>
                </a:cubicBezTo>
                <a:cubicBezTo>
                  <a:pt x="24978" y="6626"/>
                  <a:pt x="24959" y="6648"/>
                  <a:pt x="24879" y="6648"/>
                </a:cubicBezTo>
                <a:cubicBezTo>
                  <a:pt x="24678" y="6648"/>
                  <a:pt x="24477" y="6645"/>
                  <a:pt x="24284" y="6672"/>
                </a:cubicBezTo>
                <a:cubicBezTo>
                  <a:pt x="24231" y="6679"/>
                  <a:pt x="24151" y="6649"/>
                  <a:pt x="24135" y="6697"/>
                </a:cubicBezTo>
                <a:cubicBezTo>
                  <a:pt x="24135" y="6777"/>
                  <a:pt x="24157" y="6711"/>
                  <a:pt x="24185" y="6747"/>
                </a:cubicBezTo>
                <a:cubicBezTo>
                  <a:pt x="24204" y="6771"/>
                  <a:pt x="24195" y="6791"/>
                  <a:pt x="24234" y="6796"/>
                </a:cubicBezTo>
                <a:cubicBezTo>
                  <a:pt x="24305" y="6804"/>
                  <a:pt x="24795" y="6841"/>
                  <a:pt x="24829" y="6772"/>
                </a:cubicBezTo>
                <a:cubicBezTo>
                  <a:pt x="24851" y="6727"/>
                  <a:pt x="24854" y="6675"/>
                  <a:pt x="24854" y="6623"/>
                </a:cubicBezTo>
                <a:cubicBezTo>
                  <a:pt x="24854" y="6584"/>
                  <a:pt x="24872" y="6496"/>
                  <a:pt x="24829" y="6474"/>
                </a:cubicBezTo>
                <a:cubicBezTo>
                  <a:pt x="24798" y="6458"/>
                  <a:pt x="24763" y="6422"/>
                  <a:pt x="24730" y="6400"/>
                </a:cubicBezTo>
                <a:cubicBezTo>
                  <a:pt x="24697" y="6378"/>
                  <a:pt x="24672" y="6355"/>
                  <a:pt x="24631" y="6350"/>
                </a:cubicBezTo>
                <a:cubicBezTo>
                  <a:pt x="24575" y="6344"/>
                  <a:pt x="24555" y="6364"/>
                  <a:pt x="24532" y="6375"/>
                </a:cubicBezTo>
                <a:cubicBezTo>
                  <a:pt x="24489" y="6396"/>
                  <a:pt x="24474" y="6415"/>
                  <a:pt x="24433" y="6449"/>
                </a:cubicBezTo>
                <a:cubicBezTo>
                  <a:pt x="24385" y="6488"/>
                  <a:pt x="24406" y="6472"/>
                  <a:pt x="24358" y="6499"/>
                </a:cubicBezTo>
                <a:cubicBezTo>
                  <a:pt x="24311" y="6525"/>
                  <a:pt x="24299" y="6578"/>
                  <a:pt x="24259" y="6598"/>
                </a:cubicBezTo>
                <a:cubicBezTo>
                  <a:pt x="24474" y="6598"/>
                  <a:pt x="24689" y="6598"/>
                  <a:pt x="24904" y="6598"/>
                </a:cubicBezTo>
                <a:cubicBezTo>
                  <a:pt x="24782" y="6468"/>
                  <a:pt x="24665" y="6340"/>
                  <a:pt x="24532" y="6226"/>
                </a:cubicBezTo>
                <a:cubicBezTo>
                  <a:pt x="24474" y="6176"/>
                  <a:pt x="24438" y="6127"/>
                  <a:pt x="24358" y="6127"/>
                </a:cubicBezTo>
                <a:cubicBezTo>
                  <a:pt x="24333" y="6127"/>
                  <a:pt x="24309" y="6127"/>
                  <a:pt x="24284" y="6127"/>
                </a:cubicBezTo>
                <a:cubicBezTo>
                  <a:pt x="24284" y="6193"/>
                  <a:pt x="24284" y="6259"/>
                  <a:pt x="24284" y="6325"/>
                </a:cubicBezTo>
              </a:path>
              <a:path w="8608" h="3523">
                <a:moveTo>
                  <a:pt x="16396" y="9649"/>
                </a:moveTo>
                <a:cubicBezTo>
                  <a:pt x="16404" y="9601"/>
                  <a:pt x="16344" y="9539"/>
                  <a:pt x="16371" y="9500"/>
                </a:cubicBezTo>
                <a:cubicBezTo>
                  <a:pt x="16486" y="9335"/>
                  <a:pt x="16671" y="9294"/>
                  <a:pt x="16867" y="9227"/>
                </a:cubicBezTo>
                <a:cubicBezTo>
                  <a:pt x="17466" y="9022"/>
                  <a:pt x="18036" y="8713"/>
                  <a:pt x="18604" y="8434"/>
                </a:cubicBezTo>
                <a:cubicBezTo>
                  <a:pt x="19287" y="8098"/>
                  <a:pt x="19986" y="7841"/>
                  <a:pt x="20737" y="7689"/>
                </a:cubicBezTo>
                <a:cubicBezTo>
                  <a:pt x="21004" y="7635"/>
                  <a:pt x="21343" y="7679"/>
                  <a:pt x="21605" y="7714"/>
                </a:cubicBezTo>
                <a:cubicBezTo>
                  <a:pt x="21785" y="7738"/>
                  <a:pt x="21911" y="7724"/>
                  <a:pt x="22101" y="7714"/>
                </a:cubicBezTo>
                <a:cubicBezTo>
                  <a:pt x="22208" y="7708"/>
                  <a:pt x="22331" y="7701"/>
                  <a:pt x="22423" y="7689"/>
                </a:cubicBezTo>
                <a:cubicBezTo>
                  <a:pt x="22504" y="7679"/>
                  <a:pt x="22578" y="7655"/>
                  <a:pt x="22647" y="7640"/>
                </a:cubicBezTo>
                <a:cubicBezTo>
                  <a:pt x="22687" y="7631"/>
                  <a:pt x="22739" y="7622"/>
                  <a:pt x="22771" y="7615"/>
                </a:cubicBezTo>
                <a:cubicBezTo>
                  <a:pt x="22819" y="7605"/>
                  <a:pt x="22852" y="7599"/>
                  <a:pt x="22895" y="7590"/>
                </a:cubicBezTo>
                <a:cubicBezTo>
                  <a:pt x="22822" y="7607"/>
                  <a:pt x="22747" y="7621"/>
                  <a:pt x="22671" y="7640"/>
                </a:cubicBezTo>
                <a:cubicBezTo>
                  <a:pt x="22436" y="7699"/>
                  <a:pt x="22217" y="7708"/>
                  <a:pt x="21977" y="7714"/>
                </a:cubicBezTo>
                <a:cubicBezTo>
                  <a:pt x="22111" y="7681"/>
                  <a:pt x="22220" y="7642"/>
                  <a:pt x="22374" y="7640"/>
                </a:cubicBezTo>
                <a:cubicBezTo>
                  <a:pt x="22457" y="7639"/>
                  <a:pt x="22628" y="7619"/>
                  <a:pt x="22671" y="7615"/>
                </a:cubicBezTo>
              </a:path>
              <a:path w="8608" h="3523">
                <a:moveTo>
                  <a:pt x="22895" y="7615"/>
                </a:moveTo>
                <a:cubicBezTo>
                  <a:pt x="22752" y="7615"/>
                  <a:pt x="22628" y="7605"/>
                  <a:pt x="22498" y="7565"/>
                </a:cubicBezTo>
                <a:cubicBezTo>
                  <a:pt x="22439" y="7547"/>
                  <a:pt x="22192" y="7502"/>
                  <a:pt x="22151" y="7441"/>
                </a:cubicBezTo>
                <a:cubicBezTo>
                  <a:pt x="22133" y="7414"/>
                  <a:pt x="22126" y="7413"/>
                  <a:pt x="22126" y="7367"/>
                </a:cubicBezTo>
                <a:cubicBezTo>
                  <a:pt x="22126" y="7342"/>
                  <a:pt x="22126" y="7334"/>
                  <a:pt x="22126" y="7317"/>
                </a:cubicBezTo>
              </a:path>
              <a:path w="8608" h="3523">
                <a:moveTo>
                  <a:pt x="22845" y="7640"/>
                </a:moveTo>
                <a:cubicBezTo>
                  <a:pt x="22790" y="7695"/>
                  <a:pt x="22767" y="7775"/>
                  <a:pt x="22721" y="7863"/>
                </a:cubicBezTo>
                <a:cubicBezTo>
                  <a:pt x="22586" y="8123"/>
                  <a:pt x="22436" y="8375"/>
                  <a:pt x="22299" y="8632"/>
                </a:cubicBezTo>
                <a:cubicBezTo>
                  <a:pt x="22276" y="8675"/>
                  <a:pt x="22260" y="8689"/>
                  <a:pt x="22225" y="8731"/>
                </a:cubicBezTo>
                <a:cubicBezTo>
                  <a:pt x="22196" y="8765"/>
                  <a:pt x="22222" y="8736"/>
                  <a:pt x="22175" y="875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70280" y="2625840"/>
            <a:ext cx="1982880" cy="1965240"/>
          </a:xfrm>
          <a:custGeom>
            <a:avLst/>
            <a:gdLst/>
            <a:ahLst/>
            <a:rect l="l" t="t" r="r" b="b"/>
            <a:pathLst>
              <a:path w="5507" h="5458">
                <a:moveTo>
                  <a:pt x="12973" y="12204"/>
                </a:moveTo>
                <a:cubicBezTo>
                  <a:pt x="13076" y="12126"/>
                  <a:pt x="12766" y="12159"/>
                  <a:pt x="13171" y="12154"/>
                </a:cubicBezTo>
                <a:cubicBezTo>
                  <a:pt x="13450" y="12150"/>
                  <a:pt x="13552" y="12159"/>
                  <a:pt x="13767" y="12303"/>
                </a:cubicBezTo>
                <a:cubicBezTo>
                  <a:pt x="13826" y="12343"/>
                  <a:pt x="13945" y="12419"/>
                  <a:pt x="13990" y="12452"/>
                </a:cubicBezTo>
                <a:cubicBezTo>
                  <a:pt x="14073" y="12513"/>
                  <a:pt x="14158" y="12588"/>
                  <a:pt x="14213" y="12675"/>
                </a:cubicBezTo>
                <a:cubicBezTo>
                  <a:pt x="14224" y="12692"/>
                  <a:pt x="14230" y="12707"/>
                  <a:pt x="14238" y="12750"/>
                </a:cubicBezTo>
              </a:path>
              <a:path w="5507" h="5458">
                <a:moveTo>
                  <a:pt x="13791" y="11435"/>
                </a:moveTo>
                <a:cubicBezTo>
                  <a:pt x="13858" y="11402"/>
                  <a:pt x="13873" y="11402"/>
                  <a:pt x="13940" y="11435"/>
                </a:cubicBezTo>
                <a:cubicBezTo>
                  <a:pt x="14260" y="11595"/>
                  <a:pt x="14564" y="11797"/>
                  <a:pt x="14883" y="11956"/>
                </a:cubicBezTo>
                <a:cubicBezTo>
                  <a:pt x="14891" y="11956"/>
                  <a:pt x="14900" y="11956"/>
                  <a:pt x="14908" y="11956"/>
                </a:cubicBezTo>
              </a:path>
              <a:path w="5507" h="5458">
                <a:moveTo>
                  <a:pt x="13891" y="12179"/>
                </a:moveTo>
                <a:cubicBezTo>
                  <a:pt x="13891" y="12154"/>
                  <a:pt x="13891" y="12146"/>
                  <a:pt x="13891" y="12129"/>
                </a:cubicBezTo>
                <a:cubicBezTo>
                  <a:pt x="13989" y="12101"/>
                  <a:pt x="14080" y="12042"/>
                  <a:pt x="14163" y="11981"/>
                </a:cubicBezTo>
                <a:cubicBezTo>
                  <a:pt x="14186" y="11958"/>
                  <a:pt x="14190" y="11950"/>
                  <a:pt x="14213" y="11956"/>
                </a:cubicBezTo>
                <a:cubicBezTo>
                  <a:pt x="14223" y="11916"/>
                  <a:pt x="14251" y="11893"/>
                  <a:pt x="14263" y="11857"/>
                </a:cubicBezTo>
                <a:cubicBezTo>
                  <a:pt x="14277" y="11815"/>
                  <a:pt x="14296" y="11773"/>
                  <a:pt x="14312" y="11733"/>
                </a:cubicBezTo>
                <a:cubicBezTo>
                  <a:pt x="14327" y="11695"/>
                  <a:pt x="14330" y="11679"/>
                  <a:pt x="14337" y="11633"/>
                </a:cubicBezTo>
                <a:cubicBezTo>
                  <a:pt x="14362" y="11633"/>
                  <a:pt x="14370" y="11633"/>
                  <a:pt x="14387" y="11633"/>
                </a:cubicBezTo>
              </a:path>
              <a:path w="5507" h="5458">
                <a:moveTo>
                  <a:pt x="15156" y="10840"/>
                </a:moveTo>
                <a:cubicBezTo>
                  <a:pt x="15050" y="10880"/>
                  <a:pt x="14912" y="10954"/>
                  <a:pt x="14858" y="11038"/>
                </a:cubicBezTo>
                <a:cubicBezTo>
                  <a:pt x="14849" y="11052"/>
                  <a:pt x="14824" y="11113"/>
                  <a:pt x="14833" y="11137"/>
                </a:cubicBezTo>
                <a:cubicBezTo>
                  <a:pt x="14847" y="11177"/>
                  <a:pt x="14915" y="11226"/>
                  <a:pt x="14957" y="11237"/>
                </a:cubicBezTo>
                <a:cubicBezTo>
                  <a:pt x="15131" y="11284"/>
                  <a:pt x="15344" y="11199"/>
                  <a:pt x="15503" y="11162"/>
                </a:cubicBezTo>
                <a:cubicBezTo>
                  <a:pt x="15568" y="11147"/>
                  <a:pt x="15628" y="11148"/>
                  <a:pt x="15652" y="11112"/>
                </a:cubicBezTo>
                <a:cubicBezTo>
                  <a:pt x="15602" y="11085"/>
                  <a:pt x="15560" y="11044"/>
                  <a:pt x="15503" y="11038"/>
                </a:cubicBezTo>
                <a:cubicBezTo>
                  <a:pt x="15449" y="11033"/>
                  <a:pt x="15469" y="10993"/>
                  <a:pt x="15429" y="10988"/>
                </a:cubicBezTo>
                <a:cubicBezTo>
                  <a:pt x="15364" y="10980"/>
                  <a:pt x="15402" y="10938"/>
                  <a:pt x="15354" y="10914"/>
                </a:cubicBezTo>
                <a:cubicBezTo>
                  <a:pt x="15322" y="10898"/>
                  <a:pt x="15329" y="10910"/>
                  <a:pt x="15329" y="10864"/>
                </a:cubicBezTo>
                <a:cubicBezTo>
                  <a:pt x="15387" y="10780"/>
                  <a:pt x="15641" y="10873"/>
                  <a:pt x="15726" y="10889"/>
                </a:cubicBezTo>
                <a:cubicBezTo>
                  <a:pt x="15815" y="10905"/>
                  <a:pt x="15867" y="10914"/>
                  <a:pt x="15949" y="10914"/>
                </a:cubicBezTo>
              </a:path>
              <a:path w="5507" h="5458">
                <a:moveTo>
                  <a:pt x="15875" y="10021"/>
                </a:moveTo>
                <a:cubicBezTo>
                  <a:pt x="15842" y="10021"/>
                  <a:pt x="15826" y="10021"/>
                  <a:pt x="15801" y="10021"/>
                </a:cubicBezTo>
                <a:cubicBezTo>
                  <a:pt x="15778" y="10091"/>
                  <a:pt x="15771" y="10063"/>
                  <a:pt x="15726" y="10096"/>
                </a:cubicBezTo>
                <a:cubicBezTo>
                  <a:pt x="15711" y="10107"/>
                  <a:pt x="15677" y="10170"/>
                  <a:pt x="15677" y="10170"/>
                </a:cubicBezTo>
                <a:cubicBezTo>
                  <a:pt x="15644" y="10235"/>
                  <a:pt x="15652" y="10298"/>
                  <a:pt x="15652" y="10368"/>
                </a:cubicBezTo>
                <a:cubicBezTo>
                  <a:pt x="15652" y="10494"/>
                  <a:pt x="15739" y="10506"/>
                  <a:pt x="15850" y="10517"/>
                </a:cubicBezTo>
                <a:cubicBezTo>
                  <a:pt x="16011" y="10534"/>
                  <a:pt x="16234" y="10541"/>
                  <a:pt x="16371" y="10468"/>
                </a:cubicBezTo>
                <a:cubicBezTo>
                  <a:pt x="16444" y="10429"/>
                  <a:pt x="16578" y="10318"/>
                  <a:pt x="16619" y="10244"/>
                </a:cubicBezTo>
                <a:cubicBezTo>
                  <a:pt x="16619" y="10236"/>
                  <a:pt x="16619" y="10228"/>
                  <a:pt x="16619" y="10220"/>
                </a:cubicBezTo>
              </a:path>
              <a:path w="5507" h="5458">
                <a:moveTo>
                  <a:pt x="15180" y="9004"/>
                </a:moveTo>
                <a:cubicBezTo>
                  <a:pt x="15273" y="9043"/>
                  <a:pt x="15362" y="9085"/>
                  <a:pt x="15453" y="9128"/>
                </a:cubicBezTo>
                <a:cubicBezTo>
                  <a:pt x="15605" y="9200"/>
                  <a:pt x="15744" y="9295"/>
                  <a:pt x="15900" y="9376"/>
                </a:cubicBezTo>
                <a:cubicBezTo>
                  <a:pt x="16335" y="9601"/>
                  <a:pt x="16745" y="9899"/>
                  <a:pt x="17190" y="10096"/>
                </a:cubicBezTo>
                <a:cubicBezTo>
                  <a:pt x="17198" y="10096"/>
                  <a:pt x="17206" y="10096"/>
                  <a:pt x="17214" y="10096"/>
                </a:cubicBezTo>
              </a:path>
              <a:path w="5507" h="5458">
                <a:moveTo>
                  <a:pt x="16421" y="9426"/>
                </a:moveTo>
                <a:cubicBezTo>
                  <a:pt x="16486" y="9383"/>
                  <a:pt x="16431" y="9161"/>
                  <a:pt x="16446" y="9079"/>
                </a:cubicBezTo>
                <a:cubicBezTo>
                  <a:pt x="16475" y="8921"/>
                  <a:pt x="16623" y="8730"/>
                  <a:pt x="16520" y="8607"/>
                </a:cubicBezTo>
                <a:cubicBezTo>
                  <a:pt x="16492" y="8574"/>
                  <a:pt x="16489" y="8638"/>
                  <a:pt x="16470" y="8582"/>
                </a:cubicBezTo>
              </a:path>
              <a:path w="5507" h="5458">
                <a:moveTo>
                  <a:pt x="17239" y="8830"/>
                </a:moveTo>
                <a:cubicBezTo>
                  <a:pt x="17239" y="8721"/>
                  <a:pt x="17321" y="8609"/>
                  <a:pt x="17363" y="8508"/>
                </a:cubicBezTo>
                <a:cubicBezTo>
                  <a:pt x="17371" y="8489"/>
                  <a:pt x="17446" y="8334"/>
                  <a:pt x="17413" y="8285"/>
                </a:cubicBezTo>
                <a:cubicBezTo>
                  <a:pt x="17356" y="8200"/>
                  <a:pt x="17307" y="8210"/>
                  <a:pt x="17214" y="8210"/>
                </a:cubicBezTo>
                <a:cubicBezTo>
                  <a:pt x="17081" y="8210"/>
                  <a:pt x="17101" y="8279"/>
                  <a:pt x="17041" y="8384"/>
                </a:cubicBezTo>
                <a:cubicBezTo>
                  <a:pt x="16991" y="8472"/>
                  <a:pt x="16933" y="8570"/>
                  <a:pt x="16892" y="8657"/>
                </a:cubicBezTo>
                <a:cubicBezTo>
                  <a:pt x="16858" y="8729"/>
                  <a:pt x="16912" y="8751"/>
                  <a:pt x="16966" y="8756"/>
                </a:cubicBezTo>
                <a:cubicBezTo>
                  <a:pt x="17088" y="8766"/>
                  <a:pt x="17337" y="8799"/>
                  <a:pt x="17438" y="8731"/>
                </a:cubicBezTo>
                <a:cubicBezTo>
                  <a:pt x="17482" y="8701"/>
                  <a:pt x="17565" y="8629"/>
                  <a:pt x="17587" y="8582"/>
                </a:cubicBezTo>
                <a:cubicBezTo>
                  <a:pt x="17593" y="8568"/>
                  <a:pt x="17628" y="8465"/>
                  <a:pt x="17636" y="8458"/>
                </a:cubicBezTo>
                <a:cubicBezTo>
                  <a:pt x="17663" y="8436"/>
                  <a:pt x="17673" y="8448"/>
                  <a:pt x="17686" y="8409"/>
                </a:cubicBezTo>
              </a:path>
              <a:path w="5507" h="5458">
                <a:moveTo>
                  <a:pt x="17462" y="7913"/>
                </a:moveTo>
                <a:cubicBezTo>
                  <a:pt x="17442" y="7898"/>
                  <a:pt x="17433" y="7903"/>
                  <a:pt x="17413" y="7888"/>
                </a:cubicBezTo>
                <a:cubicBezTo>
                  <a:pt x="17529" y="7888"/>
                  <a:pt x="17644" y="7888"/>
                  <a:pt x="17760" y="7888"/>
                </a:cubicBezTo>
                <a:cubicBezTo>
                  <a:pt x="17774" y="7763"/>
                  <a:pt x="17845" y="7668"/>
                  <a:pt x="17859" y="7541"/>
                </a:cubicBezTo>
                <a:cubicBezTo>
                  <a:pt x="17867" y="7471"/>
                  <a:pt x="17859" y="7389"/>
                  <a:pt x="17859" y="7317"/>
                </a:cubicBezTo>
                <a:cubicBezTo>
                  <a:pt x="17859" y="7462"/>
                  <a:pt x="17879" y="7555"/>
                  <a:pt x="17934" y="7689"/>
                </a:cubicBezTo>
                <a:cubicBezTo>
                  <a:pt x="18049" y="7971"/>
                  <a:pt x="18186" y="8243"/>
                  <a:pt x="18281" y="8533"/>
                </a:cubicBezTo>
                <a:cubicBezTo>
                  <a:pt x="18354" y="8756"/>
                  <a:pt x="18443" y="8993"/>
                  <a:pt x="18479" y="92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62720" y="4187880"/>
            <a:ext cx="1277640" cy="1322280"/>
          </a:xfrm>
          <a:custGeom>
            <a:avLst/>
            <a:gdLst/>
            <a:ahLst/>
            <a:rect l="l" t="t" r="r" b="b"/>
            <a:pathLst>
              <a:path w="3548" h="3672">
                <a:moveTo>
                  <a:pt x="16421" y="12179"/>
                </a:moveTo>
                <a:cubicBezTo>
                  <a:pt x="16237" y="12297"/>
                  <a:pt x="16580" y="11750"/>
                  <a:pt x="16222" y="12402"/>
                </a:cubicBezTo>
                <a:cubicBezTo>
                  <a:pt x="15885" y="13015"/>
                  <a:pt x="15346" y="13844"/>
                  <a:pt x="15453" y="14585"/>
                </a:cubicBezTo>
                <a:cubicBezTo>
                  <a:pt x="15461" y="14593"/>
                  <a:pt x="15470" y="14602"/>
                  <a:pt x="15478" y="14610"/>
                </a:cubicBezTo>
                <a:cubicBezTo>
                  <a:pt x="15771" y="14610"/>
                  <a:pt x="16000" y="14616"/>
                  <a:pt x="16272" y="14511"/>
                </a:cubicBezTo>
                <a:cubicBezTo>
                  <a:pt x="16371" y="14473"/>
                  <a:pt x="16401" y="14471"/>
                  <a:pt x="16520" y="14461"/>
                </a:cubicBezTo>
                <a:cubicBezTo>
                  <a:pt x="16520" y="14643"/>
                  <a:pt x="16528" y="14799"/>
                  <a:pt x="16446" y="14957"/>
                </a:cubicBezTo>
                <a:cubicBezTo>
                  <a:pt x="16390" y="15064"/>
                  <a:pt x="16319" y="15178"/>
                  <a:pt x="16272" y="15280"/>
                </a:cubicBezTo>
                <a:cubicBezTo>
                  <a:pt x="16272" y="15288"/>
                  <a:pt x="16272" y="15296"/>
                  <a:pt x="16272" y="15304"/>
                </a:cubicBezTo>
              </a:path>
              <a:path w="3548" h="3672">
                <a:moveTo>
                  <a:pt x="17363" y="12998"/>
                </a:moveTo>
                <a:cubicBezTo>
                  <a:pt x="17179" y="13172"/>
                  <a:pt x="16964" y="13336"/>
                  <a:pt x="16793" y="13519"/>
                </a:cubicBezTo>
                <a:cubicBezTo>
                  <a:pt x="16666" y="13655"/>
                  <a:pt x="16619" y="13693"/>
                  <a:pt x="16619" y="13841"/>
                </a:cubicBezTo>
                <a:cubicBezTo>
                  <a:pt x="16712" y="13915"/>
                  <a:pt x="16814" y="13978"/>
                  <a:pt x="16942" y="13940"/>
                </a:cubicBezTo>
                <a:cubicBezTo>
                  <a:pt x="17020" y="13917"/>
                  <a:pt x="17093" y="13864"/>
                  <a:pt x="17115" y="13791"/>
                </a:cubicBezTo>
                <a:cubicBezTo>
                  <a:pt x="17166" y="13624"/>
                  <a:pt x="17140" y="13444"/>
                  <a:pt x="17140" y="13271"/>
                </a:cubicBezTo>
                <a:cubicBezTo>
                  <a:pt x="17140" y="13163"/>
                  <a:pt x="17140" y="13056"/>
                  <a:pt x="17140" y="12948"/>
                </a:cubicBezTo>
                <a:cubicBezTo>
                  <a:pt x="17457" y="13344"/>
                  <a:pt x="17767" y="13768"/>
                  <a:pt x="18157" y="14089"/>
                </a:cubicBezTo>
                <a:cubicBezTo>
                  <a:pt x="18240" y="14157"/>
                  <a:pt x="18209" y="14100"/>
                  <a:pt x="18231" y="14064"/>
                </a:cubicBezTo>
              </a:path>
              <a:path w="3548" h="3672">
                <a:moveTo>
                  <a:pt x="17934" y="12328"/>
                </a:moveTo>
                <a:cubicBezTo>
                  <a:pt x="17893" y="12328"/>
                  <a:pt x="17798" y="12367"/>
                  <a:pt x="17785" y="12402"/>
                </a:cubicBezTo>
                <a:cubicBezTo>
                  <a:pt x="17738" y="12527"/>
                  <a:pt x="17738" y="12722"/>
                  <a:pt x="17735" y="12849"/>
                </a:cubicBezTo>
                <a:cubicBezTo>
                  <a:pt x="17733" y="12948"/>
                  <a:pt x="17698" y="13135"/>
                  <a:pt x="17785" y="13196"/>
                </a:cubicBezTo>
                <a:cubicBezTo>
                  <a:pt x="17825" y="13224"/>
                  <a:pt x="17881" y="13221"/>
                  <a:pt x="17934" y="13221"/>
                </a:cubicBezTo>
                <a:cubicBezTo>
                  <a:pt x="18030" y="13221"/>
                  <a:pt x="18089" y="13226"/>
                  <a:pt x="18182" y="13171"/>
                </a:cubicBezTo>
                <a:cubicBezTo>
                  <a:pt x="18216" y="13151"/>
                  <a:pt x="18271" y="13093"/>
                  <a:pt x="18281" y="13072"/>
                </a:cubicBezTo>
                <a:cubicBezTo>
                  <a:pt x="18306" y="13017"/>
                  <a:pt x="18345" y="12954"/>
                  <a:pt x="18355" y="12898"/>
                </a:cubicBezTo>
                <a:cubicBezTo>
                  <a:pt x="18355" y="12890"/>
                  <a:pt x="18355" y="12882"/>
                  <a:pt x="18355" y="12874"/>
                </a:cubicBezTo>
              </a:path>
              <a:path w="3548" h="3672">
                <a:moveTo>
                  <a:pt x="18058" y="11782"/>
                </a:moveTo>
                <a:cubicBezTo>
                  <a:pt x="18144" y="11933"/>
                  <a:pt x="18352" y="12298"/>
                  <a:pt x="18455" y="12452"/>
                </a:cubicBezTo>
                <a:cubicBezTo>
                  <a:pt x="18485" y="12497"/>
                  <a:pt x="18415" y="12594"/>
                  <a:pt x="18479" y="12626"/>
                </a:cubicBezTo>
                <a:cubicBezTo>
                  <a:pt x="18487" y="12626"/>
                  <a:pt x="18496" y="12626"/>
                  <a:pt x="18504" y="12626"/>
                </a:cubicBezTo>
              </a:path>
              <a:path w="3548" h="3672">
                <a:moveTo>
                  <a:pt x="18281" y="12080"/>
                </a:moveTo>
                <a:cubicBezTo>
                  <a:pt x="18281" y="12024"/>
                  <a:pt x="18312" y="11926"/>
                  <a:pt x="18331" y="11881"/>
                </a:cubicBezTo>
                <a:cubicBezTo>
                  <a:pt x="18366" y="11798"/>
                  <a:pt x="18438" y="11720"/>
                  <a:pt x="18455" y="11633"/>
                </a:cubicBezTo>
              </a:path>
              <a:path w="3548" h="3672">
                <a:moveTo>
                  <a:pt x="18380" y="12154"/>
                </a:moveTo>
                <a:cubicBezTo>
                  <a:pt x="18547" y="12246"/>
                  <a:pt x="18722" y="12367"/>
                  <a:pt x="18876" y="12477"/>
                </a:cubicBezTo>
                <a:cubicBezTo>
                  <a:pt x="18923" y="12511"/>
                  <a:pt x="18987" y="12548"/>
                  <a:pt x="19000" y="12601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uinal ligament, Iliac crest and the Lumbodorsa fas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 alba, Xiphoid process and the inferior ri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rv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intercostal ner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ates the torso on the SAME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543560" y="1143000"/>
            <a:ext cx="4600440" cy="5715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429080" y="2938320"/>
            <a:ext cx="3438720" cy="1187640"/>
          </a:xfrm>
          <a:custGeom>
            <a:avLst/>
            <a:gdLst/>
            <a:ahLst/>
            <a:rect l="l" t="t" r="r" b="b"/>
            <a:pathLst>
              <a:path w="9551" h="3300">
                <a:moveTo>
                  <a:pt x="21555" y="10393"/>
                </a:moveTo>
                <a:cubicBezTo>
                  <a:pt x="21497" y="10397"/>
                  <a:pt x="21426" y="10414"/>
                  <a:pt x="21382" y="10418"/>
                </a:cubicBezTo>
                <a:cubicBezTo>
                  <a:pt x="21254" y="10430"/>
                  <a:pt x="21133" y="10400"/>
                  <a:pt x="21010" y="10443"/>
                </a:cubicBezTo>
                <a:cubicBezTo>
                  <a:pt x="20959" y="10461"/>
                  <a:pt x="20890" y="10474"/>
                  <a:pt x="20836" y="10492"/>
                </a:cubicBezTo>
                <a:cubicBezTo>
                  <a:pt x="20759" y="10518"/>
                  <a:pt x="20732" y="10513"/>
                  <a:pt x="20613" y="10517"/>
                </a:cubicBezTo>
                <a:cubicBezTo>
                  <a:pt x="20136" y="10532"/>
                  <a:pt x="19642" y="10465"/>
                  <a:pt x="19174" y="10567"/>
                </a:cubicBezTo>
                <a:cubicBezTo>
                  <a:pt x="19066" y="10591"/>
                  <a:pt x="18947" y="10645"/>
                  <a:pt x="18852" y="10666"/>
                </a:cubicBezTo>
                <a:cubicBezTo>
                  <a:pt x="18768" y="10685"/>
                  <a:pt x="18581" y="10681"/>
                  <a:pt x="18504" y="10641"/>
                </a:cubicBezTo>
                <a:cubicBezTo>
                  <a:pt x="18466" y="10621"/>
                  <a:pt x="18448" y="10591"/>
                  <a:pt x="18405" y="10567"/>
                </a:cubicBezTo>
                <a:cubicBezTo>
                  <a:pt x="18397" y="10563"/>
                  <a:pt x="18337" y="10519"/>
                  <a:pt x="18331" y="10517"/>
                </a:cubicBezTo>
                <a:cubicBezTo>
                  <a:pt x="18290" y="10499"/>
                  <a:pt x="18253" y="10477"/>
                  <a:pt x="18207" y="10468"/>
                </a:cubicBezTo>
                <a:cubicBezTo>
                  <a:pt x="18163" y="10460"/>
                  <a:pt x="18088" y="10491"/>
                  <a:pt x="18083" y="10492"/>
                </a:cubicBezTo>
                <a:cubicBezTo>
                  <a:pt x="17966" y="10505"/>
                  <a:pt x="17959" y="10469"/>
                  <a:pt x="17909" y="10443"/>
                </a:cubicBezTo>
                <a:cubicBezTo>
                  <a:pt x="17844" y="10409"/>
                  <a:pt x="17793" y="10388"/>
                  <a:pt x="17735" y="10344"/>
                </a:cubicBezTo>
                <a:cubicBezTo>
                  <a:pt x="17701" y="10318"/>
                  <a:pt x="17646" y="10270"/>
                  <a:pt x="17611" y="10244"/>
                </a:cubicBezTo>
                <a:cubicBezTo>
                  <a:pt x="17577" y="10218"/>
                  <a:pt x="17555" y="10181"/>
                  <a:pt x="17537" y="10170"/>
                </a:cubicBezTo>
                <a:cubicBezTo>
                  <a:pt x="17491" y="10141"/>
                  <a:pt x="17480" y="10177"/>
                  <a:pt x="17562" y="10195"/>
                </a:cubicBezTo>
                <a:cubicBezTo>
                  <a:pt x="17683" y="10222"/>
                  <a:pt x="17811" y="10241"/>
                  <a:pt x="17934" y="10269"/>
                </a:cubicBezTo>
                <a:cubicBezTo>
                  <a:pt x="18010" y="10286"/>
                  <a:pt x="18090" y="10333"/>
                  <a:pt x="18157" y="10344"/>
                </a:cubicBezTo>
                <a:cubicBezTo>
                  <a:pt x="18218" y="10354"/>
                  <a:pt x="18249" y="10382"/>
                  <a:pt x="18306" y="10393"/>
                </a:cubicBezTo>
                <a:cubicBezTo>
                  <a:pt x="18373" y="10405"/>
                  <a:pt x="18466" y="10412"/>
                  <a:pt x="18529" y="10418"/>
                </a:cubicBezTo>
                <a:cubicBezTo>
                  <a:pt x="18941" y="10455"/>
                  <a:pt x="19623" y="10492"/>
                  <a:pt x="20017" y="10393"/>
                </a:cubicBezTo>
                <a:cubicBezTo>
                  <a:pt x="20068" y="10380"/>
                  <a:pt x="20115" y="10358"/>
                  <a:pt x="20166" y="10344"/>
                </a:cubicBezTo>
                <a:cubicBezTo>
                  <a:pt x="20214" y="10330"/>
                  <a:pt x="20265" y="10326"/>
                  <a:pt x="20315" y="10319"/>
                </a:cubicBezTo>
                <a:cubicBezTo>
                  <a:pt x="20385" y="10310"/>
                  <a:pt x="20429" y="10308"/>
                  <a:pt x="20489" y="10294"/>
                </a:cubicBezTo>
                <a:cubicBezTo>
                  <a:pt x="20538" y="10283"/>
                  <a:pt x="20583" y="10280"/>
                  <a:pt x="20638" y="10269"/>
                </a:cubicBezTo>
                <a:cubicBezTo>
                  <a:pt x="20674" y="10262"/>
                  <a:pt x="20716" y="10251"/>
                  <a:pt x="20762" y="10244"/>
                </a:cubicBezTo>
                <a:cubicBezTo>
                  <a:pt x="20834" y="10233"/>
                  <a:pt x="20912" y="10203"/>
                  <a:pt x="20985" y="10195"/>
                </a:cubicBezTo>
                <a:cubicBezTo>
                  <a:pt x="21247" y="10167"/>
                  <a:pt x="21612" y="10164"/>
                  <a:pt x="21853" y="10220"/>
                </a:cubicBezTo>
                <a:cubicBezTo>
                  <a:pt x="21827" y="10257"/>
                  <a:pt x="21826" y="10284"/>
                  <a:pt x="21779" y="10319"/>
                </a:cubicBezTo>
                <a:cubicBezTo>
                  <a:pt x="21731" y="10354"/>
                  <a:pt x="21706" y="10360"/>
                  <a:pt x="21654" y="10368"/>
                </a:cubicBezTo>
                <a:cubicBezTo>
                  <a:pt x="21504" y="10390"/>
                  <a:pt x="21295" y="10358"/>
                  <a:pt x="21183" y="10344"/>
                </a:cubicBezTo>
                <a:cubicBezTo>
                  <a:pt x="21110" y="10335"/>
                  <a:pt x="21130" y="10336"/>
                  <a:pt x="21084" y="10319"/>
                </a:cubicBezTo>
                <a:cubicBezTo>
                  <a:pt x="21040" y="10302"/>
                  <a:pt x="21031" y="10296"/>
                  <a:pt x="21010" y="10269"/>
                </a:cubicBezTo>
                <a:cubicBezTo>
                  <a:pt x="20990" y="10243"/>
                  <a:pt x="21018" y="10199"/>
                  <a:pt x="20985" y="10195"/>
                </a:cubicBezTo>
                <a:cubicBezTo>
                  <a:pt x="20673" y="10156"/>
                  <a:pt x="20645" y="10306"/>
                  <a:pt x="20389" y="10393"/>
                </a:cubicBezTo>
                <a:cubicBezTo>
                  <a:pt x="20118" y="10485"/>
                  <a:pt x="19750" y="10344"/>
                  <a:pt x="19472" y="10344"/>
                </a:cubicBezTo>
                <a:cubicBezTo>
                  <a:pt x="19356" y="10344"/>
                  <a:pt x="19259" y="10356"/>
                  <a:pt x="19149" y="10368"/>
                </a:cubicBezTo>
                <a:cubicBezTo>
                  <a:pt x="19078" y="10376"/>
                  <a:pt x="19017" y="10407"/>
                  <a:pt x="18951" y="10418"/>
                </a:cubicBezTo>
                <a:cubicBezTo>
                  <a:pt x="18887" y="10428"/>
                  <a:pt x="18808" y="10438"/>
                  <a:pt x="18752" y="10443"/>
                </a:cubicBezTo>
                <a:cubicBezTo>
                  <a:pt x="18652" y="10453"/>
                  <a:pt x="18555" y="10465"/>
                  <a:pt x="18455" y="10468"/>
                </a:cubicBezTo>
                <a:cubicBezTo>
                  <a:pt x="18333" y="10472"/>
                  <a:pt x="18164" y="10459"/>
                  <a:pt x="18083" y="10443"/>
                </a:cubicBezTo>
                <a:cubicBezTo>
                  <a:pt x="18075" y="10443"/>
                  <a:pt x="18066" y="10443"/>
                  <a:pt x="18058" y="10443"/>
                </a:cubicBezTo>
                <a:cubicBezTo>
                  <a:pt x="18093" y="10422"/>
                  <a:pt x="18032" y="10401"/>
                  <a:pt x="18107" y="10393"/>
                </a:cubicBezTo>
                <a:cubicBezTo>
                  <a:pt x="18376" y="10363"/>
                  <a:pt x="18625" y="10275"/>
                  <a:pt x="18901" y="10269"/>
                </a:cubicBezTo>
                <a:cubicBezTo>
                  <a:pt x="19012" y="10267"/>
                  <a:pt x="19097" y="10272"/>
                  <a:pt x="19199" y="10294"/>
                </a:cubicBezTo>
                <a:cubicBezTo>
                  <a:pt x="19263" y="10308"/>
                  <a:pt x="19330" y="10318"/>
                  <a:pt x="19397" y="10319"/>
                </a:cubicBezTo>
                <a:cubicBezTo>
                  <a:pt x="19718" y="10326"/>
                  <a:pt x="19937" y="10260"/>
                  <a:pt x="20241" y="10170"/>
                </a:cubicBezTo>
                <a:cubicBezTo>
                  <a:pt x="20288" y="10156"/>
                  <a:pt x="20339" y="10150"/>
                  <a:pt x="20389" y="10145"/>
                </a:cubicBezTo>
                <a:cubicBezTo>
                  <a:pt x="20453" y="10138"/>
                  <a:pt x="20512" y="10146"/>
                  <a:pt x="20563" y="10170"/>
                </a:cubicBezTo>
                <a:cubicBezTo>
                  <a:pt x="20624" y="10198"/>
                  <a:pt x="20588" y="10206"/>
                  <a:pt x="20662" y="10220"/>
                </a:cubicBezTo>
                <a:cubicBezTo>
                  <a:pt x="20709" y="10229"/>
                  <a:pt x="20769" y="10263"/>
                  <a:pt x="20811" y="10269"/>
                </a:cubicBezTo>
                <a:cubicBezTo>
                  <a:pt x="20882" y="10278"/>
                  <a:pt x="20962" y="10269"/>
                  <a:pt x="21034" y="10269"/>
                </a:cubicBezTo>
                <a:cubicBezTo>
                  <a:pt x="20995" y="10309"/>
                  <a:pt x="21049" y="10291"/>
                  <a:pt x="20985" y="10319"/>
                </a:cubicBezTo>
                <a:cubicBezTo>
                  <a:pt x="20961" y="10329"/>
                  <a:pt x="20910" y="10341"/>
                  <a:pt x="20886" y="10344"/>
                </a:cubicBezTo>
                <a:cubicBezTo>
                  <a:pt x="20826" y="10351"/>
                  <a:pt x="20767" y="10357"/>
                  <a:pt x="20737" y="10368"/>
                </a:cubicBezTo>
                <a:cubicBezTo>
                  <a:pt x="20700" y="10381"/>
                  <a:pt x="20708" y="10389"/>
                  <a:pt x="20687" y="10418"/>
                </a:cubicBezTo>
              </a:path>
              <a:path w="9551" h="3300">
                <a:moveTo>
                  <a:pt x="12303" y="11460"/>
                </a:moveTo>
                <a:cubicBezTo>
                  <a:pt x="12427" y="11332"/>
                  <a:pt x="12124" y="11528"/>
                  <a:pt x="12477" y="11261"/>
                </a:cubicBezTo>
                <a:cubicBezTo>
                  <a:pt x="13598" y="10413"/>
                  <a:pt x="15068" y="9998"/>
                  <a:pt x="16346" y="9451"/>
                </a:cubicBezTo>
                <a:cubicBezTo>
                  <a:pt x="16502" y="9384"/>
                  <a:pt x="17395" y="8898"/>
                  <a:pt x="17810" y="8830"/>
                </a:cubicBezTo>
                <a:cubicBezTo>
                  <a:pt x="18013" y="8797"/>
                  <a:pt x="18262" y="8880"/>
                  <a:pt x="18455" y="8806"/>
                </a:cubicBezTo>
                <a:cubicBezTo>
                  <a:pt x="18455" y="8778"/>
                  <a:pt x="18457" y="8767"/>
                  <a:pt x="18479" y="8756"/>
                </a:cubicBezTo>
                <a:cubicBezTo>
                  <a:pt x="18397" y="8681"/>
                  <a:pt x="18441" y="8621"/>
                  <a:pt x="18256" y="8508"/>
                </a:cubicBezTo>
                <a:cubicBezTo>
                  <a:pt x="18057" y="8386"/>
                  <a:pt x="17791" y="8265"/>
                  <a:pt x="17587" y="8161"/>
                </a:cubicBezTo>
                <a:cubicBezTo>
                  <a:pt x="17973" y="8263"/>
                  <a:pt x="18341" y="8390"/>
                  <a:pt x="18678" y="8607"/>
                </a:cubicBezTo>
                <a:cubicBezTo>
                  <a:pt x="18693" y="8616"/>
                  <a:pt x="18769" y="8677"/>
                  <a:pt x="18777" y="8682"/>
                </a:cubicBezTo>
                <a:cubicBezTo>
                  <a:pt x="18713" y="8757"/>
                  <a:pt x="18631" y="8852"/>
                  <a:pt x="18554" y="8930"/>
                </a:cubicBezTo>
                <a:cubicBezTo>
                  <a:pt x="18433" y="9053"/>
                  <a:pt x="18304" y="9184"/>
                  <a:pt x="18182" y="9302"/>
                </a:cubicBezTo>
                <a:cubicBezTo>
                  <a:pt x="18182" y="9327"/>
                  <a:pt x="18182" y="9335"/>
                  <a:pt x="18157" y="932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cred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uscles insert or originate on the coracoid process of the scapula Name them (one point a pie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joints does gracillis cross Name them and the action at each joint the muscle performs (2 possible poi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ye of the Tiger” is from which series of movies? (1 po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immy Choo makes what product? (1 po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) Name the Muscl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l half of anterior surfac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ocoid process and tuberosity of ul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s muscle does (#6) in a (#7 pos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ulocutaneous nerve (C5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brachialisant: "/>
          <p:cNvPicPr/>
          <p:nvPr/>
        </p:nvPicPr>
        <p:blipFill>
          <a:blip r:embed="rId1"/>
          <a:stretch/>
        </p:blipFill>
        <p:spPr>
          <a:xfrm>
            <a:off x="5562720" y="1371600"/>
            <a:ext cx="2970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)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vicular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terior surface of medial half of clavic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nocostal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terior surface of sternum, superior six costal cartil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lip of intertubercular groov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#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295960" y="2478240"/>
            <a:ext cx="27432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uchal ligament and spinous processes of C7 and T1 vertebra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pinous processes of T2 - T5 vertebra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border of scapula from level of spine to inferior 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#11 majo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sal scapular nerve ( C4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419720" y="1752480"/>
            <a:ext cx="4238640" cy="4572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6037200" y="1839960"/>
            <a:ext cx="2446560" cy="419040"/>
          </a:xfrm>
          <a:custGeom>
            <a:avLst/>
            <a:gdLst/>
            <a:ahLst/>
            <a:rect l="l" t="t" r="r" b="b"/>
            <a:pathLst>
              <a:path w="6797" h="1167">
                <a:moveTo>
                  <a:pt x="17066" y="5755"/>
                </a:moveTo>
                <a:cubicBezTo>
                  <a:pt x="17266" y="5923"/>
                  <a:pt x="17451" y="6072"/>
                  <a:pt x="17711" y="6127"/>
                </a:cubicBezTo>
                <a:cubicBezTo>
                  <a:pt x="17927" y="6173"/>
                  <a:pt x="18313" y="5749"/>
                  <a:pt x="18455" y="5655"/>
                </a:cubicBezTo>
                <a:cubicBezTo>
                  <a:pt x="18591" y="5564"/>
                  <a:pt x="18831" y="5379"/>
                  <a:pt x="19000" y="5333"/>
                </a:cubicBezTo>
                <a:cubicBezTo>
                  <a:pt x="19041" y="5322"/>
                  <a:pt x="19063" y="5322"/>
                  <a:pt x="19100" y="5308"/>
                </a:cubicBezTo>
                <a:cubicBezTo>
                  <a:pt x="18839" y="5420"/>
                  <a:pt x="18591" y="5494"/>
                  <a:pt x="18306" y="5556"/>
                </a:cubicBezTo>
                <a:cubicBezTo>
                  <a:pt x="18158" y="5588"/>
                  <a:pt x="18165" y="5587"/>
                  <a:pt x="18058" y="5531"/>
                </a:cubicBezTo>
                <a:cubicBezTo>
                  <a:pt x="17852" y="5423"/>
                  <a:pt x="17625" y="5309"/>
                  <a:pt x="17388" y="5283"/>
                </a:cubicBezTo>
                <a:cubicBezTo>
                  <a:pt x="17292" y="5272"/>
                  <a:pt x="17225" y="5288"/>
                  <a:pt x="17165" y="5259"/>
                </a:cubicBezTo>
                <a:cubicBezTo>
                  <a:pt x="17325" y="5336"/>
                  <a:pt x="17462" y="5381"/>
                  <a:pt x="17562" y="5531"/>
                </a:cubicBezTo>
                <a:cubicBezTo>
                  <a:pt x="17615" y="5610"/>
                  <a:pt x="17572" y="5787"/>
                  <a:pt x="17487" y="5829"/>
                </a:cubicBezTo>
                <a:cubicBezTo>
                  <a:pt x="17424" y="5860"/>
                  <a:pt x="17305" y="5799"/>
                  <a:pt x="17264" y="5755"/>
                </a:cubicBezTo>
                <a:cubicBezTo>
                  <a:pt x="17237" y="5727"/>
                  <a:pt x="17228" y="5642"/>
                  <a:pt x="17214" y="5606"/>
                </a:cubicBezTo>
                <a:cubicBezTo>
                  <a:pt x="17214" y="5464"/>
                  <a:pt x="17214" y="5594"/>
                  <a:pt x="17214" y="5680"/>
                </a:cubicBezTo>
                <a:cubicBezTo>
                  <a:pt x="17214" y="5754"/>
                  <a:pt x="17187" y="5739"/>
                  <a:pt x="17165" y="5705"/>
                </a:cubicBezTo>
                <a:cubicBezTo>
                  <a:pt x="17165" y="5697"/>
                  <a:pt x="17165" y="5688"/>
                  <a:pt x="17165" y="5680"/>
                </a:cubicBezTo>
              </a:path>
              <a:path w="6797" h="1167">
                <a:moveTo>
                  <a:pt x="22448" y="5680"/>
                </a:moveTo>
                <a:cubicBezTo>
                  <a:pt x="22432" y="5676"/>
                  <a:pt x="22462" y="5632"/>
                  <a:pt x="22399" y="5631"/>
                </a:cubicBezTo>
                <a:cubicBezTo>
                  <a:pt x="22202" y="5627"/>
                  <a:pt x="22040" y="5693"/>
                  <a:pt x="21853" y="5730"/>
                </a:cubicBezTo>
                <a:cubicBezTo>
                  <a:pt x="21600" y="5780"/>
                  <a:pt x="21342" y="5794"/>
                  <a:pt x="21084" y="5804"/>
                </a:cubicBezTo>
                <a:cubicBezTo>
                  <a:pt x="20982" y="5808"/>
                  <a:pt x="20924" y="5790"/>
                  <a:pt x="20836" y="5755"/>
                </a:cubicBezTo>
                <a:cubicBezTo>
                  <a:pt x="20737" y="5715"/>
                  <a:pt x="20655" y="5633"/>
                  <a:pt x="20563" y="5581"/>
                </a:cubicBezTo>
                <a:cubicBezTo>
                  <a:pt x="20414" y="5496"/>
                  <a:pt x="20235" y="5446"/>
                  <a:pt x="20067" y="5407"/>
                </a:cubicBezTo>
                <a:cubicBezTo>
                  <a:pt x="19844" y="5356"/>
                  <a:pt x="19599" y="5314"/>
                  <a:pt x="19372" y="5308"/>
                </a:cubicBezTo>
                <a:cubicBezTo>
                  <a:pt x="19169" y="5302"/>
                  <a:pt x="18900" y="5279"/>
                  <a:pt x="18703" y="5333"/>
                </a:cubicBezTo>
                <a:cubicBezTo>
                  <a:pt x="18526" y="5382"/>
                  <a:pt x="18342" y="5449"/>
                  <a:pt x="18157" y="5507"/>
                </a:cubicBezTo>
                <a:cubicBezTo>
                  <a:pt x="18039" y="5544"/>
                  <a:pt x="17929" y="5585"/>
                  <a:pt x="17810" y="5606"/>
                </a:cubicBezTo>
                <a:cubicBezTo>
                  <a:pt x="17657" y="5633"/>
                  <a:pt x="17402" y="5626"/>
                  <a:pt x="17264" y="5581"/>
                </a:cubicBezTo>
                <a:cubicBezTo>
                  <a:pt x="17229" y="5570"/>
                  <a:pt x="17223" y="5548"/>
                  <a:pt x="17190" y="5531"/>
                </a:cubicBezTo>
                <a:cubicBezTo>
                  <a:pt x="17150" y="5511"/>
                  <a:pt x="17134" y="5492"/>
                  <a:pt x="17090" y="5482"/>
                </a:cubicBezTo>
                <a:cubicBezTo>
                  <a:pt x="17048" y="5473"/>
                  <a:pt x="16972" y="5471"/>
                  <a:pt x="16966" y="5507"/>
                </a:cubicBezTo>
                <a:cubicBezTo>
                  <a:pt x="16950" y="5602"/>
                  <a:pt x="17003" y="5595"/>
                  <a:pt x="17016" y="5680"/>
                </a:cubicBezTo>
                <a:cubicBezTo>
                  <a:pt x="17043" y="5716"/>
                  <a:pt x="17128" y="5858"/>
                  <a:pt x="17165" y="5879"/>
                </a:cubicBezTo>
                <a:cubicBezTo>
                  <a:pt x="17239" y="5921"/>
                  <a:pt x="17382" y="5911"/>
                  <a:pt x="17462" y="5904"/>
                </a:cubicBezTo>
                <a:cubicBezTo>
                  <a:pt x="17597" y="5892"/>
                  <a:pt x="17666" y="5846"/>
                  <a:pt x="17785" y="5829"/>
                </a:cubicBezTo>
                <a:cubicBezTo>
                  <a:pt x="18343" y="5750"/>
                  <a:pt x="18965" y="5830"/>
                  <a:pt x="19521" y="5804"/>
                </a:cubicBezTo>
                <a:cubicBezTo>
                  <a:pt x="19664" y="5797"/>
                  <a:pt x="19804" y="5764"/>
                  <a:pt x="19943" y="5755"/>
                </a:cubicBezTo>
                <a:cubicBezTo>
                  <a:pt x="20242" y="5736"/>
                  <a:pt x="20538" y="5773"/>
                  <a:pt x="20836" y="5730"/>
                </a:cubicBezTo>
                <a:cubicBezTo>
                  <a:pt x="21111" y="5690"/>
                  <a:pt x="21355" y="5680"/>
                  <a:pt x="21630" y="5680"/>
                </a:cubicBezTo>
                <a:cubicBezTo>
                  <a:pt x="21704" y="5680"/>
                  <a:pt x="21779" y="5680"/>
                  <a:pt x="21853" y="5680"/>
                </a:cubicBezTo>
                <a:cubicBezTo>
                  <a:pt x="22060" y="5680"/>
                  <a:pt x="22638" y="5624"/>
                  <a:pt x="22448" y="5705"/>
                </a:cubicBezTo>
                <a:cubicBezTo>
                  <a:pt x="22153" y="5831"/>
                  <a:pt x="21510" y="5691"/>
                  <a:pt x="21208" y="5680"/>
                </a:cubicBezTo>
                <a:cubicBezTo>
                  <a:pt x="20675" y="5660"/>
                  <a:pt x="20101" y="5643"/>
                  <a:pt x="19571" y="5705"/>
                </a:cubicBezTo>
                <a:cubicBezTo>
                  <a:pt x="19380" y="5727"/>
                  <a:pt x="19231" y="5799"/>
                  <a:pt x="19050" y="5829"/>
                </a:cubicBezTo>
                <a:cubicBezTo>
                  <a:pt x="18839" y="5864"/>
                  <a:pt x="18609" y="5812"/>
                  <a:pt x="18405" y="5779"/>
                </a:cubicBezTo>
                <a:cubicBezTo>
                  <a:pt x="18318" y="5765"/>
                  <a:pt x="18176" y="5780"/>
                  <a:pt x="18083" y="5755"/>
                </a:cubicBezTo>
                <a:cubicBezTo>
                  <a:pt x="18062" y="5749"/>
                  <a:pt x="17916" y="5690"/>
                  <a:pt x="17909" y="5680"/>
                </a:cubicBezTo>
                <a:cubicBezTo>
                  <a:pt x="17866" y="5617"/>
                  <a:pt x="17941" y="5619"/>
                  <a:pt x="17934" y="5606"/>
                </a:cubicBezTo>
                <a:cubicBezTo>
                  <a:pt x="18207" y="5560"/>
                  <a:pt x="18476" y="5516"/>
                  <a:pt x="18752" y="5507"/>
                </a:cubicBezTo>
                <a:cubicBezTo>
                  <a:pt x="19034" y="5498"/>
                  <a:pt x="19269" y="5528"/>
                  <a:pt x="19546" y="5581"/>
                </a:cubicBezTo>
                <a:cubicBezTo>
                  <a:pt x="19834" y="5636"/>
                  <a:pt x="20102" y="5612"/>
                  <a:pt x="20389" y="5631"/>
                </a:cubicBezTo>
                <a:cubicBezTo>
                  <a:pt x="20556" y="5642"/>
                  <a:pt x="20747" y="5668"/>
                  <a:pt x="20910" y="5705"/>
                </a:cubicBezTo>
                <a:cubicBezTo>
                  <a:pt x="20999" y="5725"/>
                  <a:pt x="21046" y="5742"/>
                  <a:pt x="21134" y="5779"/>
                </a:cubicBezTo>
                <a:cubicBezTo>
                  <a:pt x="21204" y="5808"/>
                  <a:pt x="21228" y="5816"/>
                  <a:pt x="21307" y="5829"/>
                </a:cubicBezTo>
                <a:cubicBezTo>
                  <a:pt x="21678" y="5891"/>
                  <a:pt x="22220" y="5842"/>
                  <a:pt x="22547" y="5804"/>
                </a:cubicBezTo>
                <a:cubicBezTo>
                  <a:pt x="22150" y="5599"/>
                  <a:pt x="21866" y="5403"/>
                  <a:pt x="21406" y="5383"/>
                </a:cubicBezTo>
                <a:cubicBezTo>
                  <a:pt x="20993" y="5365"/>
                  <a:pt x="20578" y="5392"/>
                  <a:pt x="20166" y="5407"/>
                </a:cubicBezTo>
                <a:cubicBezTo>
                  <a:pt x="19964" y="5414"/>
                  <a:pt x="19904" y="5415"/>
                  <a:pt x="19720" y="5507"/>
                </a:cubicBezTo>
                <a:cubicBezTo>
                  <a:pt x="19551" y="5592"/>
                  <a:pt x="19403" y="5737"/>
                  <a:pt x="19224" y="5804"/>
                </a:cubicBezTo>
                <a:cubicBezTo>
                  <a:pt x="19073" y="5861"/>
                  <a:pt x="19028" y="5862"/>
                  <a:pt x="18901" y="5804"/>
                </a:cubicBezTo>
                <a:cubicBezTo>
                  <a:pt x="18689" y="5707"/>
                  <a:pt x="18490" y="5631"/>
                  <a:pt x="18256" y="5581"/>
                </a:cubicBezTo>
                <a:cubicBezTo>
                  <a:pt x="18118" y="5551"/>
                  <a:pt x="17968" y="5441"/>
                  <a:pt x="17859" y="5531"/>
                </a:cubicBezTo>
                <a:cubicBezTo>
                  <a:pt x="17783" y="5593"/>
                  <a:pt x="17823" y="5680"/>
                  <a:pt x="17760" y="5755"/>
                </a:cubicBezTo>
                <a:cubicBezTo>
                  <a:pt x="17692" y="5835"/>
                  <a:pt x="17660" y="5889"/>
                  <a:pt x="17562" y="5879"/>
                </a:cubicBezTo>
                <a:cubicBezTo>
                  <a:pt x="17463" y="5869"/>
                  <a:pt x="17532" y="5710"/>
                  <a:pt x="17537" y="5680"/>
                </a:cubicBezTo>
                <a:cubicBezTo>
                  <a:pt x="17578" y="5450"/>
                  <a:pt x="17632" y="5791"/>
                  <a:pt x="17462" y="5680"/>
                </a:cubicBezTo>
                <a:cubicBezTo>
                  <a:pt x="17432" y="5660"/>
                  <a:pt x="17448" y="5614"/>
                  <a:pt x="17413" y="5606"/>
                </a:cubicBezTo>
                <a:cubicBezTo>
                  <a:pt x="17372" y="5597"/>
                  <a:pt x="17375" y="5626"/>
                  <a:pt x="17338" y="5606"/>
                </a:cubicBezTo>
                <a:cubicBezTo>
                  <a:pt x="17279" y="5574"/>
                  <a:pt x="17215" y="5497"/>
                  <a:pt x="17214" y="5457"/>
                </a:cubicBezTo>
                <a:cubicBezTo>
                  <a:pt x="17208" y="5282"/>
                  <a:pt x="17369" y="5526"/>
                  <a:pt x="17363" y="5556"/>
                </a:cubicBezTo>
                <a:cubicBezTo>
                  <a:pt x="17348" y="5631"/>
                  <a:pt x="17364" y="5659"/>
                  <a:pt x="17264" y="5680"/>
                </a:cubicBezTo>
                <a:cubicBezTo>
                  <a:pt x="17178" y="5698"/>
                  <a:pt x="17135" y="5671"/>
                  <a:pt x="17140" y="5581"/>
                </a:cubicBezTo>
                <a:cubicBezTo>
                  <a:pt x="17141" y="5558"/>
                  <a:pt x="17202" y="5497"/>
                  <a:pt x="17214" y="5531"/>
                </a:cubicBezTo>
                <a:cubicBezTo>
                  <a:pt x="17223" y="5557"/>
                  <a:pt x="17218" y="5748"/>
                  <a:pt x="17190" y="5730"/>
                </a:cubicBezTo>
                <a:cubicBezTo>
                  <a:pt x="17183" y="5725"/>
                  <a:pt x="17091" y="5639"/>
                  <a:pt x="17140" y="5606"/>
                </a:cubicBezTo>
                <a:cubicBezTo>
                  <a:pt x="17148" y="5600"/>
                  <a:pt x="17253" y="5536"/>
                  <a:pt x="17289" y="5581"/>
                </a:cubicBezTo>
                <a:cubicBezTo>
                  <a:pt x="17351" y="5657"/>
                  <a:pt x="17316" y="5747"/>
                  <a:pt x="17239" y="5804"/>
                </a:cubicBezTo>
                <a:cubicBezTo>
                  <a:pt x="17120" y="5892"/>
                  <a:pt x="17029" y="5834"/>
                  <a:pt x="16991" y="5755"/>
                </a:cubicBezTo>
                <a:cubicBezTo>
                  <a:pt x="16977" y="5726"/>
                  <a:pt x="16977" y="5623"/>
                  <a:pt x="17016" y="5631"/>
                </a:cubicBezTo>
                <a:cubicBezTo>
                  <a:pt x="17077" y="5643"/>
                  <a:pt x="17153" y="5614"/>
                  <a:pt x="17115" y="5730"/>
                </a:cubicBezTo>
                <a:cubicBezTo>
                  <a:pt x="17073" y="5857"/>
                  <a:pt x="17035" y="5910"/>
                  <a:pt x="16892" y="5953"/>
                </a:cubicBezTo>
                <a:cubicBezTo>
                  <a:pt x="16786" y="5985"/>
                  <a:pt x="16818" y="5937"/>
                  <a:pt x="16793" y="5879"/>
                </a:cubicBezTo>
                <a:cubicBezTo>
                  <a:pt x="16781" y="5851"/>
                  <a:pt x="16800" y="5809"/>
                  <a:pt x="16793" y="5779"/>
                </a:cubicBezTo>
                <a:cubicBezTo>
                  <a:pt x="16795" y="5779"/>
                  <a:pt x="16854" y="5758"/>
                  <a:pt x="16892" y="5755"/>
                </a:cubicBezTo>
                <a:cubicBezTo>
                  <a:pt x="16986" y="5749"/>
                  <a:pt x="17090" y="5760"/>
                  <a:pt x="17090" y="5755"/>
                </a:cubicBezTo>
                <a:cubicBezTo>
                  <a:pt x="17076" y="5600"/>
                  <a:pt x="16759" y="5604"/>
                  <a:pt x="16867" y="5333"/>
                </a:cubicBezTo>
                <a:cubicBezTo>
                  <a:pt x="16879" y="5304"/>
                  <a:pt x="17080" y="5061"/>
                  <a:pt x="17165" y="5110"/>
                </a:cubicBezTo>
                <a:cubicBezTo>
                  <a:pt x="17283" y="5178"/>
                  <a:pt x="17064" y="5639"/>
                  <a:pt x="16991" y="5730"/>
                </a:cubicBezTo>
                <a:cubicBezTo>
                  <a:pt x="16975" y="5730"/>
                  <a:pt x="16958" y="5730"/>
                  <a:pt x="16942" y="5730"/>
                </a:cubicBezTo>
                <a:cubicBezTo>
                  <a:pt x="16885" y="5736"/>
                  <a:pt x="16700" y="5850"/>
                  <a:pt x="16768" y="5680"/>
                </a:cubicBezTo>
                <a:cubicBezTo>
                  <a:pt x="16798" y="5604"/>
                  <a:pt x="17054" y="5387"/>
                  <a:pt x="17140" y="5383"/>
                </a:cubicBezTo>
                <a:cubicBezTo>
                  <a:pt x="17441" y="5370"/>
                  <a:pt x="17593" y="5543"/>
                  <a:pt x="17686" y="5804"/>
                </a:cubicBezTo>
                <a:cubicBezTo>
                  <a:pt x="17725" y="5914"/>
                  <a:pt x="17752" y="6056"/>
                  <a:pt x="17611" y="6102"/>
                </a:cubicBezTo>
                <a:cubicBezTo>
                  <a:pt x="17570" y="6116"/>
                  <a:pt x="17504" y="6106"/>
                  <a:pt x="17537" y="6077"/>
                </a:cubicBezTo>
                <a:cubicBezTo>
                  <a:pt x="17650" y="5978"/>
                  <a:pt x="18107" y="5931"/>
                  <a:pt x="17959" y="5953"/>
                </a:cubicBezTo>
                <a:cubicBezTo>
                  <a:pt x="17851" y="5969"/>
                  <a:pt x="17782" y="6054"/>
                  <a:pt x="17686" y="6003"/>
                </a:cubicBezTo>
                <a:cubicBezTo>
                  <a:pt x="17621" y="5969"/>
                  <a:pt x="17682" y="5956"/>
                  <a:pt x="17735" y="5928"/>
                </a:cubicBezTo>
                <a:cubicBezTo>
                  <a:pt x="17780" y="5904"/>
                  <a:pt x="17809" y="5939"/>
                  <a:pt x="17859" y="5928"/>
                </a:cubicBezTo>
                <a:cubicBezTo>
                  <a:pt x="17939" y="5910"/>
                  <a:pt x="17468" y="6119"/>
                  <a:pt x="18157" y="5854"/>
                </a:cubicBezTo>
                <a:cubicBezTo>
                  <a:pt x="18355" y="5778"/>
                  <a:pt x="18541" y="5673"/>
                  <a:pt x="18752" y="5655"/>
                </a:cubicBezTo>
                <a:cubicBezTo>
                  <a:pt x="19177" y="5619"/>
                  <a:pt x="19619" y="5674"/>
                  <a:pt x="20042" y="5680"/>
                </a:cubicBezTo>
                <a:cubicBezTo>
                  <a:pt x="20050" y="5680"/>
                  <a:pt x="20059" y="5680"/>
                  <a:pt x="20067" y="5680"/>
                </a:cubicBezTo>
                <a:cubicBezTo>
                  <a:pt x="20012" y="5698"/>
                  <a:pt x="20148" y="5665"/>
                  <a:pt x="20092" y="5680"/>
                </a:cubicBezTo>
                <a:cubicBezTo>
                  <a:pt x="19425" y="5863"/>
                  <a:pt x="18825" y="5947"/>
                  <a:pt x="18132" y="5953"/>
                </a:cubicBezTo>
                <a:cubicBezTo>
                  <a:pt x="17845" y="5955"/>
                  <a:pt x="17475" y="6002"/>
                  <a:pt x="17190" y="5928"/>
                </a:cubicBezTo>
                <a:cubicBezTo>
                  <a:pt x="17177" y="5925"/>
                  <a:pt x="16991" y="5852"/>
                  <a:pt x="16991" y="5829"/>
                </a:cubicBezTo>
                <a:cubicBezTo>
                  <a:pt x="16991" y="5722"/>
                  <a:pt x="16982" y="5828"/>
                  <a:pt x="17140" y="5755"/>
                </a:cubicBezTo>
                <a:cubicBezTo>
                  <a:pt x="17782" y="5557"/>
                  <a:pt x="18440" y="5242"/>
                  <a:pt x="19124" y="5283"/>
                </a:cubicBezTo>
                <a:cubicBezTo>
                  <a:pt x="19557" y="5309"/>
                  <a:pt x="19970" y="5526"/>
                  <a:pt x="20389" y="5631"/>
                </a:cubicBezTo>
                <a:cubicBezTo>
                  <a:pt x="20520" y="5664"/>
                  <a:pt x="20725" y="5584"/>
                  <a:pt x="20786" y="5705"/>
                </a:cubicBezTo>
                <a:cubicBezTo>
                  <a:pt x="20801" y="5735"/>
                  <a:pt x="20834" y="5755"/>
                  <a:pt x="20811" y="5779"/>
                </a:cubicBezTo>
                <a:cubicBezTo>
                  <a:pt x="20581" y="6019"/>
                  <a:pt x="20272" y="6022"/>
                  <a:pt x="19968" y="6028"/>
                </a:cubicBezTo>
                <a:cubicBezTo>
                  <a:pt x="19555" y="6036"/>
                  <a:pt x="19177" y="6045"/>
                  <a:pt x="18802" y="5928"/>
                </a:cubicBezTo>
                <a:cubicBezTo>
                  <a:pt x="18579" y="5859"/>
                  <a:pt x="18432" y="5808"/>
                  <a:pt x="18207" y="5804"/>
                </a:cubicBezTo>
                <a:cubicBezTo>
                  <a:pt x="18099" y="5802"/>
                  <a:pt x="17992" y="5804"/>
                  <a:pt x="17884" y="5804"/>
                </a:cubicBezTo>
                <a:cubicBezTo>
                  <a:pt x="19235" y="5852"/>
                  <a:pt x="20605" y="5922"/>
                  <a:pt x="21952" y="6028"/>
                </a:cubicBezTo>
                <a:cubicBezTo>
                  <a:pt x="22287" y="6054"/>
                  <a:pt x="23157" y="6144"/>
                  <a:pt x="23564" y="6176"/>
                </a:cubicBezTo>
                <a:cubicBezTo>
                  <a:pt x="22615" y="6281"/>
                  <a:pt x="21698" y="6276"/>
                  <a:pt x="20737" y="6276"/>
                </a:cubicBezTo>
                <a:cubicBezTo>
                  <a:pt x="20544" y="6276"/>
                  <a:pt x="19846" y="6379"/>
                  <a:pt x="19745" y="6251"/>
                </a:cubicBezTo>
                <a:cubicBezTo>
                  <a:pt x="19181" y="5535"/>
                  <a:pt x="21449" y="5663"/>
                  <a:pt x="22324" y="5407"/>
                </a:cubicBezTo>
                <a:cubicBezTo>
                  <a:pt x="22980" y="5215"/>
                  <a:pt x="22942" y="5239"/>
                  <a:pt x="23416" y="5135"/>
                </a:cubicBezTo>
                <a:cubicBezTo>
                  <a:pt x="22590" y="5135"/>
                  <a:pt x="21782" y="5154"/>
                  <a:pt x="20960" y="5209"/>
                </a:cubicBezTo>
                <a:cubicBezTo>
                  <a:pt x="20786" y="5221"/>
                  <a:pt x="20707" y="5181"/>
                  <a:pt x="20910" y="5308"/>
                </a:cubicBezTo>
                <a:cubicBezTo>
                  <a:pt x="21119" y="5438"/>
                  <a:pt x="22287" y="5874"/>
                  <a:pt x="22250" y="6052"/>
                </a:cubicBezTo>
                <a:cubicBezTo>
                  <a:pt x="22219" y="6200"/>
                  <a:pt x="20178" y="6268"/>
                  <a:pt x="20017" y="6276"/>
                </a:cubicBezTo>
                <a:cubicBezTo>
                  <a:pt x="20017" y="6268"/>
                  <a:pt x="20017" y="6259"/>
                  <a:pt x="20017" y="6251"/>
                </a:cubicBezTo>
                <a:cubicBezTo>
                  <a:pt x="20606" y="6000"/>
                  <a:pt x="22430" y="5685"/>
                  <a:pt x="21803" y="5556"/>
                </a:cubicBezTo>
                <a:cubicBezTo>
                  <a:pt x="21661" y="5527"/>
                  <a:pt x="20273" y="5624"/>
                  <a:pt x="20191" y="5631"/>
                </a:cubicBezTo>
                <a:cubicBezTo>
                  <a:pt x="18648" y="5767"/>
                  <a:pt x="20096" y="5608"/>
                  <a:pt x="20340" y="5581"/>
                </a:cubicBezTo>
                <a:cubicBezTo>
                  <a:pt x="20431" y="5581"/>
                  <a:pt x="20522" y="5581"/>
                  <a:pt x="20613" y="5581"/>
                </a:cubicBezTo>
                <a:cubicBezTo>
                  <a:pt x="20099" y="5640"/>
                  <a:pt x="19735" y="5696"/>
                  <a:pt x="19224" y="5779"/>
                </a:cubicBezTo>
                <a:cubicBezTo>
                  <a:pt x="19719" y="5679"/>
                  <a:pt x="20116" y="5598"/>
                  <a:pt x="20613" y="5507"/>
                </a:cubicBezTo>
                <a:cubicBezTo>
                  <a:pt x="20712" y="5490"/>
                  <a:pt x="20811" y="5474"/>
                  <a:pt x="20910" y="5457"/>
                </a:cubicBezTo>
                <a:cubicBezTo>
                  <a:pt x="20298" y="5483"/>
                  <a:pt x="18556" y="5882"/>
                  <a:pt x="19075" y="5556"/>
                </a:cubicBezTo>
                <a:cubicBezTo>
                  <a:pt x="19468" y="5309"/>
                  <a:pt x="19932" y="5364"/>
                  <a:pt x="20389" y="5283"/>
                </a:cubicBezTo>
                <a:cubicBezTo>
                  <a:pt x="20757" y="5218"/>
                  <a:pt x="21796" y="5052"/>
                  <a:pt x="21456" y="5209"/>
                </a:cubicBezTo>
                <a:cubicBezTo>
                  <a:pt x="20739" y="5541"/>
                  <a:pt x="18405" y="5649"/>
                  <a:pt x="19174" y="5829"/>
                </a:cubicBezTo>
                <a:cubicBezTo>
                  <a:pt x="19651" y="5941"/>
                  <a:pt x="20242" y="5734"/>
                  <a:pt x="20737" y="5705"/>
                </a:cubicBezTo>
                <a:cubicBezTo>
                  <a:pt x="20795" y="5705"/>
                  <a:pt x="20852" y="5705"/>
                  <a:pt x="20910" y="5705"/>
                </a:cubicBezTo>
                <a:cubicBezTo>
                  <a:pt x="20307" y="5828"/>
                  <a:pt x="19593" y="5992"/>
                  <a:pt x="19000" y="6201"/>
                </a:cubicBezTo>
                <a:cubicBezTo>
                  <a:pt x="18345" y="6431"/>
                  <a:pt x="20340" y="6174"/>
                  <a:pt x="21034" y="6152"/>
                </a:cubicBezTo>
                <a:cubicBezTo>
                  <a:pt x="21158" y="6152"/>
                  <a:pt x="21167" y="6152"/>
                  <a:pt x="21233" y="6152"/>
                </a:cubicBezTo>
                <a:cubicBezTo>
                  <a:pt x="20414" y="6087"/>
                  <a:pt x="19597" y="6096"/>
                  <a:pt x="18777" y="6028"/>
                </a:cubicBezTo>
                <a:cubicBezTo>
                  <a:pt x="18422" y="5974"/>
                  <a:pt x="18399" y="5949"/>
                  <a:pt x="18207" y="5953"/>
                </a:cubicBezTo>
                <a:cubicBezTo>
                  <a:pt x="18450" y="5927"/>
                  <a:pt x="18915" y="5959"/>
                  <a:pt x="19149" y="5854"/>
                </a:cubicBezTo>
                <a:cubicBezTo>
                  <a:pt x="19377" y="5752"/>
                  <a:pt x="18779" y="5808"/>
                  <a:pt x="18529" y="5804"/>
                </a:cubicBezTo>
                <a:cubicBezTo>
                  <a:pt x="17762" y="5791"/>
                  <a:pt x="19624" y="5546"/>
                  <a:pt x="20389" y="5482"/>
                </a:cubicBezTo>
                <a:cubicBezTo>
                  <a:pt x="21001" y="5431"/>
                  <a:pt x="22689" y="5261"/>
                  <a:pt x="22126" y="5507"/>
                </a:cubicBezTo>
                <a:cubicBezTo>
                  <a:pt x="21565" y="5752"/>
                  <a:pt x="20862" y="5750"/>
                  <a:pt x="20265" y="5854"/>
                </a:cubicBezTo>
                <a:cubicBezTo>
                  <a:pt x="20988" y="5822"/>
                  <a:pt x="21697" y="5751"/>
                  <a:pt x="22423" y="5755"/>
                </a:cubicBezTo>
                <a:cubicBezTo>
                  <a:pt x="22631" y="5756"/>
                  <a:pt x="22427" y="5758"/>
                  <a:pt x="22374" y="5779"/>
                </a:cubicBezTo>
                <a:cubicBezTo>
                  <a:pt x="21562" y="6097"/>
                  <a:pt x="22037" y="6001"/>
                  <a:pt x="21977" y="5879"/>
                </a:cubicBezTo>
                <a:cubicBezTo>
                  <a:pt x="21994" y="5862"/>
                  <a:pt x="22010" y="5846"/>
                  <a:pt x="22027" y="582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48240" y="2259000"/>
            <a:ext cx="2144880" cy="411120"/>
          </a:xfrm>
          <a:custGeom>
            <a:avLst/>
            <a:gdLst/>
            <a:ahLst/>
            <a:rect l="l" t="t" r="r" b="b"/>
            <a:pathLst>
              <a:path w="5954" h="1142">
                <a:moveTo>
                  <a:pt x="18231" y="6896"/>
                </a:moveTo>
                <a:cubicBezTo>
                  <a:pt x="18520" y="6896"/>
                  <a:pt x="18829" y="6908"/>
                  <a:pt x="19100" y="6871"/>
                </a:cubicBezTo>
                <a:cubicBezTo>
                  <a:pt x="19257" y="6850"/>
                  <a:pt x="19411" y="6846"/>
                  <a:pt x="19571" y="6846"/>
                </a:cubicBezTo>
                <a:cubicBezTo>
                  <a:pt x="19680" y="6846"/>
                  <a:pt x="19765" y="6808"/>
                  <a:pt x="19869" y="6796"/>
                </a:cubicBezTo>
                <a:cubicBezTo>
                  <a:pt x="19983" y="6782"/>
                  <a:pt x="20101" y="6777"/>
                  <a:pt x="20216" y="6772"/>
                </a:cubicBezTo>
                <a:cubicBezTo>
                  <a:pt x="20689" y="6750"/>
                  <a:pt x="21185" y="6757"/>
                  <a:pt x="21654" y="6796"/>
                </a:cubicBezTo>
                <a:cubicBezTo>
                  <a:pt x="21753" y="6804"/>
                  <a:pt x="21848" y="6819"/>
                  <a:pt x="21952" y="6821"/>
                </a:cubicBezTo>
                <a:cubicBezTo>
                  <a:pt x="22235" y="6826"/>
                  <a:pt x="22515" y="6830"/>
                  <a:pt x="22796" y="6846"/>
                </a:cubicBezTo>
                <a:cubicBezTo>
                  <a:pt x="22922" y="6853"/>
                  <a:pt x="23323" y="6851"/>
                  <a:pt x="23292" y="6846"/>
                </a:cubicBezTo>
                <a:cubicBezTo>
                  <a:pt x="23193" y="6830"/>
                  <a:pt x="23094" y="6815"/>
                  <a:pt x="22994" y="6796"/>
                </a:cubicBezTo>
                <a:cubicBezTo>
                  <a:pt x="22650" y="6753"/>
                  <a:pt x="22317" y="6709"/>
                  <a:pt x="21977" y="6796"/>
                </a:cubicBezTo>
                <a:cubicBezTo>
                  <a:pt x="21799" y="6842"/>
                  <a:pt x="21632" y="6888"/>
                  <a:pt x="21456" y="6921"/>
                </a:cubicBezTo>
                <a:cubicBezTo>
                  <a:pt x="21331" y="6945"/>
                  <a:pt x="21214" y="6943"/>
                  <a:pt x="21084" y="6945"/>
                </a:cubicBezTo>
                <a:cubicBezTo>
                  <a:pt x="20879" y="6948"/>
                  <a:pt x="20704" y="6949"/>
                  <a:pt x="20513" y="6995"/>
                </a:cubicBezTo>
                <a:cubicBezTo>
                  <a:pt x="20448" y="7011"/>
                  <a:pt x="20370" y="7023"/>
                  <a:pt x="20290" y="7020"/>
                </a:cubicBezTo>
                <a:cubicBezTo>
                  <a:pt x="20128" y="7014"/>
                  <a:pt x="19958" y="6952"/>
                  <a:pt x="19819" y="6871"/>
                </a:cubicBezTo>
                <a:cubicBezTo>
                  <a:pt x="19733" y="6821"/>
                  <a:pt x="19696" y="6794"/>
                  <a:pt x="19596" y="6772"/>
                </a:cubicBezTo>
                <a:cubicBezTo>
                  <a:pt x="19502" y="6751"/>
                  <a:pt x="19418" y="6728"/>
                  <a:pt x="19323" y="6722"/>
                </a:cubicBezTo>
                <a:cubicBezTo>
                  <a:pt x="19158" y="6712"/>
                  <a:pt x="18986" y="6713"/>
                  <a:pt x="18827" y="6747"/>
                </a:cubicBezTo>
                <a:cubicBezTo>
                  <a:pt x="18704" y="6773"/>
                  <a:pt x="18605" y="6793"/>
                  <a:pt x="18479" y="6796"/>
                </a:cubicBezTo>
                <a:cubicBezTo>
                  <a:pt x="18298" y="6800"/>
                  <a:pt x="17833" y="6881"/>
                  <a:pt x="17686" y="6772"/>
                </a:cubicBezTo>
                <a:cubicBezTo>
                  <a:pt x="17659" y="6752"/>
                  <a:pt x="17626" y="6708"/>
                  <a:pt x="17636" y="6672"/>
                </a:cubicBezTo>
                <a:cubicBezTo>
                  <a:pt x="17646" y="6636"/>
                  <a:pt x="17730" y="6534"/>
                  <a:pt x="17760" y="6524"/>
                </a:cubicBezTo>
                <a:cubicBezTo>
                  <a:pt x="17878" y="6484"/>
                  <a:pt x="18010" y="6534"/>
                  <a:pt x="18058" y="6573"/>
                </a:cubicBezTo>
                <a:cubicBezTo>
                  <a:pt x="18119" y="6622"/>
                  <a:pt x="18102" y="6600"/>
                  <a:pt x="18107" y="6672"/>
                </a:cubicBezTo>
                <a:cubicBezTo>
                  <a:pt x="18111" y="6722"/>
                  <a:pt x="18102" y="6650"/>
                  <a:pt x="18058" y="6672"/>
                </a:cubicBezTo>
                <a:cubicBezTo>
                  <a:pt x="18042" y="6770"/>
                  <a:pt x="18096" y="6744"/>
                  <a:pt x="18033" y="6821"/>
                </a:cubicBezTo>
                <a:cubicBezTo>
                  <a:pt x="17969" y="6899"/>
                  <a:pt x="17910" y="6877"/>
                  <a:pt x="17884" y="6796"/>
                </a:cubicBezTo>
                <a:cubicBezTo>
                  <a:pt x="17853" y="6698"/>
                  <a:pt x="17934" y="6400"/>
                  <a:pt x="17909" y="6499"/>
                </a:cubicBezTo>
                <a:cubicBezTo>
                  <a:pt x="17868" y="6662"/>
                  <a:pt x="17798" y="6702"/>
                  <a:pt x="17735" y="6846"/>
                </a:cubicBezTo>
                <a:cubicBezTo>
                  <a:pt x="17710" y="6904"/>
                  <a:pt x="17701" y="6738"/>
                  <a:pt x="17735" y="6796"/>
                </a:cubicBezTo>
                <a:cubicBezTo>
                  <a:pt x="17758" y="6835"/>
                  <a:pt x="17766" y="6881"/>
                  <a:pt x="17810" y="6871"/>
                </a:cubicBezTo>
                <a:cubicBezTo>
                  <a:pt x="17873" y="6857"/>
                  <a:pt x="17884" y="6796"/>
                  <a:pt x="17959" y="6796"/>
                </a:cubicBezTo>
                <a:cubicBezTo>
                  <a:pt x="18090" y="6796"/>
                  <a:pt x="18083" y="6793"/>
                  <a:pt x="18083" y="6945"/>
                </a:cubicBezTo>
                <a:cubicBezTo>
                  <a:pt x="18083" y="6997"/>
                  <a:pt x="18050" y="7112"/>
                  <a:pt x="18058" y="6995"/>
                </a:cubicBezTo>
                <a:cubicBezTo>
                  <a:pt x="18081" y="6664"/>
                  <a:pt x="18287" y="6510"/>
                  <a:pt x="18504" y="6300"/>
                </a:cubicBezTo>
                <a:cubicBezTo>
                  <a:pt x="18507" y="6321"/>
                  <a:pt x="18593" y="6571"/>
                  <a:pt x="18504" y="6772"/>
                </a:cubicBezTo>
                <a:cubicBezTo>
                  <a:pt x="18455" y="6882"/>
                  <a:pt x="18356" y="6838"/>
                  <a:pt x="18256" y="6846"/>
                </a:cubicBezTo>
                <a:cubicBezTo>
                  <a:pt x="18209" y="6850"/>
                  <a:pt x="18153" y="6883"/>
                  <a:pt x="18182" y="6846"/>
                </a:cubicBezTo>
                <a:cubicBezTo>
                  <a:pt x="18227" y="6789"/>
                  <a:pt x="18208" y="6826"/>
                  <a:pt x="18281" y="6821"/>
                </a:cubicBezTo>
                <a:cubicBezTo>
                  <a:pt x="18446" y="6809"/>
                  <a:pt x="18522" y="6844"/>
                  <a:pt x="18628" y="6871"/>
                </a:cubicBezTo>
                <a:cubicBezTo>
                  <a:pt x="18631" y="6905"/>
                  <a:pt x="18742" y="6947"/>
                  <a:pt x="18653" y="6970"/>
                </a:cubicBezTo>
                <a:cubicBezTo>
                  <a:pt x="18500" y="7010"/>
                  <a:pt x="18603" y="6940"/>
                  <a:pt x="18554" y="6921"/>
                </a:cubicBezTo>
                <a:cubicBezTo>
                  <a:pt x="18481" y="6893"/>
                  <a:pt x="18329" y="6865"/>
                  <a:pt x="18281" y="6796"/>
                </a:cubicBezTo>
                <a:cubicBezTo>
                  <a:pt x="18268" y="6777"/>
                  <a:pt x="18227" y="6699"/>
                  <a:pt x="18256" y="6672"/>
                </a:cubicBezTo>
                <a:cubicBezTo>
                  <a:pt x="18292" y="6638"/>
                  <a:pt x="18333" y="6713"/>
                  <a:pt x="18380" y="6697"/>
                </a:cubicBezTo>
                <a:cubicBezTo>
                  <a:pt x="18543" y="6643"/>
                  <a:pt x="18712" y="6568"/>
                  <a:pt x="18876" y="6524"/>
                </a:cubicBezTo>
                <a:cubicBezTo>
                  <a:pt x="18927" y="6511"/>
                  <a:pt x="18999" y="6502"/>
                  <a:pt x="19050" y="6499"/>
                </a:cubicBezTo>
                <a:cubicBezTo>
                  <a:pt x="19317" y="6483"/>
                  <a:pt x="19675" y="6514"/>
                  <a:pt x="19893" y="6524"/>
                </a:cubicBezTo>
                <a:cubicBezTo>
                  <a:pt x="20165" y="6537"/>
                  <a:pt x="20421" y="6506"/>
                  <a:pt x="20687" y="6474"/>
                </a:cubicBezTo>
                <a:cubicBezTo>
                  <a:pt x="20942" y="6443"/>
                  <a:pt x="21207" y="6478"/>
                  <a:pt x="21456" y="6424"/>
                </a:cubicBezTo>
                <a:cubicBezTo>
                  <a:pt x="21511" y="6412"/>
                  <a:pt x="21564" y="6379"/>
                  <a:pt x="21630" y="6375"/>
                </a:cubicBezTo>
                <a:cubicBezTo>
                  <a:pt x="21877" y="6361"/>
                  <a:pt x="22189" y="6331"/>
                  <a:pt x="22423" y="6424"/>
                </a:cubicBezTo>
                <a:cubicBezTo>
                  <a:pt x="22543" y="6472"/>
                  <a:pt x="22654" y="6539"/>
                  <a:pt x="22771" y="6598"/>
                </a:cubicBezTo>
                <a:cubicBezTo>
                  <a:pt x="22852" y="6638"/>
                  <a:pt x="22927" y="6656"/>
                  <a:pt x="23019" y="6697"/>
                </a:cubicBezTo>
                <a:cubicBezTo>
                  <a:pt x="23130" y="6747"/>
                  <a:pt x="23155" y="6741"/>
                  <a:pt x="23267" y="6747"/>
                </a:cubicBezTo>
                <a:cubicBezTo>
                  <a:pt x="23300" y="6749"/>
                  <a:pt x="23333" y="6744"/>
                  <a:pt x="23366" y="6747"/>
                </a:cubicBezTo>
                <a:cubicBezTo>
                  <a:pt x="23108" y="6796"/>
                  <a:pt x="22860" y="6796"/>
                  <a:pt x="22597" y="6796"/>
                </a:cubicBezTo>
                <a:cubicBezTo>
                  <a:pt x="22257" y="6796"/>
                  <a:pt x="21912" y="6789"/>
                  <a:pt x="21580" y="6772"/>
                </a:cubicBezTo>
                <a:cubicBezTo>
                  <a:pt x="21078" y="6747"/>
                  <a:pt x="20564" y="6773"/>
                  <a:pt x="20067" y="6796"/>
                </a:cubicBezTo>
                <a:cubicBezTo>
                  <a:pt x="19851" y="6806"/>
                  <a:pt x="19638" y="6808"/>
                  <a:pt x="19422" y="6821"/>
                </a:cubicBezTo>
                <a:cubicBezTo>
                  <a:pt x="19267" y="6830"/>
                  <a:pt x="19471" y="6795"/>
                  <a:pt x="19372" y="6821"/>
                </a:cubicBezTo>
                <a:cubicBezTo>
                  <a:pt x="19313" y="6837"/>
                  <a:pt x="19284" y="6837"/>
                  <a:pt x="19224" y="6846"/>
                </a:cubicBezTo>
                <a:cubicBezTo>
                  <a:pt x="19253" y="6821"/>
                  <a:pt x="19476" y="6566"/>
                  <a:pt x="19571" y="6623"/>
                </a:cubicBezTo>
                <a:cubicBezTo>
                  <a:pt x="19578" y="6627"/>
                  <a:pt x="19634" y="6870"/>
                  <a:pt x="19596" y="6921"/>
                </a:cubicBezTo>
                <a:cubicBezTo>
                  <a:pt x="19596" y="6970"/>
                  <a:pt x="19571" y="6978"/>
                  <a:pt x="19496" y="6945"/>
                </a:cubicBezTo>
                <a:cubicBezTo>
                  <a:pt x="19494" y="6932"/>
                  <a:pt x="19423" y="6963"/>
                  <a:pt x="19447" y="6896"/>
                </a:cubicBezTo>
                <a:cubicBezTo>
                  <a:pt x="19540" y="6637"/>
                  <a:pt x="19512" y="6786"/>
                  <a:pt x="19248" y="6896"/>
                </a:cubicBezTo>
                <a:cubicBezTo>
                  <a:pt x="19085" y="6964"/>
                  <a:pt x="19099" y="6959"/>
                  <a:pt x="19000" y="6921"/>
                </a:cubicBezTo>
                <a:cubicBezTo>
                  <a:pt x="18955" y="6904"/>
                  <a:pt x="19120" y="6838"/>
                  <a:pt x="19075" y="6821"/>
                </a:cubicBezTo>
                <a:cubicBezTo>
                  <a:pt x="19021" y="6800"/>
                  <a:pt x="18914" y="6862"/>
                  <a:pt x="18901" y="6796"/>
                </a:cubicBezTo>
                <a:cubicBezTo>
                  <a:pt x="18871" y="6648"/>
                  <a:pt x="18821" y="6487"/>
                  <a:pt x="19050" y="6375"/>
                </a:cubicBezTo>
                <a:cubicBezTo>
                  <a:pt x="19077" y="6362"/>
                  <a:pt x="19155" y="6319"/>
                  <a:pt x="19174" y="6375"/>
                </a:cubicBezTo>
                <a:cubicBezTo>
                  <a:pt x="19223" y="6517"/>
                  <a:pt x="19027" y="6879"/>
                  <a:pt x="18901" y="6871"/>
                </a:cubicBezTo>
                <a:cubicBezTo>
                  <a:pt x="18822" y="6866"/>
                  <a:pt x="18800" y="6950"/>
                  <a:pt x="18827" y="6772"/>
                </a:cubicBezTo>
                <a:cubicBezTo>
                  <a:pt x="18831" y="6748"/>
                  <a:pt x="18914" y="6593"/>
                  <a:pt x="18951" y="6697"/>
                </a:cubicBezTo>
                <a:cubicBezTo>
                  <a:pt x="18972" y="6755"/>
                  <a:pt x="18926" y="6955"/>
                  <a:pt x="18827" y="7020"/>
                </a:cubicBezTo>
                <a:cubicBezTo>
                  <a:pt x="18750" y="7071"/>
                  <a:pt x="18714" y="7027"/>
                  <a:pt x="18678" y="7020"/>
                </a:cubicBezTo>
                <a:cubicBezTo>
                  <a:pt x="18635" y="7012"/>
                  <a:pt x="18705" y="7004"/>
                  <a:pt x="18678" y="6970"/>
                </a:cubicBezTo>
                <a:cubicBezTo>
                  <a:pt x="18638" y="6920"/>
                  <a:pt x="18607" y="6870"/>
                  <a:pt x="18554" y="6871"/>
                </a:cubicBezTo>
                <a:cubicBezTo>
                  <a:pt x="18345" y="6877"/>
                  <a:pt x="18020" y="7052"/>
                  <a:pt x="17810" y="6921"/>
                </a:cubicBezTo>
                <a:cubicBezTo>
                  <a:pt x="17790" y="6908"/>
                  <a:pt x="17745" y="6826"/>
                  <a:pt x="17760" y="6796"/>
                </a:cubicBezTo>
                <a:cubicBezTo>
                  <a:pt x="17803" y="6710"/>
                  <a:pt x="17866" y="6766"/>
                  <a:pt x="17934" y="6747"/>
                </a:cubicBezTo>
                <a:cubicBezTo>
                  <a:pt x="17994" y="6731"/>
                  <a:pt x="18037" y="6712"/>
                  <a:pt x="18107" y="6697"/>
                </a:cubicBezTo>
                <a:cubicBezTo>
                  <a:pt x="18187" y="6680"/>
                  <a:pt x="18243" y="6693"/>
                  <a:pt x="18281" y="6697"/>
                </a:cubicBezTo>
                <a:cubicBezTo>
                  <a:pt x="18288" y="6698"/>
                  <a:pt x="18415" y="6720"/>
                  <a:pt x="18455" y="6722"/>
                </a:cubicBezTo>
                <a:cubicBezTo>
                  <a:pt x="18502" y="6724"/>
                  <a:pt x="18570" y="6745"/>
                  <a:pt x="18604" y="6747"/>
                </a:cubicBezTo>
                <a:cubicBezTo>
                  <a:pt x="18907" y="6764"/>
                  <a:pt x="19314" y="6732"/>
                  <a:pt x="19571" y="6772"/>
                </a:cubicBezTo>
                <a:cubicBezTo>
                  <a:pt x="19608" y="6778"/>
                  <a:pt x="19631" y="6787"/>
                  <a:pt x="19670" y="6796"/>
                </a:cubicBezTo>
                <a:cubicBezTo>
                  <a:pt x="19622" y="6829"/>
                  <a:pt x="19548" y="6918"/>
                  <a:pt x="19447" y="6945"/>
                </a:cubicBezTo>
                <a:cubicBezTo>
                  <a:pt x="19371" y="6965"/>
                  <a:pt x="18697" y="6780"/>
                  <a:pt x="18703" y="6747"/>
                </a:cubicBezTo>
                <a:cubicBezTo>
                  <a:pt x="18733" y="6576"/>
                  <a:pt x="18259" y="6866"/>
                  <a:pt x="18876" y="6573"/>
                </a:cubicBezTo>
                <a:cubicBezTo>
                  <a:pt x="19111" y="6461"/>
                  <a:pt x="19322" y="6384"/>
                  <a:pt x="19571" y="6375"/>
                </a:cubicBezTo>
                <a:cubicBezTo>
                  <a:pt x="19726" y="6369"/>
                  <a:pt x="19758" y="6380"/>
                  <a:pt x="19893" y="6449"/>
                </a:cubicBezTo>
                <a:cubicBezTo>
                  <a:pt x="20001" y="6505"/>
                  <a:pt x="20105" y="6606"/>
                  <a:pt x="20216" y="6648"/>
                </a:cubicBezTo>
                <a:cubicBezTo>
                  <a:pt x="20273" y="6670"/>
                  <a:pt x="20327" y="6664"/>
                  <a:pt x="20389" y="6697"/>
                </a:cubicBezTo>
                <a:cubicBezTo>
                  <a:pt x="20476" y="6744"/>
                  <a:pt x="20502" y="6749"/>
                  <a:pt x="20588" y="6772"/>
                </a:cubicBezTo>
                <a:cubicBezTo>
                  <a:pt x="20652" y="6789"/>
                  <a:pt x="20682" y="6794"/>
                  <a:pt x="20762" y="6796"/>
                </a:cubicBezTo>
                <a:cubicBezTo>
                  <a:pt x="20914" y="6799"/>
                  <a:pt x="20962" y="6776"/>
                  <a:pt x="21084" y="6747"/>
                </a:cubicBezTo>
                <a:cubicBezTo>
                  <a:pt x="21145" y="6732"/>
                  <a:pt x="21182" y="6713"/>
                  <a:pt x="21233" y="6697"/>
                </a:cubicBezTo>
                <a:cubicBezTo>
                  <a:pt x="21309" y="6674"/>
                  <a:pt x="21367" y="6675"/>
                  <a:pt x="21456" y="6672"/>
                </a:cubicBezTo>
                <a:cubicBezTo>
                  <a:pt x="21662" y="6664"/>
                  <a:pt x="22207" y="6685"/>
                  <a:pt x="22051" y="6821"/>
                </a:cubicBezTo>
                <a:cubicBezTo>
                  <a:pt x="21770" y="7067"/>
                  <a:pt x="20597" y="7046"/>
                  <a:pt x="20191" y="7069"/>
                </a:cubicBezTo>
                <a:cubicBezTo>
                  <a:pt x="20145" y="7072"/>
                  <a:pt x="19463" y="7149"/>
                  <a:pt x="19422" y="7094"/>
                </a:cubicBezTo>
                <a:cubicBezTo>
                  <a:pt x="19390" y="7051"/>
                  <a:pt x="19497" y="7043"/>
                  <a:pt x="19521" y="6995"/>
                </a:cubicBezTo>
                <a:cubicBezTo>
                  <a:pt x="19910" y="6910"/>
                  <a:pt x="20290" y="6921"/>
                  <a:pt x="20687" y="6921"/>
                </a:cubicBezTo>
                <a:cubicBezTo>
                  <a:pt x="20968" y="6921"/>
                  <a:pt x="21762" y="6829"/>
                  <a:pt x="21506" y="6945"/>
                </a:cubicBezTo>
                <a:cubicBezTo>
                  <a:pt x="21139" y="7111"/>
                  <a:pt x="20633" y="7066"/>
                  <a:pt x="20241" y="7069"/>
                </a:cubicBezTo>
                <a:cubicBezTo>
                  <a:pt x="20047" y="7070"/>
                  <a:pt x="19854" y="7058"/>
                  <a:pt x="19670" y="7045"/>
                </a:cubicBezTo>
                <a:cubicBezTo>
                  <a:pt x="19776" y="7028"/>
                  <a:pt x="19786" y="7006"/>
                  <a:pt x="19893" y="6995"/>
                </a:cubicBezTo>
                <a:cubicBezTo>
                  <a:pt x="20578" y="6926"/>
                  <a:pt x="21265" y="6894"/>
                  <a:pt x="21952" y="6871"/>
                </a:cubicBezTo>
                <a:cubicBezTo>
                  <a:pt x="22010" y="6871"/>
                  <a:pt x="22018" y="6871"/>
                  <a:pt x="22051" y="6871"/>
                </a:cubicBezTo>
                <a:cubicBezTo>
                  <a:pt x="21332" y="6871"/>
                  <a:pt x="19446" y="7389"/>
                  <a:pt x="19918" y="6846"/>
                </a:cubicBezTo>
                <a:cubicBezTo>
                  <a:pt x="20174" y="6552"/>
                  <a:pt x="21483" y="6722"/>
                  <a:pt x="21853" y="6722"/>
                </a:cubicBezTo>
                <a:cubicBezTo>
                  <a:pt x="21977" y="6722"/>
                  <a:pt x="22076" y="6741"/>
                  <a:pt x="22200" y="6747"/>
                </a:cubicBezTo>
                <a:cubicBezTo>
                  <a:pt x="21561" y="6747"/>
                  <a:pt x="20808" y="6797"/>
                  <a:pt x="20216" y="6722"/>
                </a:cubicBezTo>
                <a:cubicBezTo>
                  <a:pt x="20401" y="6722"/>
                  <a:pt x="21716" y="6632"/>
                  <a:pt x="21704" y="6598"/>
                </a:cubicBezTo>
                <a:cubicBezTo>
                  <a:pt x="21654" y="6450"/>
                  <a:pt x="20024" y="6606"/>
                  <a:pt x="19695" y="6648"/>
                </a:cubicBezTo>
                <a:cubicBezTo>
                  <a:pt x="19637" y="6648"/>
                  <a:pt x="19629" y="6648"/>
                  <a:pt x="19596" y="6648"/>
                </a:cubicBezTo>
                <a:cubicBezTo>
                  <a:pt x="20471" y="6648"/>
                  <a:pt x="21329" y="6646"/>
                  <a:pt x="22200" y="6722"/>
                </a:cubicBezTo>
                <a:cubicBezTo>
                  <a:pt x="22324" y="6740"/>
                  <a:pt x="22382" y="6698"/>
                  <a:pt x="22374" y="6772"/>
                </a:cubicBezTo>
                <a:cubicBezTo>
                  <a:pt x="22094" y="6861"/>
                  <a:pt x="21809" y="6965"/>
                  <a:pt x="21506" y="6995"/>
                </a:cubicBezTo>
                <a:cubicBezTo>
                  <a:pt x="21017" y="7043"/>
                  <a:pt x="20533" y="7094"/>
                  <a:pt x="20042" y="7094"/>
                </a:cubicBezTo>
                <a:cubicBezTo>
                  <a:pt x="19829" y="7094"/>
                  <a:pt x="19786" y="7088"/>
                  <a:pt x="20042" y="6970"/>
                </a:cubicBezTo>
                <a:cubicBezTo>
                  <a:pt x="20713" y="6662"/>
                  <a:pt x="21389" y="6488"/>
                  <a:pt x="22101" y="6350"/>
                </a:cubicBezTo>
                <a:cubicBezTo>
                  <a:pt x="21614" y="6370"/>
                  <a:pt x="21124" y="6409"/>
                  <a:pt x="20638" y="6424"/>
                </a:cubicBezTo>
                <a:cubicBezTo>
                  <a:pt x="20356" y="6433"/>
                  <a:pt x="20097" y="6416"/>
                  <a:pt x="19819" y="6449"/>
                </a:cubicBezTo>
                <a:cubicBezTo>
                  <a:pt x="19659" y="6468"/>
                  <a:pt x="19567" y="6458"/>
                  <a:pt x="19447" y="6524"/>
                </a:cubicBezTo>
                <a:cubicBezTo>
                  <a:pt x="19298" y="6606"/>
                  <a:pt x="19175" y="6674"/>
                  <a:pt x="19025" y="6747"/>
                </a:cubicBezTo>
                <a:cubicBezTo>
                  <a:pt x="18856" y="6794"/>
                  <a:pt x="18763" y="6846"/>
                  <a:pt x="18653" y="6796"/>
                </a:cubicBezTo>
                <a:cubicBezTo>
                  <a:pt x="18651" y="6795"/>
                  <a:pt x="18558" y="6732"/>
                  <a:pt x="18604" y="6722"/>
                </a:cubicBezTo>
                <a:cubicBezTo>
                  <a:pt x="18971" y="6641"/>
                  <a:pt x="19446" y="6728"/>
                  <a:pt x="19819" y="6747"/>
                </a:cubicBezTo>
                <a:cubicBezTo>
                  <a:pt x="19908" y="6752"/>
                  <a:pt x="20103" y="6773"/>
                  <a:pt x="20141" y="6772"/>
                </a:cubicBezTo>
                <a:cubicBezTo>
                  <a:pt x="20294" y="6768"/>
                  <a:pt x="19499" y="6974"/>
                  <a:pt x="20464" y="6747"/>
                </a:cubicBezTo>
                <a:cubicBezTo>
                  <a:pt x="21134" y="6589"/>
                  <a:pt x="21784" y="6483"/>
                  <a:pt x="22473" y="6474"/>
                </a:cubicBezTo>
                <a:cubicBezTo>
                  <a:pt x="22577" y="6473"/>
                  <a:pt x="22708" y="6452"/>
                  <a:pt x="22796" y="6499"/>
                </a:cubicBezTo>
                <a:cubicBezTo>
                  <a:pt x="22899" y="6554"/>
                  <a:pt x="23102" y="6653"/>
                  <a:pt x="23168" y="6747"/>
                </a:cubicBezTo>
                <a:cubicBezTo>
                  <a:pt x="23193" y="6782"/>
                  <a:pt x="23171" y="6877"/>
                  <a:pt x="23192" y="6896"/>
                </a:cubicBezTo>
                <a:cubicBezTo>
                  <a:pt x="23224" y="6926"/>
                  <a:pt x="23247" y="6891"/>
                  <a:pt x="23292" y="6921"/>
                </a:cubicBezTo>
                <a:cubicBezTo>
                  <a:pt x="23357" y="6910"/>
                  <a:pt x="23471" y="6954"/>
                  <a:pt x="23490" y="6871"/>
                </a:cubicBezTo>
                <a:cubicBezTo>
                  <a:pt x="23511" y="6776"/>
                  <a:pt x="23432" y="6770"/>
                  <a:pt x="23366" y="6722"/>
                </a:cubicBezTo>
                <a:cubicBezTo>
                  <a:pt x="23317" y="6686"/>
                  <a:pt x="23295" y="6681"/>
                  <a:pt x="23242" y="6672"/>
                </a:cubicBezTo>
                <a:cubicBezTo>
                  <a:pt x="23019" y="6635"/>
                  <a:pt x="22744" y="6673"/>
                  <a:pt x="22523" y="6697"/>
                </a:cubicBezTo>
                <a:cubicBezTo>
                  <a:pt x="22405" y="6710"/>
                  <a:pt x="22191" y="6717"/>
                  <a:pt x="22076" y="6747"/>
                </a:cubicBezTo>
                <a:cubicBezTo>
                  <a:pt x="21983" y="6772"/>
                  <a:pt x="21954" y="6782"/>
                  <a:pt x="21853" y="6796"/>
                </a:cubicBezTo>
                <a:cubicBezTo>
                  <a:pt x="21807" y="6802"/>
                  <a:pt x="21781" y="6774"/>
                  <a:pt x="21803" y="6796"/>
                </a:cubicBezTo>
                <a:cubicBezTo>
                  <a:pt x="21928" y="6921"/>
                  <a:pt x="23553" y="6818"/>
                  <a:pt x="23589" y="6821"/>
                </a:cubicBezTo>
                <a:cubicBezTo>
                  <a:pt x="23409" y="7022"/>
                  <a:pt x="23282" y="7185"/>
                  <a:pt x="23044" y="7317"/>
                </a:cubicBezTo>
                <a:cubicBezTo>
                  <a:pt x="22974" y="7356"/>
                  <a:pt x="22872" y="7406"/>
                  <a:pt x="22796" y="7417"/>
                </a:cubicBezTo>
                <a:cubicBezTo>
                  <a:pt x="22675" y="7434"/>
                  <a:pt x="22580" y="7402"/>
                  <a:pt x="22473" y="7342"/>
                </a:cubicBezTo>
                <a:cubicBezTo>
                  <a:pt x="22333" y="7264"/>
                  <a:pt x="22204" y="7139"/>
                  <a:pt x="22076" y="7045"/>
                </a:cubicBezTo>
                <a:cubicBezTo>
                  <a:pt x="22000" y="6989"/>
                  <a:pt x="21865" y="6941"/>
                  <a:pt x="21828" y="6846"/>
                </a:cubicBezTo>
                <a:cubicBezTo>
                  <a:pt x="21799" y="6772"/>
                  <a:pt x="21826" y="6565"/>
                  <a:pt x="21903" y="6548"/>
                </a:cubicBezTo>
                <a:cubicBezTo>
                  <a:pt x="22010" y="6524"/>
                  <a:pt x="22076" y="6578"/>
                  <a:pt x="22101" y="6672"/>
                </a:cubicBezTo>
                <a:cubicBezTo>
                  <a:pt x="22101" y="6739"/>
                  <a:pt x="22097" y="6773"/>
                  <a:pt x="22076" y="6821"/>
                </a:cubicBezTo>
                <a:cubicBezTo>
                  <a:pt x="21986" y="6968"/>
                  <a:pt x="21787" y="7362"/>
                  <a:pt x="21754" y="7193"/>
                </a:cubicBezTo>
                <a:cubicBezTo>
                  <a:pt x="21737" y="7105"/>
                  <a:pt x="21892" y="6950"/>
                  <a:pt x="21977" y="6970"/>
                </a:cubicBezTo>
                <a:cubicBezTo>
                  <a:pt x="22149" y="7011"/>
                  <a:pt x="21807" y="7091"/>
                  <a:pt x="22027" y="6945"/>
                </a:cubicBezTo>
                <a:cubicBezTo>
                  <a:pt x="22269" y="6784"/>
                  <a:pt x="22714" y="6353"/>
                  <a:pt x="22820" y="6623"/>
                </a:cubicBezTo>
                <a:cubicBezTo>
                  <a:pt x="22881" y="6780"/>
                  <a:pt x="22577" y="6924"/>
                  <a:pt x="22473" y="6921"/>
                </a:cubicBezTo>
                <a:cubicBezTo>
                  <a:pt x="22354" y="6918"/>
                  <a:pt x="22675" y="6661"/>
                  <a:pt x="22572" y="6722"/>
                </a:cubicBezTo>
                <a:cubicBezTo>
                  <a:pt x="22377" y="6838"/>
                  <a:pt x="22289" y="7040"/>
                  <a:pt x="22076" y="7119"/>
                </a:cubicBezTo>
                <a:cubicBezTo>
                  <a:pt x="22010" y="7119"/>
                  <a:pt x="21985" y="7127"/>
                  <a:pt x="22002" y="7069"/>
                </a:cubicBezTo>
                <a:cubicBezTo>
                  <a:pt x="22152" y="6927"/>
                  <a:pt x="22035" y="6969"/>
                  <a:pt x="22299" y="6846"/>
                </a:cubicBezTo>
                <a:cubicBezTo>
                  <a:pt x="22302" y="6845"/>
                  <a:pt x="22720" y="6728"/>
                  <a:pt x="22498" y="6846"/>
                </a:cubicBezTo>
                <a:cubicBezTo>
                  <a:pt x="22385" y="6906"/>
                  <a:pt x="22154" y="6982"/>
                  <a:pt x="22250" y="6896"/>
                </a:cubicBezTo>
                <a:cubicBezTo>
                  <a:pt x="22326" y="6828"/>
                  <a:pt x="22724" y="6489"/>
                  <a:pt x="22895" y="6499"/>
                </a:cubicBezTo>
                <a:cubicBezTo>
                  <a:pt x="23037" y="6507"/>
                  <a:pt x="22676" y="6730"/>
                  <a:pt x="22696" y="6871"/>
                </a:cubicBezTo>
                <a:cubicBezTo>
                  <a:pt x="22714" y="6996"/>
                  <a:pt x="23122" y="7014"/>
                  <a:pt x="23217" y="6995"/>
                </a:cubicBezTo>
                <a:cubicBezTo>
                  <a:pt x="23327" y="6973"/>
                  <a:pt x="23287" y="7033"/>
                  <a:pt x="23391" y="6921"/>
                </a:cubicBezTo>
                <a:cubicBezTo>
                  <a:pt x="23413" y="6832"/>
                  <a:pt x="23414" y="6807"/>
                  <a:pt x="23465" y="6772"/>
                </a:cubicBezTo>
                <a:cubicBezTo>
                  <a:pt x="23471" y="6724"/>
                  <a:pt x="23541" y="6668"/>
                  <a:pt x="23515" y="6623"/>
                </a:cubicBezTo>
                <a:cubicBezTo>
                  <a:pt x="23470" y="6544"/>
                  <a:pt x="23208" y="6508"/>
                  <a:pt x="23118" y="6499"/>
                </a:cubicBezTo>
                <a:cubicBezTo>
                  <a:pt x="22893" y="6477"/>
                  <a:pt x="22730" y="6555"/>
                  <a:pt x="22523" y="6623"/>
                </a:cubicBezTo>
                <a:cubicBezTo>
                  <a:pt x="22392" y="6666"/>
                  <a:pt x="22288" y="6670"/>
                  <a:pt x="22151" y="6672"/>
                </a:cubicBezTo>
                <a:cubicBezTo>
                  <a:pt x="22118" y="6672"/>
                  <a:pt x="21640" y="6699"/>
                  <a:pt x="21679" y="6623"/>
                </a:cubicBezTo>
                <a:cubicBezTo>
                  <a:pt x="21727" y="6529"/>
                  <a:pt x="21924" y="6417"/>
                  <a:pt x="22027" y="6400"/>
                </a:cubicBezTo>
                <a:cubicBezTo>
                  <a:pt x="22311" y="6354"/>
                  <a:pt x="22667" y="6431"/>
                  <a:pt x="22870" y="6648"/>
                </a:cubicBezTo>
                <a:cubicBezTo>
                  <a:pt x="22893" y="6673"/>
                  <a:pt x="22913" y="6674"/>
                  <a:pt x="22870" y="6722"/>
                </a:cubicBezTo>
                <a:cubicBezTo>
                  <a:pt x="22792" y="6808"/>
                  <a:pt x="22681" y="6768"/>
                  <a:pt x="22572" y="6772"/>
                </a:cubicBezTo>
                <a:cubicBezTo>
                  <a:pt x="22454" y="6777"/>
                  <a:pt x="22442" y="6763"/>
                  <a:pt x="22349" y="6722"/>
                </a:cubicBezTo>
                <a:cubicBezTo>
                  <a:pt x="22250" y="6679"/>
                  <a:pt x="22284" y="6682"/>
                  <a:pt x="22225" y="6623"/>
                </a:cubicBezTo>
                <a:cubicBezTo>
                  <a:pt x="22205" y="6603"/>
                  <a:pt x="22196" y="6581"/>
                  <a:pt x="22175" y="6548"/>
                </a:cubicBezTo>
                <a:cubicBezTo>
                  <a:pt x="22175" y="6540"/>
                  <a:pt x="22175" y="6532"/>
                  <a:pt x="22175" y="652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929200" y="1446120"/>
            <a:ext cx="2259000" cy="768600"/>
          </a:xfrm>
          <a:custGeom>
            <a:avLst/>
            <a:gdLst/>
            <a:ahLst/>
            <a:rect l="l" t="t" r="r" b="b"/>
            <a:pathLst>
              <a:path w="6277" h="2135">
                <a:moveTo>
                  <a:pt x="17711" y="5904"/>
                </a:moveTo>
                <a:cubicBezTo>
                  <a:pt x="18576" y="5792"/>
                  <a:pt x="19444" y="5829"/>
                  <a:pt x="20315" y="5829"/>
                </a:cubicBezTo>
                <a:cubicBezTo>
                  <a:pt x="20592" y="5829"/>
                  <a:pt x="21043" y="5753"/>
                  <a:pt x="21233" y="6003"/>
                </a:cubicBezTo>
                <a:cubicBezTo>
                  <a:pt x="21274" y="6057"/>
                  <a:pt x="21146" y="6114"/>
                  <a:pt x="21134" y="6127"/>
                </a:cubicBezTo>
                <a:cubicBezTo>
                  <a:pt x="20731" y="6551"/>
                  <a:pt x="18265" y="5690"/>
                  <a:pt x="17909" y="5606"/>
                </a:cubicBezTo>
                <a:cubicBezTo>
                  <a:pt x="17634" y="5541"/>
                  <a:pt x="17460" y="5465"/>
                  <a:pt x="17264" y="5308"/>
                </a:cubicBezTo>
                <a:cubicBezTo>
                  <a:pt x="17399" y="5211"/>
                  <a:pt x="17515" y="5097"/>
                  <a:pt x="17711" y="5035"/>
                </a:cubicBezTo>
                <a:cubicBezTo>
                  <a:pt x="17924" y="4967"/>
                  <a:pt x="18238" y="4795"/>
                  <a:pt x="18355" y="4986"/>
                </a:cubicBezTo>
                <a:cubicBezTo>
                  <a:pt x="18506" y="5233"/>
                  <a:pt x="18213" y="5538"/>
                  <a:pt x="18058" y="5655"/>
                </a:cubicBezTo>
                <a:cubicBezTo>
                  <a:pt x="17826" y="5830"/>
                  <a:pt x="17558" y="5873"/>
                  <a:pt x="17760" y="5829"/>
                </a:cubicBezTo>
                <a:cubicBezTo>
                  <a:pt x="18440" y="5679"/>
                  <a:pt x="20794" y="4778"/>
                  <a:pt x="21357" y="5209"/>
                </a:cubicBezTo>
                <a:cubicBezTo>
                  <a:pt x="21419" y="5256"/>
                  <a:pt x="19662" y="5747"/>
                  <a:pt x="19521" y="5779"/>
                </a:cubicBezTo>
                <a:cubicBezTo>
                  <a:pt x="19398" y="5807"/>
                  <a:pt x="19198" y="5868"/>
                  <a:pt x="19323" y="5854"/>
                </a:cubicBezTo>
                <a:cubicBezTo>
                  <a:pt x="19709" y="5811"/>
                  <a:pt x="20041" y="5690"/>
                  <a:pt x="20464" y="5655"/>
                </a:cubicBezTo>
                <a:cubicBezTo>
                  <a:pt x="21201" y="5595"/>
                  <a:pt x="19309" y="5909"/>
                  <a:pt x="18579" y="6028"/>
                </a:cubicBezTo>
                <a:cubicBezTo>
                  <a:pt x="18455" y="6035"/>
                  <a:pt x="17914" y="6167"/>
                  <a:pt x="18182" y="6028"/>
                </a:cubicBezTo>
                <a:cubicBezTo>
                  <a:pt x="18927" y="5643"/>
                  <a:pt x="19904" y="5444"/>
                  <a:pt x="20712" y="5407"/>
                </a:cubicBezTo>
                <a:cubicBezTo>
                  <a:pt x="20881" y="5399"/>
                  <a:pt x="20385" y="5450"/>
                  <a:pt x="20216" y="5457"/>
                </a:cubicBezTo>
                <a:cubicBezTo>
                  <a:pt x="20026" y="5459"/>
                  <a:pt x="18919" y="5477"/>
                  <a:pt x="18777" y="5482"/>
                </a:cubicBezTo>
                <a:cubicBezTo>
                  <a:pt x="18592" y="5489"/>
                  <a:pt x="19138" y="5418"/>
                  <a:pt x="19323" y="5407"/>
                </a:cubicBezTo>
                <a:cubicBezTo>
                  <a:pt x="19373" y="5404"/>
                  <a:pt x="19811" y="5329"/>
                  <a:pt x="19769" y="5482"/>
                </a:cubicBezTo>
                <a:cubicBezTo>
                  <a:pt x="19672" y="5835"/>
                  <a:pt x="17828" y="5816"/>
                  <a:pt x="17562" y="5854"/>
                </a:cubicBezTo>
                <a:cubicBezTo>
                  <a:pt x="17381" y="5880"/>
                  <a:pt x="17876" y="5822"/>
                  <a:pt x="18058" y="5804"/>
                </a:cubicBezTo>
                <a:cubicBezTo>
                  <a:pt x="18206" y="5789"/>
                  <a:pt x="18569" y="5685"/>
                  <a:pt x="18479" y="5804"/>
                </a:cubicBezTo>
                <a:cubicBezTo>
                  <a:pt x="18288" y="6057"/>
                  <a:pt x="16930" y="6017"/>
                  <a:pt x="16644" y="5928"/>
                </a:cubicBezTo>
                <a:cubicBezTo>
                  <a:pt x="16443" y="5865"/>
                  <a:pt x="16908" y="5718"/>
                  <a:pt x="17115" y="5680"/>
                </a:cubicBezTo>
                <a:cubicBezTo>
                  <a:pt x="17122" y="5679"/>
                  <a:pt x="18255" y="5579"/>
                  <a:pt x="18132" y="5655"/>
                </a:cubicBezTo>
                <a:cubicBezTo>
                  <a:pt x="18025" y="5722"/>
                  <a:pt x="17766" y="5785"/>
                  <a:pt x="17686" y="5705"/>
                </a:cubicBezTo>
                <a:cubicBezTo>
                  <a:pt x="17579" y="5598"/>
                  <a:pt x="17957" y="5626"/>
                  <a:pt x="18107" y="5606"/>
                </a:cubicBezTo>
                <a:cubicBezTo>
                  <a:pt x="18441" y="5561"/>
                  <a:pt x="18144" y="5637"/>
                  <a:pt x="18256" y="5655"/>
                </a:cubicBezTo>
                <a:cubicBezTo>
                  <a:pt x="18037" y="5690"/>
                  <a:pt x="17685" y="5832"/>
                  <a:pt x="17462" y="5755"/>
                </a:cubicBezTo>
                <a:cubicBezTo>
                  <a:pt x="17299" y="5699"/>
                  <a:pt x="17224" y="5326"/>
                  <a:pt x="17363" y="5283"/>
                </a:cubicBezTo>
                <a:cubicBezTo>
                  <a:pt x="17442" y="5259"/>
                  <a:pt x="17552" y="5442"/>
                  <a:pt x="17512" y="5482"/>
                </a:cubicBezTo>
                <a:cubicBezTo>
                  <a:pt x="17454" y="5540"/>
                  <a:pt x="17173" y="5523"/>
                  <a:pt x="17289" y="5358"/>
                </a:cubicBezTo>
                <a:cubicBezTo>
                  <a:pt x="17359" y="5259"/>
                  <a:pt x="17465" y="5430"/>
                  <a:pt x="17487" y="5507"/>
                </a:cubicBezTo>
                <a:cubicBezTo>
                  <a:pt x="17491" y="5520"/>
                  <a:pt x="17509" y="5885"/>
                  <a:pt x="17363" y="5755"/>
                </a:cubicBezTo>
                <a:cubicBezTo>
                  <a:pt x="17270" y="5673"/>
                  <a:pt x="17205" y="5486"/>
                  <a:pt x="17264" y="5283"/>
                </a:cubicBezTo>
                <a:cubicBezTo>
                  <a:pt x="17292" y="5186"/>
                  <a:pt x="17359" y="5228"/>
                  <a:pt x="17388" y="5283"/>
                </a:cubicBezTo>
                <a:cubicBezTo>
                  <a:pt x="17446" y="5394"/>
                  <a:pt x="17219" y="5569"/>
                  <a:pt x="17140" y="5556"/>
                </a:cubicBezTo>
                <a:cubicBezTo>
                  <a:pt x="17042" y="5540"/>
                  <a:pt x="17035" y="5352"/>
                  <a:pt x="17115" y="5283"/>
                </a:cubicBezTo>
                <a:cubicBezTo>
                  <a:pt x="17331" y="5097"/>
                  <a:pt x="17267" y="5507"/>
                  <a:pt x="17264" y="5556"/>
                </a:cubicBezTo>
                <a:cubicBezTo>
                  <a:pt x="17248" y="5787"/>
                  <a:pt x="17177" y="5783"/>
                  <a:pt x="16966" y="5779"/>
                </a:cubicBezTo>
                <a:cubicBezTo>
                  <a:pt x="16787" y="5776"/>
                  <a:pt x="16873" y="5678"/>
                  <a:pt x="16991" y="5655"/>
                </a:cubicBezTo>
                <a:cubicBezTo>
                  <a:pt x="17040" y="5646"/>
                  <a:pt x="17136" y="5687"/>
                  <a:pt x="17090" y="5705"/>
                </a:cubicBezTo>
                <a:cubicBezTo>
                  <a:pt x="17003" y="5738"/>
                  <a:pt x="16910" y="5694"/>
                  <a:pt x="16966" y="5581"/>
                </a:cubicBezTo>
                <a:cubicBezTo>
                  <a:pt x="16977" y="5559"/>
                  <a:pt x="17319" y="5188"/>
                  <a:pt x="17289" y="5432"/>
                </a:cubicBezTo>
                <a:cubicBezTo>
                  <a:pt x="17262" y="5653"/>
                  <a:pt x="17201" y="6182"/>
                  <a:pt x="17041" y="6028"/>
                </a:cubicBezTo>
                <a:cubicBezTo>
                  <a:pt x="16955" y="5945"/>
                  <a:pt x="16971" y="5784"/>
                  <a:pt x="16966" y="5655"/>
                </a:cubicBezTo>
                <a:cubicBezTo>
                  <a:pt x="17046" y="5655"/>
                  <a:pt x="17126" y="5598"/>
                  <a:pt x="17165" y="5655"/>
                </a:cubicBezTo>
                <a:cubicBezTo>
                  <a:pt x="17203" y="5710"/>
                  <a:pt x="17158" y="5868"/>
                  <a:pt x="17115" y="5904"/>
                </a:cubicBezTo>
                <a:cubicBezTo>
                  <a:pt x="16949" y="6042"/>
                  <a:pt x="16958" y="5662"/>
                  <a:pt x="16991" y="5606"/>
                </a:cubicBezTo>
                <a:cubicBezTo>
                  <a:pt x="17003" y="5585"/>
                  <a:pt x="17082" y="5513"/>
                  <a:pt x="17115" y="5556"/>
                </a:cubicBezTo>
                <a:cubicBezTo>
                  <a:pt x="17173" y="5632"/>
                  <a:pt x="17039" y="5733"/>
                  <a:pt x="16966" y="5705"/>
                </a:cubicBezTo>
                <a:cubicBezTo>
                  <a:pt x="16941" y="5672"/>
                  <a:pt x="16917" y="5639"/>
                  <a:pt x="16892" y="5606"/>
                </a:cubicBezTo>
                <a:cubicBezTo>
                  <a:pt x="16925" y="5484"/>
                  <a:pt x="16851" y="5229"/>
                  <a:pt x="17115" y="5308"/>
                </a:cubicBezTo>
                <a:cubicBezTo>
                  <a:pt x="17162" y="5322"/>
                  <a:pt x="17134" y="5377"/>
                  <a:pt x="17140" y="5432"/>
                </a:cubicBezTo>
                <a:cubicBezTo>
                  <a:pt x="17149" y="5520"/>
                  <a:pt x="16930" y="5669"/>
                  <a:pt x="16991" y="5606"/>
                </a:cubicBezTo>
                <a:cubicBezTo>
                  <a:pt x="17074" y="5520"/>
                  <a:pt x="17118" y="5448"/>
                  <a:pt x="17338" y="5531"/>
                </a:cubicBezTo>
                <a:cubicBezTo>
                  <a:pt x="17621" y="5638"/>
                  <a:pt x="17471" y="5747"/>
                  <a:pt x="17587" y="5829"/>
                </a:cubicBezTo>
                <a:cubicBezTo>
                  <a:pt x="17695" y="5905"/>
                  <a:pt x="17763" y="5777"/>
                  <a:pt x="17884" y="5829"/>
                </a:cubicBezTo>
                <a:cubicBezTo>
                  <a:pt x="18021" y="5888"/>
                  <a:pt x="17801" y="5918"/>
                  <a:pt x="17959" y="5879"/>
                </a:cubicBezTo>
                <a:cubicBezTo>
                  <a:pt x="17994" y="5870"/>
                  <a:pt x="18609" y="5622"/>
                  <a:pt x="18752" y="5705"/>
                </a:cubicBezTo>
                <a:cubicBezTo>
                  <a:pt x="18859" y="5767"/>
                  <a:pt x="18792" y="5936"/>
                  <a:pt x="18703" y="6052"/>
                </a:cubicBezTo>
                <a:cubicBezTo>
                  <a:pt x="18459" y="6369"/>
                  <a:pt x="19304" y="5767"/>
                  <a:pt x="19695" y="5680"/>
                </a:cubicBezTo>
                <a:cubicBezTo>
                  <a:pt x="20019" y="5608"/>
                  <a:pt x="20082" y="5613"/>
                  <a:pt x="19893" y="5755"/>
                </a:cubicBezTo>
                <a:cubicBezTo>
                  <a:pt x="19848" y="5789"/>
                  <a:pt x="19386" y="5919"/>
                  <a:pt x="19621" y="5879"/>
                </a:cubicBezTo>
                <a:cubicBezTo>
                  <a:pt x="20302" y="5763"/>
                  <a:pt x="22305" y="5437"/>
                  <a:pt x="21679" y="5730"/>
                </a:cubicBezTo>
                <a:cubicBezTo>
                  <a:pt x="21357" y="5881"/>
                  <a:pt x="20931" y="5782"/>
                  <a:pt x="20588" y="5829"/>
                </a:cubicBezTo>
                <a:cubicBezTo>
                  <a:pt x="20366" y="5860"/>
                  <a:pt x="21034" y="5806"/>
                  <a:pt x="21258" y="5804"/>
                </a:cubicBezTo>
                <a:cubicBezTo>
                  <a:pt x="21530" y="5802"/>
                  <a:pt x="21755" y="5804"/>
                  <a:pt x="22027" y="5804"/>
                </a:cubicBezTo>
                <a:cubicBezTo>
                  <a:pt x="22491" y="5804"/>
                  <a:pt x="21101" y="5867"/>
                  <a:pt x="20638" y="5904"/>
                </a:cubicBezTo>
                <a:cubicBezTo>
                  <a:pt x="21101" y="5819"/>
                  <a:pt x="21574" y="5730"/>
                  <a:pt x="22027" y="5606"/>
                </a:cubicBezTo>
                <a:cubicBezTo>
                  <a:pt x="22650" y="5436"/>
                  <a:pt x="22364" y="5471"/>
                  <a:pt x="22076" y="5457"/>
                </a:cubicBezTo>
                <a:cubicBezTo>
                  <a:pt x="21778" y="5442"/>
                  <a:pt x="21543" y="5552"/>
                  <a:pt x="21282" y="5407"/>
                </a:cubicBezTo>
                <a:cubicBezTo>
                  <a:pt x="21021" y="5262"/>
                  <a:pt x="21835" y="5479"/>
                  <a:pt x="22076" y="5655"/>
                </a:cubicBezTo>
                <a:cubicBezTo>
                  <a:pt x="22076" y="5663"/>
                  <a:pt x="22076" y="5672"/>
                  <a:pt x="22076" y="5680"/>
                </a:cubicBezTo>
                <a:cubicBezTo>
                  <a:pt x="21266" y="5839"/>
                  <a:pt x="20461" y="5897"/>
                  <a:pt x="19645" y="6003"/>
                </a:cubicBezTo>
                <a:cubicBezTo>
                  <a:pt x="19107" y="6073"/>
                  <a:pt x="20720" y="5872"/>
                  <a:pt x="21258" y="5804"/>
                </a:cubicBezTo>
                <a:cubicBezTo>
                  <a:pt x="21793" y="5737"/>
                  <a:pt x="21091" y="5779"/>
                  <a:pt x="21084" y="5779"/>
                </a:cubicBezTo>
                <a:cubicBezTo>
                  <a:pt x="20555" y="5804"/>
                  <a:pt x="19166" y="5839"/>
                  <a:pt x="19695" y="5854"/>
                </a:cubicBezTo>
                <a:cubicBezTo>
                  <a:pt x="20125" y="5866"/>
                  <a:pt x="21365" y="5854"/>
                  <a:pt x="20935" y="5854"/>
                </a:cubicBezTo>
                <a:cubicBezTo>
                  <a:pt x="20483" y="5854"/>
                  <a:pt x="19937" y="5862"/>
                  <a:pt x="19571" y="5879"/>
                </a:cubicBezTo>
                <a:cubicBezTo>
                  <a:pt x="19596" y="5879"/>
                  <a:pt x="19620" y="5879"/>
                  <a:pt x="19645" y="5879"/>
                </a:cubicBezTo>
                <a:cubicBezTo>
                  <a:pt x="20103" y="5809"/>
                  <a:pt x="20893" y="5865"/>
                  <a:pt x="21307" y="5631"/>
                </a:cubicBezTo>
                <a:cubicBezTo>
                  <a:pt x="21634" y="5446"/>
                  <a:pt x="20559" y="5608"/>
                  <a:pt x="20191" y="5531"/>
                </a:cubicBezTo>
                <a:cubicBezTo>
                  <a:pt x="19813" y="5452"/>
                  <a:pt x="20259" y="5508"/>
                  <a:pt x="20340" y="5507"/>
                </a:cubicBezTo>
                <a:cubicBezTo>
                  <a:pt x="20671" y="5504"/>
                  <a:pt x="21001" y="5507"/>
                  <a:pt x="21332" y="5507"/>
                </a:cubicBezTo>
                <a:cubicBezTo>
                  <a:pt x="20842" y="5544"/>
                  <a:pt x="19763" y="5189"/>
                  <a:pt x="19918" y="5655"/>
                </a:cubicBezTo>
                <a:cubicBezTo>
                  <a:pt x="20066" y="6101"/>
                  <a:pt x="20792" y="5774"/>
                  <a:pt x="21258" y="5829"/>
                </a:cubicBezTo>
                <a:cubicBezTo>
                  <a:pt x="21522" y="5860"/>
                  <a:pt x="22268" y="5894"/>
                  <a:pt x="22002" y="5904"/>
                </a:cubicBezTo>
                <a:cubicBezTo>
                  <a:pt x="21736" y="5914"/>
                  <a:pt x="20033" y="5968"/>
                  <a:pt x="20513" y="6003"/>
                </a:cubicBezTo>
                <a:cubicBezTo>
                  <a:pt x="21166" y="5966"/>
                  <a:pt x="22164" y="6030"/>
                  <a:pt x="22746" y="5680"/>
                </a:cubicBezTo>
                <a:cubicBezTo>
                  <a:pt x="22902" y="5586"/>
                  <a:pt x="22432" y="5680"/>
                  <a:pt x="22250" y="5680"/>
                </a:cubicBezTo>
                <a:cubicBezTo>
                  <a:pt x="21671" y="5680"/>
                  <a:pt x="21291" y="5680"/>
                  <a:pt x="20712" y="5680"/>
                </a:cubicBezTo>
                <a:cubicBezTo>
                  <a:pt x="20159" y="5680"/>
                  <a:pt x="21737" y="5225"/>
                  <a:pt x="22250" y="5432"/>
                </a:cubicBezTo>
                <a:cubicBezTo>
                  <a:pt x="22688" y="5609"/>
                  <a:pt x="21318" y="5585"/>
                  <a:pt x="20861" y="5705"/>
                </a:cubicBezTo>
                <a:cubicBezTo>
                  <a:pt x="20500" y="5799"/>
                  <a:pt x="22344" y="5592"/>
                  <a:pt x="21977" y="5655"/>
                </a:cubicBezTo>
                <a:cubicBezTo>
                  <a:pt x="21976" y="5655"/>
                  <a:pt x="21414" y="5701"/>
                  <a:pt x="21233" y="5730"/>
                </a:cubicBezTo>
                <a:cubicBezTo>
                  <a:pt x="21173" y="5739"/>
                  <a:pt x="21284" y="5729"/>
                  <a:pt x="21307" y="5730"/>
                </a:cubicBezTo>
                <a:cubicBezTo>
                  <a:pt x="21412" y="5733"/>
                  <a:pt x="21508" y="5718"/>
                  <a:pt x="21605" y="5755"/>
                </a:cubicBezTo>
                <a:cubicBezTo>
                  <a:pt x="21667" y="5779"/>
                  <a:pt x="21653" y="5819"/>
                  <a:pt x="21729" y="5829"/>
                </a:cubicBezTo>
                <a:cubicBezTo>
                  <a:pt x="21849" y="5844"/>
                  <a:pt x="21979" y="5829"/>
                  <a:pt x="22101" y="5829"/>
                </a:cubicBezTo>
                <a:cubicBezTo>
                  <a:pt x="21993" y="5829"/>
                  <a:pt x="21936" y="5829"/>
                  <a:pt x="21828" y="5829"/>
                </a:cubicBezTo>
                <a:cubicBezTo>
                  <a:pt x="21714" y="5829"/>
                  <a:pt x="21483" y="5829"/>
                  <a:pt x="21803" y="5829"/>
                </a:cubicBezTo>
                <a:cubicBezTo>
                  <a:pt x="22076" y="5829"/>
                  <a:pt x="22349" y="5829"/>
                  <a:pt x="22622" y="5829"/>
                </a:cubicBezTo>
                <a:cubicBezTo>
                  <a:pt x="22382" y="5803"/>
                  <a:pt x="22192" y="5779"/>
                  <a:pt x="21952" y="5755"/>
                </a:cubicBezTo>
                <a:cubicBezTo>
                  <a:pt x="21227" y="5683"/>
                  <a:pt x="21868" y="5730"/>
                  <a:pt x="22126" y="5730"/>
                </a:cubicBezTo>
                <a:cubicBezTo>
                  <a:pt x="22437" y="5730"/>
                  <a:pt x="21498" y="5730"/>
                  <a:pt x="21456" y="5730"/>
                </a:cubicBezTo>
                <a:cubicBezTo>
                  <a:pt x="21273" y="5730"/>
                  <a:pt x="21621" y="5696"/>
                  <a:pt x="21803" y="5680"/>
                </a:cubicBezTo>
                <a:cubicBezTo>
                  <a:pt x="21887" y="5673"/>
                  <a:pt x="22882" y="5708"/>
                  <a:pt x="22126" y="5655"/>
                </a:cubicBezTo>
                <a:cubicBezTo>
                  <a:pt x="21741" y="5628"/>
                  <a:pt x="20888" y="5622"/>
                  <a:pt x="20687" y="5581"/>
                </a:cubicBezTo>
                <a:cubicBezTo>
                  <a:pt x="20524" y="5548"/>
                  <a:pt x="21051" y="5587"/>
                  <a:pt x="21109" y="5432"/>
                </a:cubicBezTo>
                <a:cubicBezTo>
                  <a:pt x="21395" y="4664"/>
                  <a:pt x="18479" y="4910"/>
                  <a:pt x="18678" y="5705"/>
                </a:cubicBezTo>
                <a:cubicBezTo>
                  <a:pt x="18714" y="5851"/>
                  <a:pt x="19945" y="5375"/>
                  <a:pt x="19844" y="5581"/>
                </a:cubicBezTo>
                <a:cubicBezTo>
                  <a:pt x="19774" y="5724"/>
                  <a:pt x="19007" y="5715"/>
                  <a:pt x="18802" y="5755"/>
                </a:cubicBezTo>
                <a:cubicBezTo>
                  <a:pt x="18741" y="5767"/>
                  <a:pt x="18896" y="5755"/>
                  <a:pt x="18926" y="5755"/>
                </a:cubicBezTo>
                <a:cubicBezTo>
                  <a:pt x="19207" y="5755"/>
                  <a:pt x="20001" y="5755"/>
                  <a:pt x="19720" y="5755"/>
                </a:cubicBezTo>
                <a:cubicBezTo>
                  <a:pt x="19465" y="5755"/>
                  <a:pt x="19250" y="5772"/>
                  <a:pt x="19000" y="5804"/>
                </a:cubicBezTo>
                <a:cubicBezTo>
                  <a:pt x="18195" y="5804"/>
                  <a:pt x="19082" y="5715"/>
                  <a:pt x="19596" y="5606"/>
                </a:cubicBezTo>
                <a:cubicBezTo>
                  <a:pt x="19917" y="5538"/>
                  <a:pt x="20788" y="5485"/>
                  <a:pt x="20464" y="5432"/>
                </a:cubicBezTo>
                <a:cubicBezTo>
                  <a:pt x="20001" y="5357"/>
                  <a:pt x="19400" y="5409"/>
                  <a:pt x="18951" y="5507"/>
                </a:cubicBezTo>
                <a:cubicBezTo>
                  <a:pt x="18879" y="5523"/>
                  <a:pt x="18838" y="5561"/>
                  <a:pt x="18926" y="5581"/>
                </a:cubicBezTo>
                <a:cubicBezTo>
                  <a:pt x="19017" y="5601"/>
                  <a:pt x="19634" y="5534"/>
                  <a:pt x="19496" y="5507"/>
                </a:cubicBezTo>
                <a:cubicBezTo>
                  <a:pt x="18890" y="5389"/>
                  <a:pt x="18204" y="5512"/>
                  <a:pt x="17587" y="5531"/>
                </a:cubicBezTo>
                <a:cubicBezTo>
                  <a:pt x="17983" y="5531"/>
                  <a:pt x="18933" y="5192"/>
                  <a:pt x="18728" y="5531"/>
                </a:cubicBezTo>
                <a:cubicBezTo>
                  <a:pt x="18585" y="5768"/>
                  <a:pt x="18235" y="5635"/>
                  <a:pt x="17959" y="5655"/>
                </a:cubicBezTo>
                <a:cubicBezTo>
                  <a:pt x="17660" y="5677"/>
                  <a:pt x="18552" y="5589"/>
                  <a:pt x="18852" y="5581"/>
                </a:cubicBezTo>
                <a:cubicBezTo>
                  <a:pt x="18455" y="5664"/>
                  <a:pt x="18032" y="5764"/>
                  <a:pt x="17611" y="5779"/>
                </a:cubicBezTo>
                <a:cubicBezTo>
                  <a:pt x="17469" y="5784"/>
                  <a:pt x="17663" y="5735"/>
                  <a:pt x="17686" y="5730"/>
                </a:cubicBezTo>
                <a:cubicBezTo>
                  <a:pt x="17961" y="5673"/>
                  <a:pt x="18781" y="5602"/>
                  <a:pt x="18504" y="5556"/>
                </a:cubicBezTo>
                <a:cubicBezTo>
                  <a:pt x="17953" y="5465"/>
                  <a:pt x="17241" y="5626"/>
                  <a:pt x="16694" y="5655"/>
                </a:cubicBezTo>
                <a:cubicBezTo>
                  <a:pt x="16587" y="5661"/>
                  <a:pt x="16358" y="5655"/>
                  <a:pt x="16570" y="5655"/>
                </a:cubicBezTo>
                <a:cubicBezTo>
                  <a:pt x="16916" y="5655"/>
                  <a:pt x="17611" y="5500"/>
                  <a:pt x="17735" y="5507"/>
                </a:cubicBezTo>
                <a:cubicBezTo>
                  <a:pt x="18062" y="5526"/>
                  <a:pt x="18028" y="5581"/>
                  <a:pt x="18355" y="5581"/>
                </a:cubicBezTo>
                <a:cubicBezTo>
                  <a:pt x="18555" y="5581"/>
                  <a:pt x="18331" y="5637"/>
                  <a:pt x="18132" y="5655"/>
                </a:cubicBezTo>
                <a:cubicBezTo>
                  <a:pt x="17495" y="5712"/>
                  <a:pt x="17525" y="5770"/>
                  <a:pt x="17810" y="5680"/>
                </a:cubicBezTo>
                <a:cubicBezTo>
                  <a:pt x="17904" y="5650"/>
                  <a:pt x="18022" y="5600"/>
                  <a:pt x="18107" y="5556"/>
                </a:cubicBezTo>
                <a:cubicBezTo>
                  <a:pt x="18132" y="5556"/>
                  <a:pt x="18140" y="5556"/>
                  <a:pt x="18132" y="5531"/>
                </a:cubicBezTo>
              </a:path>
              <a:path w="6277" h="2135">
                <a:moveTo>
                  <a:pt x="17735" y="4018"/>
                </a:moveTo>
                <a:lnTo>
                  <a:pt x="17735" y="4018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 Name the Mus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ximal 2/3 of lateral supracondyle ridg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surface of distal end of radi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s muscle does (#13) in a (#14) pos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l nerve (C5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3227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5) Name the Mus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third of superior nuchal line; base of the occitpital 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third of clavicle, acromion, and spine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me 2 functions 16 &amp;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al root of accessory nerve (CN XI) (motor) and cervical nerves (C3 and C4) (pain and propriocep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1200" y="304920"/>
            <a:ext cx="3052800" cy="6553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358120" y="4964040"/>
            <a:ext cx="777960" cy="393840"/>
          </a:xfrm>
          <a:custGeom>
            <a:avLst/>
            <a:gdLst/>
            <a:ahLst/>
            <a:rect l="l" t="t" r="r" b="b"/>
            <a:pathLst>
              <a:path w="2159" h="1093">
                <a:moveTo>
                  <a:pt x="24110" y="14610"/>
                </a:moveTo>
                <a:cubicBezTo>
                  <a:pt x="24104" y="14567"/>
                  <a:pt x="24106" y="14561"/>
                  <a:pt x="24085" y="14536"/>
                </a:cubicBezTo>
                <a:cubicBezTo>
                  <a:pt x="24038" y="14482"/>
                  <a:pt x="23996" y="14423"/>
                  <a:pt x="23961" y="14362"/>
                </a:cubicBezTo>
                <a:cubicBezTo>
                  <a:pt x="23945" y="14334"/>
                  <a:pt x="23871" y="14236"/>
                  <a:pt x="23887" y="14188"/>
                </a:cubicBezTo>
                <a:cubicBezTo>
                  <a:pt x="23913" y="14113"/>
                  <a:pt x="24072" y="14092"/>
                  <a:pt x="24135" y="14114"/>
                </a:cubicBezTo>
                <a:cubicBezTo>
                  <a:pt x="24313" y="14178"/>
                  <a:pt x="24087" y="14485"/>
                  <a:pt x="24036" y="14560"/>
                </a:cubicBezTo>
                <a:cubicBezTo>
                  <a:pt x="23986" y="14633"/>
                  <a:pt x="23786" y="14947"/>
                  <a:pt x="23639" y="14808"/>
                </a:cubicBezTo>
                <a:cubicBezTo>
                  <a:pt x="23482" y="14660"/>
                  <a:pt x="23812" y="14292"/>
                  <a:pt x="23837" y="14263"/>
                </a:cubicBezTo>
                <a:cubicBezTo>
                  <a:pt x="24076" y="13991"/>
                  <a:pt x="24264" y="13891"/>
                  <a:pt x="24606" y="13891"/>
                </a:cubicBezTo>
                <a:cubicBezTo>
                  <a:pt x="24606" y="14077"/>
                  <a:pt x="24615" y="14100"/>
                  <a:pt x="24433" y="14288"/>
                </a:cubicBezTo>
                <a:cubicBezTo>
                  <a:pt x="24367" y="14337"/>
                  <a:pt x="24300" y="14387"/>
                  <a:pt x="24234" y="14436"/>
                </a:cubicBezTo>
                <a:cubicBezTo>
                  <a:pt x="24148" y="14457"/>
                  <a:pt x="23955" y="14536"/>
                  <a:pt x="23862" y="14461"/>
                </a:cubicBezTo>
                <a:cubicBezTo>
                  <a:pt x="23768" y="14385"/>
                  <a:pt x="24061" y="14103"/>
                  <a:pt x="24085" y="14089"/>
                </a:cubicBezTo>
                <a:cubicBezTo>
                  <a:pt x="24234" y="14003"/>
                  <a:pt x="24633" y="13876"/>
                  <a:pt x="24532" y="14015"/>
                </a:cubicBezTo>
                <a:cubicBezTo>
                  <a:pt x="24302" y="14331"/>
                  <a:pt x="23909" y="14801"/>
                  <a:pt x="23465" y="14734"/>
                </a:cubicBezTo>
                <a:cubicBezTo>
                  <a:pt x="23384" y="14693"/>
                  <a:pt x="23351" y="14697"/>
                  <a:pt x="23366" y="14635"/>
                </a:cubicBezTo>
                <a:cubicBezTo>
                  <a:pt x="23410" y="14370"/>
                  <a:pt x="23592" y="14179"/>
                  <a:pt x="23837" y="14064"/>
                </a:cubicBezTo>
                <a:cubicBezTo>
                  <a:pt x="24012" y="13981"/>
                  <a:pt x="24022" y="14177"/>
                  <a:pt x="24036" y="14288"/>
                </a:cubicBezTo>
                <a:cubicBezTo>
                  <a:pt x="24058" y="14457"/>
                  <a:pt x="23956" y="14648"/>
                  <a:pt x="23812" y="14734"/>
                </a:cubicBezTo>
                <a:cubicBezTo>
                  <a:pt x="23554" y="14889"/>
                  <a:pt x="23454" y="14710"/>
                  <a:pt x="23540" y="14486"/>
                </a:cubicBezTo>
                <a:cubicBezTo>
                  <a:pt x="23574" y="14396"/>
                  <a:pt x="23652" y="14199"/>
                  <a:pt x="23788" y="14263"/>
                </a:cubicBezTo>
                <a:cubicBezTo>
                  <a:pt x="23852" y="14293"/>
                  <a:pt x="23851" y="14388"/>
                  <a:pt x="23837" y="14461"/>
                </a:cubicBezTo>
                <a:cubicBezTo>
                  <a:pt x="23805" y="14631"/>
                  <a:pt x="23405" y="14650"/>
                  <a:pt x="23292" y="14610"/>
                </a:cubicBezTo>
                <a:cubicBezTo>
                  <a:pt x="23239" y="14591"/>
                  <a:pt x="23229" y="14480"/>
                  <a:pt x="23217" y="14436"/>
                </a:cubicBezTo>
                <a:cubicBezTo>
                  <a:pt x="23302" y="14381"/>
                  <a:pt x="23900" y="13856"/>
                  <a:pt x="24036" y="14039"/>
                </a:cubicBezTo>
                <a:cubicBezTo>
                  <a:pt x="24122" y="14154"/>
                  <a:pt x="23639" y="14379"/>
                  <a:pt x="23664" y="14238"/>
                </a:cubicBezTo>
                <a:cubicBezTo>
                  <a:pt x="23685" y="14120"/>
                  <a:pt x="23959" y="13888"/>
                  <a:pt x="24085" y="13990"/>
                </a:cubicBezTo>
                <a:cubicBezTo>
                  <a:pt x="24269" y="14139"/>
                  <a:pt x="23805" y="14344"/>
                  <a:pt x="23713" y="14387"/>
                </a:cubicBezTo>
                <a:cubicBezTo>
                  <a:pt x="23601" y="14439"/>
                  <a:pt x="23569" y="14418"/>
                  <a:pt x="23564" y="14312"/>
                </a:cubicBezTo>
                <a:cubicBezTo>
                  <a:pt x="23557" y="14149"/>
                  <a:pt x="23719" y="14070"/>
                  <a:pt x="23862" y="14039"/>
                </a:cubicBezTo>
                <a:cubicBezTo>
                  <a:pt x="24095" y="13989"/>
                  <a:pt x="24030" y="14021"/>
                  <a:pt x="23961" y="14163"/>
                </a:cubicBezTo>
                <a:cubicBezTo>
                  <a:pt x="23835" y="14424"/>
                  <a:pt x="23664" y="14431"/>
                  <a:pt x="23416" y="14412"/>
                </a:cubicBezTo>
                <a:cubicBezTo>
                  <a:pt x="23342" y="14239"/>
                  <a:pt x="23338" y="14208"/>
                  <a:pt x="23490" y="14015"/>
                </a:cubicBezTo>
                <a:cubicBezTo>
                  <a:pt x="23529" y="13966"/>
                  <a:pt x="23625" y="13924"/>
                  <a:pt x="23688" y="13940"/>
                </a:cubicBezTo>
                <a:cubicBezTo>
                  <a:pt x="23791" y="13966"/>
                  <a:pt x="23636" y="14140"/>
                  <a:pt x="23614" y="14163"/>
                </a:cubicBezTo>
                <a:cubicBezTo>
                  <a:pt x="23516" y="14265"/>
                  <a:pt x="23408" y="14191"/>
                  <a:pt x="23713" y="14039"/>
                </a:cubicBezTo>
                <a:cubicBezTo>
                  <a:pt x="23909" y="13941"/>
                  <a:pt x="24256" y="13679"/>
                  <a:pt x="24309" y="13891"/>
                </a:cubicBezTo>
                <a:cubicBezTo>
                  <a:pt x="24362" y="14101"/>
                  <a:pt x="24030" y="14634"/>
                  <a:pt x="24209" y="14511"/>
                </a:cubicBezTo>
                <a:cubicBezTo>
                  <a:pt x="24478" y="14325"/>
                  <a:pt x="25014" y="14034"/>
                  <a:pt x="25375" y="14436"/>
                </a:cubicBezTo>
                <a:cubicBezTo>
                  <a:pt x="25458" y="14528"/>
                  <a:pt x="25089" y="14936"/>
                  <a:pt x="24954" y="14883"/>
                </a:cubicBezTo>
                <a:cubicBezTo>
                  <a:pt x="24907" y="14864"/>
                  <a:pt x="24912" y="14682"/>
                  <a:pt x="24954" y="14635"/>
                </a:cubicBezTo>
                <a:cubicBezTo>
                  <a:pt x="24977" y="14609"/>
                  <a:pt x="25185" y="14505"/>
                  <a:pt x="25152" y="14461"/>
                </a:cubicBezTo>
                <a:cubicBezTo>
                  <a:pt x="24916" y="14142"/>
                  <a:pt x="24374" y="14317"/>
                  <a:pt x="23986" y="14238"/>
                </a:cubicBezTo>
                <a:cubicBezTo>
                  <a:pt x="23810" y="14070"/>
                  <a:pt x="23679" y="14025"/>
                  <a:pt x="24036" y="13990"/>
                </a:cubicBezTo>
                <a:cubicBezTo>
                  <a:pt x="24344" y="13960"/>
                  <a:pt x="24380" y="13948"/>
                  <a:pt x="24482" y="14163"/>
                </a:cubicBezTo>
                <a:cubicBezTo>
                  <a:pt x="24460" y="14389"/>
                  <a:pt x="24040" y="14725"/>
                  <a:pt x="24259" y="14784"/>
                </a:cubicBezTo>
                <a:cubicBezTo>
                  <a:pt x="24370" y="14814"/>
                  <a:pt x="24829" y="14646"/>
                  <a:pt x="25078" y="14660"/>
                </a:cubicBezTo>
                <a:cubicBezTo>
                  <a:pt x="25120" y="14660"/>
                  <a:pt x="25111" y="14666"/>
                  <a:pt x="25028" y="14684"/>
                </a:cubicBezTo>
                <a:cubicBezTo>
                  <a:pt x="24947" y="14658"/>
                  <a:pt x="24974" y="14620"/>
                  <a:pt x="25003" y="14536"/>
                </a:cubicBezTo>
                <a:cubicBezTo>
                  <a:pt x="25074" y="14332"/>
                  <a:pt x="24932" y="14311"/>
                  <a:pt x="24730" y="14288"/>
                </a:cubicBezTo>
                <a:cubicBezTo>
                  <a:pt x="24650" y="14279"/>
                  <a:pt x="24175" y="14424"/>
                  <a:pt x="24284" y="14312"/>
                </a:cubicBezTo>
                <a:cubicBezTo>
                  <a:pt x="24507" y="14084"/>
                  <a:pt x="24805" y="13928"/>
                  <a:pt x="25078" y="13791"/>
                </a:cubicBezTo>
                <a:cubicBezTo>
                  <a:pt x="25270" y="13695"/>
                  <a:pt x="24357" y="13989"/>
                  <a:pt x="24532" y="14114"/>
                </a:cubicBezTo>
                <a:cubicBezTo>
                  <a:pt x="24594" y="14158"/>
                  <a:pt x="25031" y="14114"/>
                  <a:pt x="25202" y="14114"/>
                </a:cubicBezTo>
                <a:cubicBezTo>
                  <a:pt x="25238" y="14114"/>
                  <a:pt x="25327" y="14096"/>
                  <a:pt x="25276" y="14089"/>
                </a:cubicBezTo>
                <a:cubicBezTo>
                  <a:pt x="24999" y="14050"/>
                  <a:pt x="24746" y="14150"/>
                  <a:pt x="24482" y="14188"/>
                </a:cubicBezTo>
                <a:cubicBezTo>
                  <a:pt x="24279" y="14217"/>
                  <a:pt x="23883" y="14274"/>
                  <a:pt x="23664" y="14213"/>
                </a:cubicBezTo>
                <a:cubicBezTo>
                  <a:pt x="23512" y="14170"/>
                  <a:pt x="23755" y="14135"/>
                  <a:pt x="23912" y="14114"/>
                </a:cubicBezTo>
                <a:cubicBezTo>
                  <a:pt x="24197" y="14076"/>
                  <a:pt x="24473" y="14057"/>
                  <a:pt x="24755" y="14015"/>
                </a:cubicBezTo>
                <a:cubicBezTo>
                  <a:pt x="25016" y="14015"/>
                  <a:pt x="24345" y="14094"/>
                  <a:pt x="24085" y="14114"/>
                </a:cubicBezTo>
                <a:cubicBezTo>
                  <a:pt x="23888" y="14129"/>
                  <a:pt x="23464" y="14125"/>
                  <a:pt x="23292" y="14039"/>
                </a:cubicBezTo>
                <a:cubicBezTo>
                  <a:pt x="23300" y="14039"/>
                  <a:pt x="23308" y="14039"/>
                  <a:pt x="23316" y="14039"/>
                </a:cubicBezTo>
                <a:cubicBezTo>
                  <a:pt x="23600" y="13992"/>
                  <a:pt x="23899" y="13858"/>
                  <a:pt x="24185" y="13841"/>
                </a:cubicBezTo>
                <a:cubicBezTo>
                  <a:pt x="24304" y="13834"/>
                  <a:pt x="23984" y="14039"/>
                  <a:pt x="23986" y="14039"/>
                </a:cubicBezTo>
                <a:cubicBezTo>
                  <a:pt x="24146" y="14030"/>
                  <a:pt x="24586" y="13875"/>
                  <a:pt x="24829" y="13841"/>
                </a:cubicBezTo>
                <a:cubicBezTo>
                  <a:pt x="24977" y="13820"/>
                  <a:pt x="24968" y="13942"/>
                  <a:pt x="24904" y="14089"/>
                </a:cubicBezTo>
                <a:cubicBezTo>
                  <a:pt x="24775" y="14385"/>
                  <a:pt x="24588" y="14413"/>
                  <a:pt x="24780" y="14288"/>
                </a:cubicBezTo>
                <a:cubicBezTo>
                  <a:pt x="24786" y="14284"/>
                  <a:pt x="25298" y="14101"/>
                  <a:pt x="25276" y="14139"/>
                </a:cubicBezTo>
                <a:cubicBezTo>
                  <a:pt x="25276" y="14231"/>
                  <a:pt x="25224" y="14284"/>
                  <a:pt x="25102" y="14312"/>
                </a:cubicBezTo>
                <a:cubicBezTo>
                  <a:pt x="24953" y="14566"/>
                  <a:pt x="25177" y="14135"/>
                  <a:pt x="25226" y="14039"/>
                </a:cubicBezTo>
                <a:cubicBezTo>
                  <a:pt x="25247" y="13999"/>
                  <a:pt x="25333" y="13900"/>
                  <a:pt x="25251" y="13866"/>
                </a:cubicBezTo>
                <a:cubicBezTo>
                  <a:pt x="25063" y="13788"/>
                  <a:pt x="24756" y="13994"/>
                  <a:pt x="24656" y="14139"/>
                </a:cubicBezTo>
                <a:cubicBezTo>
                  <a:pt x="24532" y="14319"/>
                  <a:pt x="24792" y="14169"/>
                  <a:pt x="24854" y="14139"/>
                </a:cubicBezTo>
                <a:cubicBezTo>
                  <a:pt x="24996" y="14071"/>
                  <a:pt x="24843" y="14209"/>
                  <a:pt x="24854" y="14213"/>
                </a:cubicBezTo>
                <a:cubicBezTo>
                  <a:pt x="24867" y="14217"/>
                  <a:pt x="25010" y="14141"/>
                  <a:pt x="24879" y="14163"/>
                </a:cubicBezTo>
                <a:cubicBezTo>
                  <a:pt x="24792" y="14178"/>
                  <a:pt x="24726" y="14238"/>
                  <a:pt x="24681" y="14263"/>
                </a:cubicBezTo>
                <a:cubicBezTo>
                  <a:pt x="24624" y="14295"/>
                  <a:pt x="24634" y="14292"/>
                  <a:pt x="24631" y="14362"/>
                </a:cubicBezTo>
                <a:cubicBezTo>
                  <a:pt x="24626" y="14467"/>
                  <a:pt x="24668" y="14647"/>
                  <a:pt x="24606" y="14734"/>
                </a:cubicBezTo>
                <a:cubicBezTo>
                  <a:pt x="24582" y="14767"/>
                  <a:pt x="24557" y="14768"/>
                  <a:pt x="24532" y="14784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87960" y="1125360"/>
            <a:ext cx="1973160" cy="581040"/>
          </a:xfrm>
          <a:custGeom>
            <a:avLst/>
            <a:gdLst/>
            <a:ahLst/>
            <a:rect l="l" t="t" r="r" b="b"/>
            <a:pathLst>
              <a:path w="5482" h="1614">
                <a:moveTo>
                  <a:pt x="14436" y="4490"/>
                </a:moveTo>
                <a:cubicBezTo>
                  <a:pt x="14428" y="4490"/>
                  <a:pt x="14420" y="4490"/>
                  <a:pt x="14412" y="4490"/>
                </a:cubicBezTo>
                <a:cubicBezTo>
                  <a:pt x="14509" y="4421"/>
                  <a:pt x="14292" y="4443"/>
                  <a:pt x="14585" y="4341"/>
                </a:cubicBezTo>
                <a:cubicBezTo>
                  <a:pt x="14709" y="4298"/>
                  <a:pt x="14903" y="4285"/>
                  <a:pt x="15032" y="4266"/>
                </a:cubicBezTo>
                <a:cubicBezTo>
                  <a:pt x="15216" y="4238"/>
                  <a:pt x="15374" y="4193"/>
                  <a:pt x="15553" y="4142"/>
                </a:cubicBezTo>
                <a:cubicBezTo>
                  <a:pt x="15681" y="4105"/>
                  <a:pt x="15816" y="4073"/>
                  <a:pt x="15949" y="4043"/>
                </a:cubicBezTo>
                <a:cubicBezTo>
                  <a:pt x="16278" y="3969"/>
                  <a:pt x="16586" y="3977"/>
                  <a:pt x="16917" y="3944"/>
                </a:cubicBezTo>
                <a:cubicBezTo>
                  <a:pt x="17348" y="3901"/>
                  <a:pt x="17751" y="3845"/>
                  <a:pt x="18182" y="3845"/>
                </a:cubicBezTo>
                <a:cubicBezTo>
                  <a:pt x="18346" y="3845"/>
                  <a:pt x="18531" y="3843"/>
                  <a:pt x="18678" y="3820"/>
                </a:cubicBezTo>
                <a:cubicBezTo>
                  <a:pt x="18756" y="3808"/>
                  <a:pt x="18827" y="3785"/>
                  <a:pt x="18901" y="3770"/>
                </a:cubicBezTo>
                <a:cubicBezTo>
                  <a:pt x="18996" y="3751"/>
                  <a:pt x="19091" y="3737"/>
                  <a:pt x="19174" y="3721"/>
                </a:cubicBezTo>
                <a:cubicBezTo>
                  <a:pt x="19323" y="3692"/>
                  <a:pt x="19467" y="3696"/>
                  <a:pt x="19621" y="3696"/>
                </a:cubicBezTo>
                <a:cubicBezTo>
                  <a:pt x="19712" y="3696"/>
                  <a:pt x="19802" y="3696"/>
                  <a:pt x="19893" y="3696"/>
                </a:cubicBezTo>
                <a:cubicBezTo>
                  <a:pt x="19765" y="3646"/>
                  <a:pt x="19704" y="3627"/>
                  <a:pt x="19596" y="3547"/>
                </a:cubicBezTo>
                <a:cubicBezTo>
                  <a:pt x="19518" y="3490"/>
                  <a:pt x="19410" y="3405"/>
                  <a:pt x="19348" y="3349"/>
                </a:cubicBezTo>
                <a:cubicBezTo>
                  <a:pt x="19294" y="3300"/>
                  <a:pt x="19252" y="3230"/>
                  <a:pt x="19199" y="3175"/>
                </a:cubicBezTo>
                <a:cubicBezTo>
                  <a:pt x="19199" y="3150"/>
                  <a:pt x="19199" y="3142"/>
                  <a:pt x="19174" y="3150"/>
                </a:cubicBezTo>
                <a:cubicBezTo>
                  <a:pt x="19196" y="3149"/>
                  <a:pt x="19299" y="3129"/>
                  <a:pt x="19372" y="3150"/>
                </a:cubicBezTo>
                <a:cubicBezTo>
                  <a:pt x="19424" y="3165"/>
                  <a:pt x="19450" y="3183"/>
                  <a:pt x="19472" y="3200"/>
                </a:cubicBezTo>
                <a:cubicBezTo>
                  <a:pt x="19496" y="3219"/>
                  <a:pt x="19515" y="3268"/>
                  <a:pt x="19521" y="3299"/>
                </a:cubicBezTo>
                <a:cubicBezTo>
                  <a:pt x="19534" y="3361"/>
                  <a:pt x="19505" y="3398"/>
                  <a:pt x="19546" y="3448"/>
                </a:cubicBezTo>
                <a:cubicBezTo>
                  <a:pt x="19593" y="3505"/>
                  <a:pt x="19718" y="3506"/>
                  <a:pt x="19769" y="3547"/>
                </a:cubicBezTo>
                <a:cubicBezTo>
                  <a:pt x="19781" y="3556"/>
                  <a:pt x="19807" y="3585"/>
                  <a:pt x="19819" y="3597"/>
                </a:cubicBezTo>
                <a:cubicBezTo>
                  <a:pt x="19826" y="3604"/>
                  <a:pt x="19866" y="3641"/>
                  <a:pt x="19869" y="3646"/>
                </a:cubicBezTo>
                <a:cubicBezTo>
                  <a:pt x="19889" y="3679"/>
                  <a:pt x="19899" y="3727"/>
                  <a:pt x="19893" y="3770"/>
                </a:cubicBezTo>
                <a:cubicBezTo>
                  <a:pt x="19884" y="3832"/>
                  <a:pt x="19828" y="3916"/>
                  <a:pt x="19794" y="3969"/>
                </a:cubicBezTo>
                <a:cubicBezTo>
                  <a:pt x="19752" y="4035"/>
                  <a:pt x="19712" y="4096"/>
                  <a:pt x="19670" y="4167"/>
                </a:cubicBezTo>
                <a:cubicBezTo>
                  <a:pt x="19624" y="4245"/>
                  <a:pt x="19575" y="4335"/>
                  <a:pt x="19521" y="4415"/>
                </a:cubicBezTo>
                <a:cubicBezTo>
                  <a:pt x="19514" y="4425"/>
                  <a:pt x="19416" y="4600"/>
                  <a:pt x="19397" y="4614"/>
                </a:cubicBezTo>
                <a:cubicBezTo>
                  <a:pt x="19370" y="4633"/>
                  <a:pt x="19319" y="4614"/>
                  <a:pt x="19298" y="4638"/>
                </a:cubicBezTo>
                <a:cubicBezTo>
                  <a:pt x="19260" y="4680"/>
                  <a:pt x="19260" y="4718"/>
                  <a:pt x="19224" y="4738"/>
                </a:cubicBezTo>
                <a:cubicBezTo>
                  <a:pt x="19199" y="4738"/>
                  <a:pt x="19191" y="4738"/>
                  <a:pt x="19174" y="47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858080" y="544680"/>
            <a:ext cx="901800" cy="295200"/>
          </a:xfrm>
          <a:custGeom>
            <a:avLst/>
            <a:gdLst/>
            <a:ahLst/>
            <a:rect l="l" t="t" r="r" b="b"/>
            <a:pathLst>
              <a:path w="2506" h="820">
                <a:moveTo>
                  <a:pt x="22820" y="2208"/>
                </a:moveTo>
                <a:cubicBezTo>
                  <a:pt x="22802" y="2175"/>
                  <a:pt x="22786" y="2157"/>
                  <a:pt x="22771" y="2133"/>
                </a:cubicBezTo>
                <a:cubicBezTo>
                  <a:pt x="22724" y="2055"/>
                  <a:pt x="22532" y="2044"/>
                  <a:pt x="22423" y="1984"/>
                </a:cubicBezTo>
                <a:cubicBezTo>
                  <a:pt x="22264" y="1897"/>
                  <a:pt x="22047" y="1814"/>
                  <a:pt x="21903" y="1712"/>
                </a:cubicBezTo>
                <a:cubicBezTo>
                  <a:pt x="21840" y="1667"/>
                  <a:pt x="21851" y="1626"/>
                  <a:pt x="21828" y="1563"/>
                </a:cubicBezTo>
                <a:cubicBezTo>
                  <a:pt x="22085" y="1503"/>
                  <a:pt x="22330" y="1513"/>
                  <a:pt x="22597" y="1513"/>
                </a:cubicBezTo>
                <a:cubicBezTo>
                  <a:pt x="22808" y="1513"/>
                  <a:pt x="22961" y="1651"/>
                  <a:pt x="23143" y="1736"/>
                </a:cubicBezTo>
                <a:cubicBezTo>
                  <a:pt x="23190" y="1758"/>
                  <a:pt x="23318" y="1783"/>
                  <a:pt x="23316" y="1836"/>
                </a:cubicBezTo>
                <a:cubicBezTo>
                  <a:pt x="23301" y="2217"/>
                  <a:pt x="22198" y="2278"/>
                  <a:pt x="21952" y="2307"/>
                </a:cubicBezTo>
                <a:cubicBezTo>
                  <a:pt x="21944" y="2307"/>
                  <a:pt x="21935" y="2307"/>
                  <a:pt x="21927" y="2307"/>
                </a:cubicBezTo>
                <a:cubicBezTo>
                  <a:pt x="22405" y="2068"/>
                  <a:pt x="22742" y="1995"/>
                  <a:pt x="23267" y="1960"/>
                </a:cubicBezTo>
                <a:cubicBezTo>
                  <a:pt x="23366" y="1960"/>
                  <a:pt x="23614" y="1960"/>
                  <a:pt x="23515" y="1960"/>
                </a:cubicBezTo>
                <a:cubicBezTo>
                  <a:pt x="23217" y="1960"/>
                  <a:pt x="22921" y="1984"/>
                  <a:pt x="22622" y="1984"/>
                </a:cubicBezTo>
                <a:cubicBezTo>
                  <a:pt x="22223" y="1984"/>
                  <a:pt x="23366" y="1899"/>
                  <a:pt x="23763" y="1860"/>
                </a:cubicBezTo>
                <a:cubicBezTo>
                  <a:pt x="23821" y="1860"/>
                  <a:pt x="23829" y="1860"/>
                  <a:pt x="23862" y="1860"/>
                </a:cubicBezTo>
                <a:cubicBezTo>
                  <a:pt x="23471" y="1860"/>
                  <a:pt x="22319" y="1705"/>
                  <a:pt x="22696" y="1811"/>
                </a:cubicBezTo>
                <a:cubicBezTo>
                  <a:pt x="23047" y="1909"/>
                  <a:pt x="23411" y="2053"/>
                  <a:pt x="23763" y="2133"/>
                </a:cubicBezTo>
                <a:cubicBezTo>
                  <a:pt x="23820" y="2146"/>
                  <a:pt x="23965" y="2135"/>
                  <a:pt x="23912" y="2158"/>
                </a:cubicBezTo>
                <a:cubicBezTo>
                  <a:pt x="23469" y="2347"/>
                  <a:pt x="22672" y="2284"/>
                  <a:pt x="22200" y="2307"/>
                </a:cubicBezTo>
                <a:cubicBezTo>
                  <a:pt x="22126" y="2307"/>
                  <a:pt x="22051" y="2307"/>
                  <a:pt x="21977" y="2307"/>
                </a:cubicBezTo>
                <a:cubicBezTo>
                  <a:pt x="21854" y="2135"/>
                  <a:pt x="21983" y="2233"/>
                  <a:pt x="22349" y="2257"/>
                </a:cubicBezTo>
                <a:cubicBezTo>
                  <a:pt x="22506" y="2267"/>
                  <a:pt x="22854" y="2404"/>
                  <a:pt x="22796" y="2257"/>
                </a:cubicBezTo>
                <a:cubicBezTo>
                  <a:pt x="22727" y="2083"/>
                  <a:pt x="22366" y="2136"/>
                  <a:pt x="22225" y="2059"/>
                </a:cubicBezTo>
                <a:cubicBezTo>
                  <a:pt x="21809" y="1832"/>
                  <a:pt x="23068" y="1827"/>
                  <a:pt x="23540" y="1786"/>
                </a:cubicBezTo>
                <a:cubicBezTo>
                  <a:pt x="23788" y="1786"/>
                  <a:pt x="24036" y="1786"/>
                  <a:pt x="24284" y="1786"/>
                </a:cubicBezTo>
                <a:cubicBezTo>
                  <a:pt x="24003" y="1807"/>
                  <a:pt x="23822" y="1830"/>
                  <a:pt x="23540" y="1836"/>
                </a:cubicBezTo>
                <a:cubicBezTo>
                  <a:pt x="23407" y="1839"/>
                  <a:pt x="23068" y="1833"/>
                  <a:pt x="23192" y="1786"/>
                </a:cubicBezTo>
                <a:cubicBezTo>
                  <a:pt x="23296" y="1747"/>
                  <a:pt x="23653" y="1857"/>
                  <a:pt x="23515" y="2009"/>
                </a:cubicBezTo>
                <a:cubicBezTo>
                  <a:pt x="23321" y="2223"/>
                  <a:pt x="23129" y="2194"/>
                  <a:pt x="22870" y="2208"/>
                </a:cubicBezTo>
                <a:cubicBezTo>
                  <a:pt x="22794" y="2203"/>
                  <a:pt x="22640" y="2185"/>
                  <a:pt x="22696" y="2133"/>
                </a:cubicBezTo>
                <a:cubicBezTo>
                  <a:pt x="22837" y="2001"/>
                  <a:pt x="23153" y="1985"/>
                  <a:pt x="23341" y="1960"/>
                </a:cubicBezTo>
                <a:cubicBezTo>
                  <a:pt x="23533" y="1934"/>
                  <a:pt x="23209" y="1960"/>
                  <a:pt x="23192" y="1960"/>
                </a:cubicBezTo>
                <a:cubicBezTo>
                  <a:pt x="23151" y="1960"/>
                  <a:pt x="23109" y="1960"/>
                  <a:pt x="23068" y="1960"/>
                </a:cubicBezTo>
                <a:cubicBezTo>
                  <a:pt x="22845" y="2001"/>
                  <a:pt x="22545" y="2020"/>
                  <a:pt x="22349" y="2158"/>
                </a:cubicBezTo>
                <a:cubicBezTo>
                  <a:pt x="22345" y="2160"/>
                  <a:pt x="22119" y="2402"/>
                  <a:pt x="22027" y="2332"/>
                </a:cubicBezTo>
                <a:cubicBezTo>
                  <a:pt x="22018" y="2326"/>
                  <a:pt x="22007" y="2123"/>
                  <a:pt x="22002" y="2108"/>
                </a:cubicBezTo>
                <a:cubicBezTo>
                  <a:pt x="21991" y="2078"/>
                  <a:pt x="21969" y="2020"/>
                  <a:pt x="21977" y="1984"/>
                </a:cubicBezTo>
                <a:cubicBezTo>
                  <a:pt x="21995" y="1898"/>
                  <a:pt x="22156" y="1919"/>
                  <a:pt x="22225" y="1935"/>
                </a:cubicBezTo>
                <a:cubicBezTo>
                  <a:pt x="22284" y="1948"/>
                  <a:pt x="22245" y="1980"/>
                  <a:pt x="22200" y="1984"/>
                </a:cubicBezTo>
                <a:cubicBezTo>
                  <a:pt x="22149" y="1989"/>
                  <a:pt x="22106" y="1993"/>
                  <a:pt x="22101" y="1935"/>
                </a:cubicBezTo>
                <a:cubicBezTo>
                  <a:pt x="22096" y="1884"/>
                  <a:pt x="22143" y="1922"/>
                  <a:pt x="22175" y="1910"/>
                </a:cubicBezTo>
                <a:cubicBezTo>
                  <a:pt x="22295" y="1865"/>
                  <a:pt x="22160" y="1906"/>
                  <a:pt x="22399" y="1836"/>
                </a:cubicBezTo>
                <a:cubicBezTo>
                  <a:pt x="22650" y="1763"/>
                  <a:pt x="23157" y="1550"/>
                  <a:pt x="23465" y="1662"/>
                </a:cubicBezTo>
                <a:cubicBezTo>
                  <a:pt x="23513" y="1679"/>
                  <a:pt x="23486" y="1749"/>
                  <a:pt x="23490" y="17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these 5 muscles in any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 18,19,20,21,22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ir primary function? #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addbrevis: "/>
          <p:cNvPicPr/>
          <p:nvPr/>
        </p:nvPicPr>
        <p:blipFill>
          <a:blip r:embed="rId1"/>
          <a:stretch/>
        </p:blipFill>
        <p:spPr>
          <a:xfrm>
            <a:off x="7315200" y="0"/>
            <a:ext cx="150804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956720" y="1589040"/>
            <a:ext cx="285480" cy="135000"/>
          </a:xfrm>
          <a:custGeom>
            <a:avLst/>
            <a:gdLst/>
            <a:ahLst/>
            <a:rect l="l" t="t" r="r" b="b"/>
            <a:pathLst>
              <a:path w="795" h="373">
                <a:moveTo>
                  <a:pt x="22374" y="4762"/>
                </a:moveTo>
                <a:cubicBezTo>
                  <a:pt x="22548" y="4762"/>
                  <a:pt x="22721" y="4762"/>
                  <a:pt x="22895" y="4762"/>
                </a:cubicBezTo>
                <a:cubicBezTo>
                  <a:pt x="22881" y="4805"/>
                  <a:pt x="22743" y="4803"/>
                  <a:pt x="22696" y="4787"/>
                </a:cubicBezTo>
                <a:cubicBezTo>
                  <a:pt x="22607" y="4758"/>
                  <a:pt x="22572" y="4738"/>
                  <a:pt x="22473" y="4738"/>
                </a:cubicBezTo>
                <a:cubicBezTo>
                  <a:pt x="22438" y="4738"/>
                  <a:pt x="22393" y="4692"/>
                  <a:pt x="22324" y="4688"/>
                </a:cubicBezTo>
                <a:cubicBezTo>
                  <a:pt x="22272" y="4685"/>
                  <a:pt x="22223" y="4687"/>
                  <a:pt x="22175" y="4713"/>
                </a:cubicBezTo>
                <a:cubicBezTo>
                  <a:pt x="22136" y="4734"/>
                  <a:pt x="22147" y="4738"/>
                  <a:pt x="22101" y="4738"/>
                </a:cubicBezTo>
                <a:cubicBezTo>
                  <a:pt x="22345" y="4625"/>
                  <a:pt x="22609" y="4517"/>
                  <a:pt x="22845" y="4415"/>
                </a:cubicBezTo>
                <a:cubicBezTo>
                  <a:pt x="22873" y="4415"/>
                  <a:pt x="22879" y="4417"/>
                  <a:pt x="22845" y="4440"/>
                </a:cubicBezTo>
                <a:cubicBezTo>
                  <a:pt x="22778" y="4517"/>
                  <a:pt x="22692" y="4641"/>
                  <a:pt x="22597" y="4688"/>
                </a:cubicBezTo>
                <a:cubicBezTo>
                  <a:pt x="22546" y="4714"/>
                  <a:pt x="22430" y="4694"/>
                  <a:pt x="22374" y="4713"/>
                </a:cubicBezTo>
                <a:cubicBezTo>
                  <a:pt x="22323" y="4730"/>
                  <a:pt x="22324" y="4738"/>
                  <a:pt x="22275" y="4738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018640" y="2741760"/>
            <a:ext cx="403200" cy="911160"/>
          </a:xfrm>
          <a:custGeom>
            <a:avLst/>
            <a:gdLst/>
            <a:ahLst/>
            <a:rect l="l" t="t" r="r" b="b"/>
            <a:pathLst>
              <a:path w="1117" h="2531">
                <a:moveTo>
                  <a:pt x="22448" y="7615"/>
                </a:moveTo>
                <a:cubicBezTo>
                  <a:pt x="22420" y="7770"/>
                  <a:pt x="22380" y="7930"/>
                  <a:pt x="22374" y="8086"/>
                </a:cubicBezTo>
                <a:cubicBezTo>
                  <a:pt x="22374" y="8144"/>
                  <a:pt x="22374" y="8153"/>
                  <a:pt x="22374" y="8186"/>
                </a:cubicBezTo>
              </a:path>
              <a:path w="1117" h="2531">
                <a:moveTo>
                  <a:pt x="22374" y="9351"/>
                </a:moveTo>
                <a:cubicBezTo>
                  <a:pt x="22428" y="9329"/>
                  <a:pt x="22399" y="9330"/>
                  <a:pt x="22498" y="9327"/>
                </a:cubicBezTo>
                <a:cubicBezTo>
                  <a:pt x="22761" y="9319"/>
                  <a:pt x="23012" y="9350"/>
                  <a:pt x="23267" y="9277"/>
                </a:cubicBezTo>
                <a:cubicBezTo>
                  <a:pt x="23363" y="9250"/>
                  <a:pt x="23318" y="9243"/>
                  <a:pt x="23391" y="9227"/>
                </a:cubicBezTo>
                <a:cubicBezTo>
                  <a:pt x="23137" y="9345"/>
                  <a:pt x="22901" y="9437"/>
                  <a:pt x="22622" y="9475"/>
                </a:cubicBezTo>
                <a:cubicBezTo>
                  <a:pt x="22556" y="9484"/>
                  <a:pt x="22517" y="9484"/>
                  <a:pt x="22498" y="9426"/>
                </a:cubicBezTo>
                <a:cubicBezTo>
                  <a:pt x="22498" y="9393"/>
                  <a:pt x="22498" y="9376"/>
                  <a:pt x="22498" y="9351"/>
                </a:cubicBezTo>
                <a:cubicBezTo>
                  <a:pt x="22532" y="9331"/>
                  <a:pt x="22567" y="9296"/>
                  <a:pt x="22622" y="9376"/>
                </a:cubicBezTo>
                <a:cubicBezTo>
                  <a:pt x="22687" y="9470"/>
                  <a:pt x="22702" y="9629"/>
                  <a:pt x="22647" y="9723"/>
                </a:cubicBezTo>
                <a:cubicBezTo>
                  <a:pt x="22604" y="9797"/>
                  <a:pt x="22584" y="9733"/>
                  <a:pt x="22572" y="9699"/>
                </a:cubicBezTo>
                <a:cubicBezTo>
                  <a:pt x="22572" y="9642"/>
                  <a:pt x="22548" y="9566"/>
                  <a:pt x="22597" y="9550"/>
                </a:cubicBezTo>
                <a:cubicBezTo>
                  <a:pt x="22597" y="9558"/>
                  <a:pt x="22597" y="9567"/>
                  <a:pt x="22597" y="9575"/>
                </a:cubicBezTo>
                <a:cubicBezTo>
                  <a:pt x="22597" y="9651"/>
                  <a:pt x="22599" y="9704"/>
                  <a:pt x="22523" y="9748"/>
                </a:cubicBezTo>
                <a:cubicBezTo>
                  <a:pt x="22441" y="9795"/>
                  <a:pt x="22459" y="9541"/>
                  <a:pt x="22473" y="9500"/>
                </a:cubicBezTo>
                <a:cubicBezTo>
                  <a:pt x="22488" y="9455"/>
                  <a:pt x="22489" y="9483"/>
                  <a:pt x="22547" y="9475"/>
                </a:cubicBezTo>
                <a:cubicBezTo>
                  <a:pt x="22626" y="9499"/>
                  <a:pt x="22664" y="9465"/>
                  <a:pt x="22647" y="9575"/>
                </a:cubicBezTo>
                <a:cubicBezTo>
                  <a:pt x="22634" y="9663"/>
                  <a:pt x="22523" y="9936"/>
                  <a:pt x="22374" y="9847"/>
                </a:cubicBezTo>
                <a:cubicBezTo>
                  <a:pt x="22151" y="9714"/>
                  <a:pt x="22480" y="8931"/>
                  <a:pt x="22547" y="8731"/>
                </a:cubicBezTo>
                <a:cubicBezTo>
                  <a:pt x="22567" y="8691"/>
                  <a:pt x="22566" y="8675"/>
                  <a:pt x="22597" y="8682"/>
                </a:cubicBezTo>
                <a:cubicBezTo>
                  <a:pt x="22597" y="8801"/>
                  <a:pt x="22596" y="8884"/>
                  <a:pt x="22547" y="9004"/>
                </a:cubicBezTo>
                <a:cubicBezTo>
                  <a:pt x="22527" y="9052"/>
                  <a:pt x="22491" y="9081"/>
                  <a:pt x="22473" y="9103"/>
                </a:cubicBezTo>
                <a:cubicBezTo>
                  <a:pt x="22618" y="9103"/>
                  <a:pt x="22717" y="9145"/>
                  <a:pt x="22771" y="9302"/>
                </a:cubicBezTo>
                <a:cubicBezTo>
                  <a:pt x="22861" y="9565"/>
                  <a:pt x="22776" y="9878"/>
                  <a:pt x="22671" y="10120"/>
                </a:cubicBezTo>
                <a:cubicBezTo>
                  <a:pt x="22671" y="10145"/>
                  <a:pt x="22671" y="10153"/>
                  <a:pt x="22647" y="10145"/>
                </a:cubicBezTo>
                <a:cubicBezTo>
                  <a:pt x="22628" y="9998"/>
                  <a:pt x="22572" y="9770"/>
                  <a:pt x="22622" y="9624"/>
                </a:cubicBezTo>
                <a:cubicBezTo>
                  <a:pt x="22656" y="9524"/>
                  <a:pt x="22841" y="9440"/>
                  <a:pt x="22547" y="9649"/>
                </a:cubicBezTo>
                <a:cubicBezTo>
                  <a:pt x="22498" y="9684"/>
                  <a:pt x="22323" y="9819"/>
                  <a:pt x="22275" y="9723"/>
                </a:cubicBezTo>
                <a:cubicBezTo>
                  <a:pt x="22275" y="9690"/>
                  <a:pt x="22275" y="9674"/>
                  <a:pt x="22275" y="9649"/>
                </a:cubicBezTo>
                <a:cubicBezTo>
                  <a:pt x="22312" y="9633"/>
                  <a:pt x="22499" y="9524"/>
                  <a:pt x="22547" y="9575"/>
                </a:cubicBezTo>
                <a:cubicBezTo>
                  <a:pt x="22616" y="9649"/>
                  <a:pt x="22386" y="10061"/>
                  <a:pt x="22622" y="9475"/>
                </a:cubicBezTo>
                <a:cubicBezTo>
                  <a:pt x="22742" y="9177"/>
                  <a:pt x="22731" y="9170"/>
                  <a:pt x="22870" y="9054"/>
                </a:cubicBezTo>
                <a:cubicBezTo>
                  <a:pt x="22870" y="9113"/>
                  <a:pt x="22878" y="9152"/>
                  <a:pt x="22845" y="9178"/>
                </a:cubicBezTo>
                <a:cubicBezTo>
                  <a:pt x="22814" y="9202"/>
                  <a:pt x="22759" y="9189"/>
                  <a:pt x="22746" y="9227"/>
                </a:cubicBezTo>
                <a:cubicBezTo>
                  <a:pt x="22723" y="9295"/>
                  <a:pt x="22754" y="9397"/>
                  <a:pt x="22771" y="9451"/>
                </a:cubicBezTo>
                <a:cubicBezTo>
                  <a:pt x="22786" y="9500"/>
                  <a:pt x="22812" y="9524"/>
                  <a:pt x="22820" y="9575"/>
                </a:cubicBezTo>
                <a:cubicBezTo>
                  <a:pt x="22828" y="9627"/>
                  <a:pt x="22822" y="9645"/>
                  <a:pt x="22845" y="9674"/>
                </a:cubicBezTo>
                <a:cubicBezTo>
                  <a:pt x="22864" y="9698"/>
                  <a:pt x="22884" y="9685"/>
                  <a:pt x="22895" y="9723"/>
                </a:cubicBezTo>
                <a:cubicBezTo>
                  <a:pt x="22904" y="9755"/>
                  <a:pt x="22913" y="9765"/>
                  <a:pt x="22920" y="9798"/>
                </a:cubicBezTo>
                <a:cubicBezTo>
                  <a:pt x="22933" y="9861"/>
                  <a:pt x="22912" y="9828"/>
                  <a:pt x="22969" y="984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402760" y="4919760"/>
            <a:ext cx="492120" cy="250560"/>
          </a:xfrm>
          <a:custGeom>
            <a:avLst/>
            <a:gdLst/>
            <a:ahLst/>
            <a:rect l="l" t="t" r="r" b="b"/>
            <a:pathLst>
              <a:path w="1365" h="696">
                <a:moveTo>
                  <a:pt x="24061" y="14362"/>
                </a:moveTo>
                <a:cubicBezTo>
                  <a:pt x="23883" y="14362"/>
                  <a:pt x="23526" y="14436"/>
                  <a:pt x="23391" y="14337"/>
                </a:cubicBezTo>
                <a:cubicBezTo>
                  <a:pt x="23371" y="14322"/>
                  <a:pt x="23361" y="14328"/>
                  <a:pt x="23341" y="14312"/>
                </a:cubicBezTo>
                <a:cubicBezTo>
                  <a:pt x="23360" y="14246"/>
                  <a:pt x="23374" y="14227"/>
                  <a:pt x="23465" y="14213"/>
                </a:cubicBezTo>
                <a:cubicBezTo>
                  <a:pt x="23653" y="14184"/>
                  <a:pt x="23868" y="14213"/>
                  <a:pt x="24061" y="14213"/>
                </a:cubicBezTo>
                <a:cubicBezTo>
                  <a:pt x="24032" y="14225"/>
                  <a:pt x="23953" y="14256"/>
                  <a:pt x="23887" y="14263"/>
                </a:cubicBezTo>
                <a:cubicBezTo>
                  <a:pt x="23855" y="14267"/>
                  <a:pt x="23820" y="14263"/>
                  <a:pt x="23788" y="14263"/>
                </a:cubicBezTo>
                <a:cubicBezTo>
                  <a:pt x="24002" y="14057"/>
                  <a:pt x="24258" y="13894"/>
                  <a:pt x="24532" y="13742"/>
                </a:cubicBezTo>
                <a:cubicBezTo>
                  <a:pt x="24638" y="13688"/>
                  <a:pt x="24641" y="13663"/>
                  <a:pt x="24705" y="13667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43600" y="0"/>
            <a:ext cx="15112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419720" y="0"/>
            <a:ext cx="151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5:37:29Z</dcterms:created>
  <dc:creator>Virginia Beach City Public Schools</dc:creator>
  <dc:description/>
  <dc:language>en-US</dc:language>
  <cp:lastModifiedBy>ashansel</cp:lastModifiedBy>
  <dcterms:modified xsi:type="dcterms:W3CDTF">2007-10-26T16:16:26Z</dcterms:modified>
  <cp:revision>26</cp:revision>
  <dc:subject/>
  <dc:title>Muscles</dc:title>
</cp:coreProperties>
</file>